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907588" cy="6858000"/>
  <p:notesSz cx="66421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39680" y="333360"/>
            <a:ext cx="7723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8720" y="1785960"/>
            <a:ext cx="791388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8720" y="4037400"/>
            <a:ext cx="791388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39680" y="333360"/>
            <a:ext cx="7723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8720" y="1785960"/>
            <a:ext cx="386172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3760" y="1785960"/>
            <a:ext cx="386172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8720" y="4037400"/>
            <a:ext cx="386172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73760" y="4037400"/>
            <a:ext cx="386172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39680" y="333360"/>
            <a:ext cx="7723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8720" y="1785960"/>
            <a:ext cx="254808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4600" y="1785960"/>
            <a:ext cx="254808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70480" y="1785960"/>
            <a:ext cx="254808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8720" y="4037400"/>
            <a:ext cx="254808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4600" y="4037400"/>
            <a:ext cx="254808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70480" y="4037400"/>
            <a:ext cx="254808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39680" y="333360"/>
            <a:ext cx="7723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8720" y="1785960"/>
            <a:ext cx="791388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39680" y="333360"/>
            <a:ext cx="7723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8720" y="1785960"/>
            <a:ext cx="7913880" cy="430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39680" y="333360"/>
            <a:ext cx="7723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8720" y="1785960"/>
            <a:ext cx="3861720" cy="430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73760" y="1785960"/>
            <a:ext cx="3861720" cy="430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39680" y="333360"/>
            <a:ext cx="7723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039680" y="333360"/>
            <a:ext cx="7723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39680" y="333360"/>
            <a:ext cx="7723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8720" y="1785960"/>
            <a:ext cx="386172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760" y="1785960"/>
            <a:ext cx="3861720" cy="430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18720" y="4037400"/>
            <a:ext cx="386172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39680" y="333360"/>
            <a:ext cx="7723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8720" y="1785960"/>
            <a:ext cx="791388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39680" y="333360"/>
            <a:ext cx="7723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8720" y="1785960"/>
            <a:ext cx="3861720" cy="430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3760" y="1785960"/>
            <a:ext cx="386172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73760" y="4037400"/>
            <a:ext cx="386172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39680" y="333360"/>
            <a:ext cx="7723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8720" y="1785960"/>
            <a:ext cx="386172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3760" y="1785960"/>
            <a:ext cx="386172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8720" y="4037400"/>
            <a:ext cx="791388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39680" y="333360"/>
            <a:ext cx="7723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8720" y="1785960"/>
            <a:ext cx="791388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18720" y="4037400"/>
            <a:ext cx="791388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39680" y="333360"/>
            <a:ext cx="7723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8720" y="1785960"/>
            <a:ext cx="386172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760" y="1785960"/>
            <a:ext cx="386172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8720" y="4037400"/>
            <a:ext cx="386172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73760" y="4037400"/>
            <a:ext cx="386172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39680" y="333360"/>
            <a:ext cx="7723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8720" y="1785960"/>
            <a:ext cx="254808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94600" y="1785960"/>
            <a:ext cx="254808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70480" y="1785960"/>
            <a:ext cx="254808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18720" y="4037400"/>
            <a:ext cx="254808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94600" y="4037400"/>
            <a:ext cx="254808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70480" y="4037400"/>
            <a:ext cx="254808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39680" y="333360"/>
            <a:ext cx="7723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8720" y="1785960"/>
            <a:ext cx="7913880" cy="430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39680" y="333360"/>
            <a:ext cx="7723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8720" y="1785960"/>
            <a:ext cx="3861720" cy="430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73760" y="1785960"/>
            <a:ext cx="3861720" cy="430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39680" y="333360"/>
            <a:ext cx="7723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39680" y="333360"/>
            <a:ext cx="7723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39680" y="333360"/>
            <a:ext cx="7723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8720" y="1785960"/>
            <a:ext cx="386172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3760" y="1785960"/>
            <a:ext cx="3861720" cy="430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8720" y="4037400"/>
            <a:ext cx="386172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39680" y="333360"/>
            <a:ext cx="7723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8720" y="1785960"/>
            <a:ext cx="3861720" cy="430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3760" y="1785960"/>
            <a:ext cx="386172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73760" y="4037400"/>
            <a:ext cx="386172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39680" y="333360"/>
            <a:ext cx="7723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8720" y="1785960"/>
            <a:ext cx="386172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760" y="1785960"/>
            <a:ext cx="386172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8720" y="4037400"/>
            <a:ext cx="7913880" cy="20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39680" y="333360"/>
            <a:ext cx="7723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8720" y="1785960"/>
            <a:ext cx="7913880" cy="430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1047600" indent="-285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2" marL="1562040" indent="-228600">
              <a:lnSpc>
                <a:spcPct val="90000"/>
              </a:lnSpc>
              <a:spcBef>
                <a:spcPts val="751"/>
              </a:spcBef>
              <a:buClr>
                <a:srgbClr val="ff0066"/>
              </a:buClr>
              <a:buSzPct val="4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3" marL="1924200" indent="-171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4" marL="228600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5" marL="228600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6" marL="228600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 rot="16200000">
            <a:off x="-3053520" y="3053520"/>
            <a:ext cx="6858000" cy="750600"/>
          </a:xfrm>
          <a:prstGeom prst="rect">
            <a:avLst/>
          </a:prstGeom>
          <a:solidFill>
            <a:srgbClr val="919191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abase and Application Services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73320" y="636120"/>
            <a:ext cx="71704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419040" algn="ctr">
              <a:lnSpc>
                <a:spcPct val="90000"/>
              </a:lnSpc>
              <a:spcBef>
                <a:spcPts val="675"/>
              </a:spcBef>
              <a:buClr>
                <a:srgbClr val="ff0066"/>
              </a:buClr>
              <a:buSzPct val="4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  <a:p>
            <a:pPr lvl="3" marL="1371600" indent="38088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28584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285840">
              <a:spcBef>
                <a:spcPts val="451"/>
              </a:spcBef>
              <a:buClr>
                <a:srgbClr val="000000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285840">
              <a:spcBef>
                <a:spcPts val="451"/>
              </a:spcBef>
              <a:buClr>
                <a:srgbClr val="000000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423800" y="244008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mic Sans MS"/>
              </a:rPr>
              <a:t>Oracle on Linux</a:t>
            </a:r>
            <a:endParaRPr b="0" lang="en-US" sz="60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924680" y="4572000"/>
            <a:ext cx="1430280" cy="1676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477200" y="3979800"/>
            <a:ext cx="2276280" cy="36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39680" y="333360"/>
            <a:ext cx="7723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The Good News</a:t>
            </a:r>
            <a:endParaRPr b="1" lang="en-US" sz="32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929664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OCCI client for gcc 3.2.3 now available (10g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1047600" indent="-285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ficially supported on RedHat Linux AS 3.0 &amp; Suse Linux ES 8.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1047600" indent="-285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ied’ with LCG Conditions DB Application on RH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Oracle now has procedure in place to rebuild client libraries rapidly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1047600" indent="-285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is not a guarantee that it will happen automatically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Oracle 10g ‘Instant Client’ RPM kits – currently runtime only - will be extended to include ‘client developer’ kit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1047600" indent="-285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ll be made available in EXPORT area in CERN /afs tr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1047600" indent="-285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so from OTN (not recommende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Extensive testing of 10g clients with 9i servers still to be don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1047600" indent="-285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wever, this is supported and not expected to be an iss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39680" y="333360"/>
            <a:ext cx="7723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Outlook</a:t>
            </a:r>
            <a:endParaRPr b="1" lang="en-US" sz="32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785960"/>
            <a:ext cx="8991720" cy="430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ERN has revitalised its contacts with Oracle since ~1999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New technical contact for CERN will start in Jun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egular ‘CERN-Oracle’ Summits: next foreseen for June/July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Many features in Oracle 10g come from these interaction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1047600" indent="-285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LDB, native floats, silent install improvements, 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We will continue to stress the need for timely adoption of new compiler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39680" y="333360"/>
            <a:ext cx="7723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3</a:t>
            </a:r>
            <a:r>
              <a:rPr b="1" lang="en-US" sz="3200" spc="-1" strike="noStrike" baseline="30000">
                <a:solidFill>
                  <a:srgbClr val="990000"/>
                </a:solidFill>
                <a:latin typeface="Comic Sans MS"/>
              </a:rPr>
              <a:t>rd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 Party Products</a:t>
            </a:r>
            <a:endParaRPr b="1" lang="en-US" sz="32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9080" y="1785960"/>
            <a:ext cx="8453520" cy="430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IT-DB does not provide support for e.g. Tora, perl-DBD-Oracl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is does not mean that these tools cannot, or are not (be) used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9T07:35:23Z</dcterms:created>
  <dc:creator>maria girone </dc:creator>
  <dc:description/>
  <dc:language>en-US</dc:language>
  <cp:lastModifiedBy>Jamie Shiers</cp:lastModifiedBy>
  <cp:lastPrinted>1999-11-12T07:53:32Z</cp:lastPrinted>
  <dcterms:modified xsi:type="dcterms:W3CDTF">2004-05-06T06:44:23Z</dcterms:modified>
  <cp:revision>701</cp:revision>
  <dc:subject/>
  <dc:title>common procedures </dc:title>
</cp:coreProperties>
</file>