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4960" cy="10690200"/>
          </a:xfrm>
          <a:custGeom>
            <a:avLst/>
            <a:gdLst>
              <a:gd name="textAreaLeft" fmla="*/ 360 w 7554960"/>
              <a:gd name="textAreaRight" fmla="*/ 7554600 w 7554960"/>
              <a:gd name="textAreaTop" fmla="*/ 360 h 10690200"/>
              <a:gd name="textAreaBottom" fmla="*/ 10689840 h 10690200"/>
            </a:gdLst>
            <a:ahLst/>
            <a:rect l="textAreaLeft" t="textAreaTop" r="textAreaRight" b="textAreaBottom"/>
            <a:pathLst>
              <a:path w="21600" h="30563">
                <a:moveTo>
                  <a:pt x="4" y="0"/>
                </a:moveTo>
                <a:arcTo wR="4" hR="4" stAng="16200000" swAng="-5400000"/>
                <a:lnTo>
                  <a:pt x="0" y="30559"/>
                </a:lnTo>
                <a:arcTo wR="4" hR="4" stAng="10800000" swAng="-5400000"/>
                <a:lnTo>
                  <a:pt x="21596" y="3056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294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xi Sans"/>
              </a:rPr>
              <a:t>Click to move the slide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8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11120" y="1027080"/>
            <a:ext cx="493092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36560" y="1406520"/>
            <a:ext cx="45252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21320" y="1406520"/>
            <a:ext cx="369720" cy="4539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860436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42840"/>
            <a:ext cx="860436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177480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4284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4284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2770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1774800"/>
            <a:ext cx="2770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1774800"/>
            <a:ext cx="2770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42840"/>
            <a:ext cx="2770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42840"/>
            <a:ext cx="2770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42840"/>
            <a:ext cx="2770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1774800"/>
            <a:ext cx="860436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spcBef>
                <a:spcPts val="763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860436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419868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1774800"/>
            <a:ext cx="419868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568440"/>
            <a:ext cx="860436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6000"/>
              </a:lnSpc>
              <a:spcBef>
                <a:spcPts val="763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1774800"/>
            <a:ext cx="419868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4284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419868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177480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4284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1774800"/>
            <a:ext cx="419868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42840"/>
            <a:ext cx="860436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144000" y="184320"/>
            <a:ext cx="687240" cy="730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8840" y="7315200"/>
            <a:ext cx="11347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xi Sans"/>
              </a:rPr>
              <a:t>J.Iven, IT-FIO-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118080" y="7278840"/>
            <a:ext cx="747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xi Sans"/>
              </a:rPr>
              <a:t>08/0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39240" y="297000"/>
            <a:ext cx="1750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xi Sans"/>
              </a:rPr>
              <a:t>LXCER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436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xi Sans"/>
              </a:rPr>
              <a:t>Click to edit the titl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1774800"/>
            <a:ext cx="8604360" cy="52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3" marL="178452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55000"/>
              <a:buFont typeface="Times New Roman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4" marL="221472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5" marL="221472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6" marL="221472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Times New Roman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77840" y="181080"/>
            <a:ext cx="5094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scientificlinux.org/distributions/roadma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scientificlinux.org/distributions/roadmap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1770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Luxi Sans"/>
              </a:rPr>
              <a:t>LXCERT meeting 07/02/2006</a:t>
            </a:r>
            <a:endParaRPr b="0" lang="en-US" sz="40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840" y="2940120"/>
            <a:ext cx="860580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41240" indent="-284040">
              <a:lnSpc>
                <a:spcPct val="102000"/>
              </a:lnSpc>
              <a:spcBef>
                <a:spcPts val="763"/>
              </a:spcBef>
              <a:buClr>
                <a:srgbClr val="000000"/>
              </a:buClr>
              <a:buFont typeface="Symbol" charset="2"/>
              <a:buChar char="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SLC5 delay impact - discussion, new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2000"/>
              </a:lnSpc>
              <a:spcBef>
                <a:spcPts val="763"/>
              </a:spcBef>
              <a:buClr>
                <a:srgbClr val="000000"/>
              </a:buClr>
              <a:buFont typeface="Symbol" charset="2"/>
              <a:buChar char="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SLC4 certification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2000"/>
              </a:lnSpc>
              <a:spcBef>
                <a:spcPts val="763"/>
              </a:spcBef>
              <a:buClr>
                <a:srgbClr val="000000"/>
              </a:buClr>
              <a:buFont typeface="Symbol" charset="2"/>
              <a:buChar char="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SLC4 roll-ou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2000"/>
              </a:lnSpc>
              <a:spcBef>
                <a:spcPts val="763"/>
              </a:spcBef>
              <a:buClr>
                <a:srgbClr val="000000"/>
              </a:buClr>
              <a:buFont typeface="Symbol" charset="2"/>
              <a:buChar char="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msmincho"/>
              </a:rPr>
              <a:t>SLC3 support lif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Lifetime for SLC3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86058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Luxi Sans"/>
              </a:rPr>
              <a:t>Propose: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ia64 SLC3 support: end December 2006: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Affects CERN-IT only, experiments: “we don't care” </a:t>
            </a:r>
            <a:r>
              <a:rPr b="0" lang="en-GB" sz="2200" spc="-1" strike="noStrike">
                <a:solidFill>
                  <a:srgbClr val="000000"/>
                </a:solidFill>
                <a:latin typeface="OpenSymbol"/>
                <a:ea typeface="OpenSymbol"/>
              </a:rPr>
              <a:t>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x86_64 SLC3 support: end December 2006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Avoid widespread migration to SLC3 on 64bit HW,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currently &lt;15 machines (per apt/yum statistics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i386 SLC3 support: still end </a:t>
            </a:r>
            <a:r>
              <a:rPr b="1" lang="en-GB" sz="2400" spc="-1" strike="noStrike">
                <a:solidFill>
                  <a:srgbClr val="000000"/>
                </a:solidFill>
                <a:latin typeface="Luxi Sans"/>
              </a:rPr>
              <a:t>October 2007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(in line with Fermi plans for SL, see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SL roadmap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RHEL5 delay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86058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5480" indent="-27036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RHEL5: “we do not expect a release before the end of 2006”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0600" indent="-2700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(removed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0600" indent="-2700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Fermi: “told you so” (not really, but joint statement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https://www.scientificlinux.org/distributions/roadmap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marL="375480" indent="-27036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Recap: LXCERT deadline was October 2006 for “LHC” release (mostly driven by *-online groups, but *-offline probably doesn't want gcc-4 either by then (?))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5480" indent="-27036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SLC5 isn't going to happen before 1Q2007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5480" indent="-27036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SLC5 isn't going to be the “LHC startup release” ?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(From Oct. meeting)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 Latest rumors: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6440" y="1785960"/>
            <a:ext cx="86058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RHEL5 may come out “late” (4Q2006),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&gt;&gt; 18months after RHEL3 (Sep 2003).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(some sources: up to 27 months, tied to slower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(9months) FedoraCore release cycle?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review “lockdown” timeline?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review stability requirements </a:t>
            </a:r>
            <a:r>
              <a:rPr b="1" lang="en-GB" sz="2400" spc="-1" strike="noStrike">
                <a:solidFill>
                  <a:srgbClr val="000000"/>
                </a:solidFill>
                <a:latin typeface="Luxi Sans"/>
              </a:rPr>
              <a:t>per environment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proposal: certify anyway, but carefully plan deployment.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586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(impact on # of concurrent distributions -&gt; Linux support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76200" y="5721480"/>
            <a:ext cx="8229600" cy="1371600"/>
            <a:chOff x="1276200" y="5721480"/>
            <a:chExt cx="8229600" cy="1371600"/>
          </a:xfrm>
        </p:grpSpPr>
        <p:sp>
          <p:nvSpPr>
            <p:cNvPr id="55" name=""/>
            <p:cNvSpPr/>
            <p:nvPr/>
          </p:nvSpPr>
          <p:spPr>
            <a:xfrm>
              <a:off x="1276200" y="5721480"/>
              <a:ext cx="8229600" cy="1371600"/>
            </a:xfrm>
            <a:prstGeom prst="roundRect">
              <a:avLst>
                <a:gd name="adj" fmla="val 116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6200" y="572148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2" marL="849240" indent="-272880">
                <a:lnSpc>
                  <a:spcPct val="102000"/>
                </a:lnSpc>
                <a:tabLst>
                  <a:tab algn="l" pos="0"/>
                  <a:tab algn="l" pos="849240"/>
                  <a:tab algn="l" pos="1306440"/>
                  <a:tab algn="l" pos="1763640"/>
                  <a:tab algn="l" pos="2220840"/>
                  <a:tab algn="l" pos="2678040"/>
                  <a:tab algn="l" pos="3135240"/>
                  <a:tab algn="l" pos="3592440"/>
                  <a:tab algn="l" pos="4049640"/>
                  <a:tab algn="l" pos="4506840"/>
                  <a:tab algn="l" pos="4964040"/>
                  <a:tab algn="l" pos="5421240"/>
                  <a:tab algn="l" pos="5878440"/>
                  <a:tab algn="l" pos="6335640"/>
                  <a:tab algn="l" pos="6792840"/>
                  <a:tab algn="l" pos="7250040"/>
                  <a:tab algn="l" pos="7707240"/>
                  <a:tab algn="l" pos="8164440"/>
                  <a:tab algn="l" pos="8621640"/>
                  <a:tab algn="l" pos="9078840"/>
                  <a:tab algn="l" pos="9536040"/>
                  <a:tab algn="l" pos="999324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Luxi Sans"/>
                  <a:ea typeface="msmincho"/>
                </a:rPr>
                <a:t>“</a:t>
              </a:r>
              <a:r>
                <a:rPr b="0" lang="en-GB" sz="2000" spc="-1" strike="noStrike">
                  <a:solidFill>
                    <a:srgbClr val="000000"/>
                  </a:solidFill>
                  <a:latin typeface="Luxi Sans"/>
                  <a:ea typeface="msmincho"/>
                </a:rPr>
                <a:t>[..] Original certification planning still holds: try to certify until the end of 2005. Currently the LCG application area software (blocking LHC experiments) and ORACLE client (blocking AB/CO) are on the critical path. [..]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2700000">
            <a:off x="6321240" y="2408040"/>
            <a:ext cx="3882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e6e6e6"/>
                </a:solidFill>
                <a:latin typeface="Luxi Sans"/>
              </a:rPr>
              <a:t>October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Impact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1774440"/>
            <a:ext cx="8605800" cy="53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Assume: will have lots of SLC4 production systems in  2007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No reason to wait for SLC5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Can roll out SLC4 on all services </a:t>
            </a:r>
            <a:r>
              <a:rPr b="0" lang="en-GB" sz="2200" spc="-1" strike="noStrike">
                <a:solidFill>
                  <a:srgbClr val="000000"/>
                </a:solidFill>
                <a:latin typeface="StarSymbol"/>
                <a:ea typeface="StarSymbol"/>
              </a:rPr>
              <a:t>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plan 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Need to involve GDB for Grid-wide roll-out coordination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SLC4 becomes less urgent, but more important: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Already slippage: “end of 2005” </a:t>
            </a:r>
            <a:r>
              <a:rPr b="0" lang="en-GB" sz="2200" spc="-1" strike="noStrike">
                <a:solidFill>
                  <a:srgbClr val="000000"/>
                </a:solidFill>
                <a:latin typeface="OpenSymbol"/>
                <a:ea typeface="OpenSymbol"/>
              </a:rPr>
              <a:t>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 “end of January 06” </a:t>
            </a:r>
            <a:r>
              <a:rPr b="0" lang="en-GB" sz="2200" spc="-1" strike="noStrike">
                <a:solidFill>
                  <a:srgbClr val="000000"/>
                </a:solidFill>
                <a:latin typeface="StarSymbol"/>
                <a:ea typeface="StarSymbol"/>
              </a:rPr>
              <a:t>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 “after RHEL4U3”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IT isn't the only one being late with SLC4 –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0 (zero) pressure from experiments until now...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But: will need to work. SLC4 would be the LHC release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OpenSymbol"/>
              </a:rPr>
              <a:t>No “second chance” to get it right..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Alternative: stick to SLC5 plan?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86058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Stick to original plan, or certify a beta?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Would have a few online farms on SLC4, rest on SLC5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Unrealistic!   SLC5 too close to LHC startup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Little to be gained If SLC4 is around as well (have 2.6 kernel, don't foresee immediate requests for Xen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But: SLC5 will come anyway (newer hardware support etc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May get used behind the scenes on hidden services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May get used on individual laptops/desktops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Some services will/may try to skip SLC4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Luxi Sans"/>
                <a:ea typeface="StarSymbol"/>
              </a:rPr>
              <a:t>But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  <a:ea typeface="StarSymbol"/>
              </a:rPr>
              <a:t>can discuss release/certification schedules later..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SLC4 status – IT view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1774440"/>
            <a:ext cx="8605800" cy="62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Have: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onlycern” repository (JDK, ORACLE Instantclient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Kerberos 5 configuration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Most of IT tools “</a:t>
            </a:r>
            <a:r>
              <a:rPr b="0" i="1" lang="en-GB" sz="2400" spc="-1" strike="noStrike">
                <a:solidFill>
                  <a:srgbClr val="000000"/>
                </a:solidFill>
                <a:latin typeface="Luxi Sans"/>
              </a:rPr>
              <a:t>work_for_us</a:t>
            </a: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” (even if not fully certified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But: most tests done only on i386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Still need: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Kerberos 5 + OpenSSH 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(“getting rid of Heimdal”)</a:t>
            </a:r>
            <a:endParaRPr b="0" lang="en-US" sz="20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Formal CASTOR release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Lots of pending updates (U3 in beta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64bit architectures need more tests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-27288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Instantclient not used everywhere yet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SLC4 changes(IT)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774800"/>
            <a:ext cx="8605800" cy="61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Update system goes from apt to yum on all architectures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836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Apt(-rpm) is dead (0..1 active developers, no distribution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836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Yum is the future (Fedora, integrated with Red Hat tools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836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GUI: yumex (still “improving”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Kernel updates are now fully integrated, treated as any other update by default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836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too many “old” kernels otherwise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836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Can turn off / configure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Other changes as announced.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-273240">
              <a:lnSpc>
                <a:spcPct val="102000"/>
              </a:lnSpc>
              <a:spcAft>
                <a:spcPts val="836"/>
              </a:spcAft>
              <a:buClr>
                <a:srgbClr val="000000"/>
              </a:buClr>
              <a:buSzPct val="65000"/>
              <a:buFont typeface="Times New Roman"/>
              <a:buChar char="●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But nothing on the “physics” packages integration (yet?)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SLC4 status – rest of you?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1774440"/>
            <a:ext cx="8605800" cy="55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LCG: ported to SLC3/gcc-3.4, need recompile?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Experiments: waiting for dependencies?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EGEE/ETICS – just setting up build servers...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“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low priority” for everybody until now?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This ought to change...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568440"/>
            <a:ext cx="86058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Times New Roman"/>
              <a:buChar char=" 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Luxi Sans"/>
              </a:rPr>
              <a:t>SLC4 plan (proposals)</a:t>
            </a:r>
            <a:endParaRPr b="0" lang="en-US" sz="3200" spc="-1" strike="noStrike" u="sng">
              <a:solidFill>
                <a:srgbClr val="000000"/>
              </a:solidFill>
              <a:uFillTx/>
              <a:latin typeface="Luxi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774440"/>
            <a:ext cx="8605800" cy="54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0">
              <a:lnSpc>
                <a:spcPct val="102000"/>
              </a:lnSpc>
              <a:spcAft>
                <a:spcPts val="140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Suggest to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wait for RHEL4 U3 release (~ 2 weeks)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+recompilation / integration: ~mid-march.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Luxi Sans"/>
              </a:rPr>
              <a:t>Will experiment code be ready by then?</a:t>
            </a: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Certification deadline: </a:t>
            </a:r>
            <a:r>
              <a:rPr b="1" lang="en-GB" sz="2600" spc="-1" strike="noStrike">
                <a:solidFill>
                  <a:srgbClr val="000000"/>
                </a:solidFill>
                <a:latin typeface="Luxi Sans"/>
              </a:rPr>
              <a:t>end of march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xi Sans"/>
              </a:rPr>
              <a:t>(2006)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2" marL="1351080" indent="0">
              <a:lnSpc>
                <a:spcPct val="102000"/>
              </a:lnSpc>
              <a:spcAft>
                <a:spcPts val="836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hand over roll-out planning &amp; coordination to GDB (next meeting: tomorrow), discuss at HEPiX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379440" indent="-273240">
              <a:lnSpc>
                <a:spcPct val="102000"/>
              </a:lnSpc>
              <a:spcAft>
                <a:spcPts val="1400"/>
              </a:spcAft>
              <a:buClr>
                <a:srgbClr val="000000"/>
              </a:buClr>
              <a:buSzPct val="90000"/>
              <a:buFont typeface="Times New Roman"/>
              <a:buChar char="○"/>
              <a:tabLst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expect: public production services (PLUS/BATCH) on SLC4 in ~October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lvl="1" marL="849240" indent="0">
              <a:lnSpc>
                <a:spcPct val="102000"/>
              </a:lnSpc>
              <a:spcAft>
                <a:spcPts val="850"/>
              </a:spcAft>
              <a:buNone/>
              <a:tabLst>
                <a:tab algn="l" pos="0"/>
                <a:tab algn="l" pos="404640"/>
                <a:tab algn="l" pos="86184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