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B83-CBF8-4754-A914-BA7C0ABF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4FB-2C1B-459B-BF2A-AA454F90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4BB9-8A5B-486A-BABC-54FD59DE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315-B7F1-48FC-A865-397C1F22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81A-06A5-417A-BC01-28B02213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BB5-39DE-4F9B-B62F-A1272446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6BF9-3EA3-46FA-873C-D13124F5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3CF-D11F-4A11-AD3F-DF2976EA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802D-1F37-427B-93B0-609BD180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1B4E-EE7E-47F8-BFFE-676282D2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8F56-87E0-4EEA-94A8-84889CE2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7357-FFA8-4D40-9260-264E0A19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CD93-ABC7-4737-8769-E04879C0F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266688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29160" y="1859040"/>
            <a:ext cx="1414440" cy="82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01880" y="199692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50920" y="1447920"/>
            <a:ext cx="168120" cy="412200"/>
            <a:chOff x="3850920" y="1447920"/>
            <a:chExt cx="168120" cy="412200"/>
          </a:xfrm>
        </p:grpSpPr>
        <p:sp>
          <p:nvSpPr>
            <p:cNvPr id="45" name=""/>
            <p:cNvSpPr/>
            <p:nvPr/>
          </p:nvSpPr>
          <p:spPr>
            <a:xfrm rot="5400000">
              <a:off x="385776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3516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373640" y="144792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520880" y="1447920"/>
            <a:ext cx="168120" cy="412200"/>
            <a:chOff x="4520880" y="1447920"/>
            <a:chExt cx="168120" cy="412200"/>
          </a:xfrm>
        </p:grpSpPr>
        <p:sp>
          <p:nvSpPr>
            <p:cNvPr id="49" name=""/>
            <p:cNvSpPr/>
            <p:nvPr/>
          </p:nvSpPr>
          <p:spPr>
            <a:xfrm rot="5400000">
              <a:off x="452772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0512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800600" y="3581280"/>
            <a:ext cx="1638360" cy="822600"/>
            <a:chOff x="4800600" y="3581280"/>
            <a:chExt cx="1638360" cy="822600"/>
          </a:xfrm>
        </p:grpSpPr>
        <p:sp>
          <p:nvSpPr>
            <p:cNvPr id="52" name=""/>
            <p:cNvSpPr/>
            <p:nvPr/>
          </p:nvSpPr>
          <p:spPr>
            <a:xfrm>
              <a:off x="4875120" y="3581280"/>
              <a:ext cx="1414800" cy="82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00600" y="385524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b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943600" y="411480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ub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715000" y="5157720"/>
            <a:ext cx="1652760" cy="709560"/>
            <a:chOff x="5715000" y="5157720"/>
            <a:chExt cx="1652760" cy="709560"/>
          </a:xfrm>
        </p:grpSpPr>
        <p:sp>
          <p:nvSpPr>
            <p:cNvPr id="56" name=""/>
            <p:cNvSpPr/>
            <p:nvPr/>
          </p:nvSpPr>
          <p:spPr>
            <a:xfrm>
              <a:off x="5789880" y="5157720"/>
              <a:ext cx="1427400" cy="70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15000" y="5397840"/>
              <a:ext cx="16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486400" y="441972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562720" y="3124080"/>
            <a:ext cx="0" cy="48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31240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44792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324840" y="3886200"/>
            <a:ext cx="448920" cy="154080"/>
            <a:chOff x="6324840" y="3886200"/>
            <a:chExt cx="448920" cy="154080"/>
          </a:xfrm>
        </p:grpSpPr>
        <p:sp>
          <p:nvSpPr>
            <p:cNvPr id="63" name=""/>
            <p:cNvSpPr/>
            <p:nvPr/>
          </p:nvSpPr>
          <p:spPr>
            <a:xfrm rot="10800000">
              <a:off x="66060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324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790800" y="5181480"/>
            <a:ext cx="1562400" cy="685800"/>
            <a:chOff x="3790800" y="5181480"/>
            <a:chExt cx="1562400" cy="685800"/>
          </a:xfrm>
        </p:grpSpPr>
        <p:sp>
          <p:nvSpPr>
            <p:cNvPr id="66" name=""/>
            <p:cNvSpPr/>
            <p:nvPr/>
          </p:nvSpPr>
          <p:spPr>
            <a:xfrm>
              <a:off x="3861720" y="5181480"/>
              <a:ext cx="134928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90800" y="5413680"/>
              <a:ext cx="15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57200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981080" y="3886200"/>
            <a:ext cx="448920" cy="154080"/>
            <a:chOff x="1981080" y="3886200"/>
            <a:chExt cx="448920" cy="154080"/>
          </a:xfrm>
        </p:grpSpPr>
        <p:sp>
          <p:nvSpPr>
            <p:cNvPr id="71" name=""/>
            <p:cNvSpPr/>
            <p:nvPr/>
          </p:nvSpPr>
          <p:spPr>
            <a:xfrm>
              <a:off x="19810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48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362320" y="3124080"/>
            <a:ext cx="1638360" cy="1233360"/>
            <a:chOff x="2362320" y="3124080"/>
            <a:chExt cx="1638360" cy="1233360"/>
          </a:xfrm>
        </p:grpSpPr>
        <p:grpSp>
          <p:nvGrpSpPr>
            <p:cNvPr id="74" name=""/>
            <p:cNvGrpSpPr/>
            <p:nvPr/>
          </p:nvGrpSpPr>
          <p:grpSpPr>
            <a:xfrm>
              <a:off x="2362320" y="3535200"/>
              <a:ext cx="1638360" cy="822240"/>
              <a:chOff x="2362320" y="3535200"/>
              <a:chExt cx="1638360" cy="822240"/>
            </a:xfrm>
          </p:grpSpPr>
          <p:sp>
            <p:nvSpPr>
              <p:cNvPr id="75" name=""/>
              <p:cNvSpPr/>
              <p:nvPr/>
            </p:nvSpPr>
            <p:spPr>
              <a:xfrm>
                <a:off x="2436840" y="3535200"/>
                <a:ext cx="1414800" cy="822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62320" y="3808800"/>
                <a:ext cx="163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 flipV="1">
              <a:off x="3124440" y="31240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990720" y="414504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ConreteToo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523880" y="3886200"/>
            <a:ext cx="448920" cy="154080"/>
            <a:chOff x="1523880" y="3886200"/>
            <a:chExt cx="448920" cy="154080"/>
          </a:xfrm>
        </p:grpSpPr>
        <p:sp>
          <p:nvSpPr>
            <p:cNvPr id="80" name=""/>
            <p:cNvSpPr/>
            <p:nvPr/>
          </p:nvSpPr>
          <p:spPr>
            <a:xfrm>
              <a:off x="15238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916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rot="16256400">
            <a:off x="666720" y="32745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782040" y="3886200"/>
            <a:ext cx="448920" cy="154080"/>
            <a:chOff x="6782040" y="3886200"/>
            <a:chExt cx="448920" cy="154080"/>
          </a:xfrm>
        </p:grpSpPr>
        <p:sp>
          <p:nvSpPr>
            <p:cNvPr id="84" name=""/>
            <p:cNvSpPr/>
            <p:nvPr/>
          </p:nvSpPr>
          <p:spPr>
            <a:xfrm rot="10800000">
              <a:off x="70632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7820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705720" y="358128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0:00:55Z</dcterms:created>
  <dc:creator>gcorti</dc:creator>
  <dc:description/>
  <dc:language>en-US</dc:language>
  <cp:lastModifiedBy>gcorti2</cp:lastModifiedBy>
  <dcterms:modified xsi:type="dcterms:W3CDTF">2001-12-19T10:16:13Z</dcterms:modified>
  <cp:revision>4</cp:revision>
  <dc:subject/>
  <dc:title>No Slide Title</dc:title>
</cp:coreProperties>
</file>