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191000" cy="2592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8D30-DD15-4DBC-AC65-05924AFD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4280" y="15613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559F-307D-4747-B601-0E4E8FF7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020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2210-CD68-41A5-A2E1-24C09BC7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1884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2376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428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1884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2376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DCAF-4092-4704-ABDC-371CBECE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A437-7691-473E-A20E-B11D862D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7AA-432E-48E1-9438-F6362C84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33DA-CD3D-43CF-AABA-EB8DB2CB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7CFE-BD22-43EB-A1F0-D6834AAB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4280" y="230040"/>
            <a:ext cx="356256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B5A7-A0D2-4659-8694-7C417899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1A25-913D-4EEB-B19D-CF89F77F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020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61DC-889C-42C5-B354-F9EC335E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097E-6EA2-4159-A92C-AEB3A7F2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 fontScale="80000"/>
          </a:bodyPr>
          <a:p>
            <a:pPr marL="132120" indent="-13212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400" indent="-1080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39200" indent="-878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614520" indent="-8748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3920" y="2360160"/>
            <a:ext cx="87300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2080" y="2360160"/>
            <a:ext cx="132696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03480" y="2360160"/>
            <a:ext cx="87336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 algn="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fld id="{8341D78B-6533-4666-BA41-569AB2376DAA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1280" y="34920"/>
            <a:ext cx="4050000" cy="2523960"/>
            <a:chOff x="71280" y="34920"/>
            <a:chExt cx="4050000" cy="2523960"/>
          </a:xfrm>
        </p:grpSpPr>
        <p:sp>
          <p:nvSpPr>
            <p:cNvPr id="42" name=""/>
            <p:cNvSpPr/>
            <p:nvPr/>
          </p:nvSpPr>
          <p:spPr>
            <a:xfrm>
              <a:off x="71280" y="34920"/>
              <a:ext cx="4050000" cy="252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457360" y="523800"/>
              <a:ext cx="1451160" cy="166212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71920" y="992160"/>
              <a:ext cx="1014120" cy="49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ConcreteAlgorith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41200" y="820800"/>
              <a:ext cx="1150920" cy="228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EventData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 flipV="1">
              <a:off x="1862280" y="309600"/>
              <a:ext cx="799920" cy="682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36760" y="779400"/>
              <a:ext cx="83016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DataProvider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flipV="1">
              <a:off x="2150640" y="949320"/>
              <a:ext cx="520920" cy="169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36760" y="1162080"/>
              <a:ext cx="8301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DataProvider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2158560" y="1263600"/>
              <a:ext cx="513000" cy="69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36760" y="1503360"/>
              <a:ext cx="7030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Histogram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2151000" y="1460520"/>
              <a:ext cx="511200" cy="214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36760" y="1900080"/>
              <a:ext cx="619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Message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29000" y="74520"/>
              <a:ext cx="1440" cy="61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429000" y="779040"/>
              <a:ext cx="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86160" y="693720"/>
              <a:ext cx="856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63840" y="788760"/>
              <a:ext cx="459000" cy="1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Proper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06760" y="1884240"/>
              <a:ext cx="45864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06760" y="1884240"/>
              <a:ext cx="45864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57440" y="1936800"/>
              <a:ext cx="40500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Objec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97160" y="1884240"/>
              <a:ext cx="45900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97160" y="1884240"/>
              <a:ext cx="45900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47840" y="1936800"/>
              <a:ext cx="3938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Object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809800" y="1487520"/>
              <a:ext cx="19044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63880" y="1452600"/>
              <a:ext cx="792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65" y="0"/>
                  </a:moveTo>
                  <a:lnTo>
                    <a:pt x="0" y="27"/>
                  </a:lnTo>
                  <a:lnTo>
                    <a:pt x="24" y="80"/>
                  </a:lnTo>
                  <a:lnTo>
                    <a:pt x="90" y="5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63880" y="1452600"/>
              <a:ext cx="792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65" y="0"/>
                  </a:moveTo>
                  <a:lnTo>
                    <a:pt x="0" y="27"/>
                  </a:lnTo>
                  <a:lnTo>
                    <a:pt x="24" y="80"/>
                  </a:lnTo>
                  <a:lnTo>
                    <a:pt x="90" y="53"/>
                  </a:lnTo>
                  <a:lnTo>
                    <a:pt x="6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3255840" y="1487520"/>
              <a:ext cx="19368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11560" y="1452600"/>
              <a:ext cx="810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24" y="0"/>
                  </a:moveTo>
                  <a:lnTo>
                    <a:pt x="0" y="53"/>
                  </a:lnTo>
                  <a:lnTo>
                    <a:pt x="65" y="80"/>
                  </a:lnTo>
                  <a:lnTo>
                    <a:pt x="90" y="2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11560" y="1452600"/>
              <a:ext cx="810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24" y="0"/>
                  </a:moveTo>
                  <a:lnTo>
                    <a:pt x="0" y="53"/>
                  </a:lnTo>
                  <a:lnTo>
                    <a:pt x="65" y="80"/>
                  </a:lnTo>
                  <a:lnTo>
                    <a:pt x="90" y="27"/>
                  </a:lnTo>
                  <a:lnTo>
                    <a:pt x="2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19520" y="74520"/>
              <a:ext cx="1440" cy="61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59040" y="790560"/>
              <a:ext cx="5158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Algorith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819520" y="780480"/>
              <a:ext cx="0" cy="2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74880" y="693720"/>
              <a:ext cx="85680" cy="87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75040" y="907920"/>
              <a:ext cx="83880" cy="8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1200" y="120492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DetectorData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75040" y="129060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1200" y="1546200"/>
              <a:ext cx="1150920" cy="2271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Histogram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75040" y="1630440"/>
              <a:ext cx="83880" cy="87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1200" y="192888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Message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75040" y="201456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1200" y="227016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ParticleProperty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47920" y="2406600"/>
              <a:ext cx="9856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ParticleProperty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92120" y="94932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92120" y="13334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92120" y="167472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92120" y="205740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92120" y="23558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75040" y="231300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158560" y="1503360"/>
              <a:ext cx="546120" cy="511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4040" y="182520"/>
              <a:ext cx="1152720" cy="2271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ApplicationMg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63840" y="57240"/>
              <a:ext cx="57924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SvcLocat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6760" y="268200"/>
              <a:ext cx="33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76240" y="225360"/>
              <a:ext cx="86040" cy="8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158920" y="1503360"/>
              <a:ext cx="641520" cy="809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40:50Z</dcterms:created>
  <dc:creator>Marco Cattaneo</dc:creator>
  <dc:description/>
  <dc:language>en-US</dc:language>
  <cp:lastModifiedBy>cattaneo</cp:lastModifiedBy>
  <dcterms:modified xsi:type="dcterms:W3CDTF">2001-11-30T12:33:27Z</dcterms:modified>
  <cp:revision>8</cp:revision>
  <dc:subject/>
  <dc:title>No Slide Title</dc:title>
</cp:coreProperties>
</file>