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180013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DDD3-2A22-4D84-BD36-14C223CD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2059-390E-41A0-986C-AD4CED24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E8A4-9691-4D3A-B389-0FC4CB90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7740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6636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7740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6636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1B29-7C74-43B8-9484-DFFDFEB2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36AC-811C-4AFD-A3D0-C441F65F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842-649A-4AB4-9F34-E16F00D9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9FE3-70AD-4A59-B7FF-BD5E926D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03A-748B-4B15-9510-D471BBBE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456840"/>
            <a:ext cx="440388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861-6BB2-4653-9902-96364ECA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33E-F044-4110-9709-C865819A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374-38B4-41CA-8A93-38FCF70C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92FF-4ACA-45EB-9E5B-8A44F08E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 fontScale="96000"/>
          </a:bodyPr>
          <a:p>
            <a:pPr marL="234360" indent="-2343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9512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69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728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5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6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44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69760" y="4686480"/>
            <a:ext cx="16412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71268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02AD6E2E-D45B-4964-8423-5914B5919D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5600" y="17640"/>
            <a:ext cx="4705200" cy="5095800"/>
            <a:chOff x="255600" y="17640"/>
            <a:chExt cx="4705200" cy="5095800"/>
          </a:xfrm>
        </p:grpSpPr>
        <p:sp>
          <p:nvSpPr>
            <p:cNvPr id="42" name=""/>
            <p:cNvSpPr/>
            <p:nvPr/>
          </p:nvSpPr>
          <p:spPr>
            <a:xfrm>
              <a:off x="3703680" y="855720"/>
              <a:ext cx="1162080" cy="3049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Main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703680" y="1617840"/>
              <a:ext cx="1162080" cy="3427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03680" y="1236600"/>
              <a:ext cx="1162080" cy="3240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79480" y="91296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file/pro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38440" y="2171880"/>
              <a:ext cx="134316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 Libra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36720" y="2558880"/>
              <a:ext cx="152388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pplication execu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27160" y="1389240"/>
              <a:ext cx="114300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make/N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" name=""/>
            <p:cNvCxnSpPr>
              <a:stCxn id="42" idx="1"/>
              <a:endCxn id="48" idx="7"/>
            </p:cNvCxnSpPr>
            <p:nvPr/>
          </p:nvCxnSpPr>
          <p:spPr>
            <a:xfrm flipH="1">
              <a:off x="3002760" y="1008360"/>
              <a:ext cx="701280" cy="47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" name=""/>
            <p:cNvSpPr/>
            <p:nvPr/>
          </p:nvSpPr>
          <p:spPr>
            <a:xfrm>
              <a:off x="3921120" y="2714760"/>
              <a:ext cx="831960" cy="10332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ob op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0560" y="303120"/>
              <a:ext cx="32076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3036960" y="1888920"/>
              <a:ext cx="48744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122640" y="1351080"/>
              <a:ext cx="5810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171600" y="1722600"/>
              <a:ext cx="53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" name=""/>
            <p:cNvCxnSpPr>
              <a:stCxn id="48" idx="4"/>
              <a:endCxn id="47" idx="0"/>
            </p:cNvCxnSpPr>
            <p:nvPr/>
          </p:nvCxnSpPr>
          <p:spPr>
            <a:xfrm>
              <a:off x="2598840" y="1998720"/>
              <a:ext cx="360" cy="56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152360" y="3040200"/>
              <a:ext cx="2400480" cy="2004840"/>
              <a:chOff x="1152360" y="3040200"/>
              <a:chExt cx="2400480" cy="2004840"/>
            </a:xfrm>
          </p:grpSpPr>
          <p:sp>
            <p:nvSpPr>
              <p:cNvPr id="57" name=""/>
              <p:cNvSpPr/>
              <p:nvPr/>
            </p:nvSpPr>
            <p:spPr>
              <a:xfrm>
                <a:off x="1152360" y="3040200"/>
                <a:ext cx="2400480" cy="2004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795320" y="3672000"/>
                <a:ext cx="1396800" cy="1014120"/>
                <a:chOff x="1795320" y="3672000"/>
                <a:chExt cx="1396800" cy="10141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795320" y="3672000"/>
                  <a:ext cx="1396800" cy="10141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178000" y="3830760"/>
                  <a:ext cx="841320" cy="48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jo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877760" y="4371840"/>
                  <a:ext cx="976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nviron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1200600" y="3097440"/>
                <a:ext cx="139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atch machi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3" name=""/>
            <p:cNvCxnSpPr>
              <a:stCxn id="47" idx="2"/>
              <a:endCxn id="60" idx="0"/>
            </p:cNvCxnSpPr>
            <p:nvPr/>
          </p:nvCxnSpPr>
          <p:spPr>
            <a:xfrm>
              <a:off x="2598840" y="2787480"/>
              <a:ext cx="360" cy="104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0" idx="1"/>
              <a:endCxn id="60" idx="7"/>
            </p:cNvCxnSpPr>
            <p:nvPr/>
          </p:nvCxnSpPr>
          <p:spPr>
            <a:xfrm flipH="1">
              <a:off x="2896200" y="3231360"/>
              <a:ext cx="1025280" cy="67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312840" y="8424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86080" y="814320"/>
              <a:ext cx="2822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990720" y="484200"/>
              <a:ext cx="571320" cy="428760"/>
              <a:chOff x="990720" y="484200"/>
              <a:chExt cx="571320" cy="428760"/>
            </a:xfrm>
          </p:grpSpPr>
          <p:sp>
            <p:nvSpPr>
              <p:cNvPr id="68" name=""/>
              <p:cNvSpPr/>
              <p:nvPr/>
            </p:nvSpPr>
            <p:spPr>
              <a:xfrm>
                <a:off x="990720" y="484200"/>
                <a:ext cx="571320" cy="428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020240" y="5605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M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075040" y="1141560"/>
              <a:ext cx="2570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5600" y="17640"/>
              <a:ext cx="4705200" cy="509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7:21:54Z</dcterms:created>
  <dc:creator>pdm</dc:creator>
  <dc:description/>
  <dc:language>en-US</dc:language>
  <cp:lastModifiedBy>Marco Cattaneo</cp:lastModifiedBy>
  <dcterms:modified xsi:type="dcterms:W3CDTF">2001-01-15T15:42:19Z</dcterms:modified>
  <cp:revision>9</cp:revision>
  <dc:subject/>
  <dc:title>No Slide Title</dc:title>
</cp:coreProperties>
</file>