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0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F67-0DDD-44E7-81B5-3642DA55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6C6-067B-4706-B61F-42A72E0B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1D5F-0AB6-4F17-9937-B4517CEA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0160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295720"/>
            <a:ext cx="15955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E5C5-C1F5-4C16-B7FD-C7C451A1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362D-F507-445E-90D0-EABA9C7B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0476-593E-4B99-9DC0-11120E81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8CB7-9D23-409D-B4B9-B3309C741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2FA3-3100-437F-A5A4-8308F1A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39840"/>
            <a:ext cx="4956120" cy="29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F9C-12A7-475A-AB9F-74DDC78E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036-1BB5-499C-BB05-BB8DFB73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29572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154-5D34-44A8-848E-5FF36C5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01600"/>
            <a:ext cx="241848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295720"/>
            <a:ext cx="4956120" cy="109008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C31-D526-4352-87BC-EAD63185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39840"/>
            <a:ext cx="4956120" cy="63504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01600"/>
            <a:ext cx="4956120" cy="22860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rmAutofit fontScale="88000"/>
          </a:bodyPr>
          <a:p>
            <a:pPr marL="185400" indent="-1854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33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17400" indent="-123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64720" indent="-124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10600" indent="-12276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470040"/>
            <a:ext cx="121428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470040"/>
            <a:ext cx="184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470040"/>
            <a:ext cx="1214640" cy="253800"/>
          </a:xfrm>
          <a:prstGeom prst="rect">
            <a:avLst/>
          </a:prstGeom>
          <a:noFill/>
          <a:ln w="0">
            <a:noFill/>
          </a:ln>
        </p:spPr>
        <p:txBody>
          <a:bodyPr lIns="56160" rIns="5616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0520"/>
                <a:tab algn="l" pos="1120680"/>
                <a:tab algn="l" pos="1681200"/>
                <a:tab algn="l" pos="2241720"/>
                <a:tab algn="l" pos="2801880"/>
                <a:tab algn="l" pos="3362400"/>
                <a:tab algn="l" pos="3922560"/>
                <a:tab algn="l" pos="4483080"/>
                <a:tab algn="l" pos="5043600"/>
                <a:tab algn="l" pos="5603760"/>
                <a:tab algn="l" pos="6164280"/>
                <a:tab algn="l" pos="6724800"/>
                <a:tab algn="l" pos="7284960"/>
                <a:tab algn="l" pos="7845480"/>
                <a:tab algn="l" pos="8405640"/>
                <a:tab algn="l" pos="8966160"/>
                <a:tab algn="l" pos="9526680"/>
                <a:tab algn="l" pos="10086840"/>
                <a:tab algn="l" pos="10647360"/>
              </a:tabLst>
            </a:pPr>
            <a:fld id="{0FD35721-283E-4E42-BD55-68609BA56BAB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228600"/>
            <a:ext cx="5715000" cy="354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26440" y="229320"/>
            <a:ext cx="1881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Gaudi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8160" y="49320"/>
            <a:ext cx="2057400" cy="838080"/>
            <a:chOff x="38160" y="49320"/>
            <a:chExt cx="2057400" cy="838080"/>
          </a:xfrm>
        </p:grpSpPr>
        <p:sp>
          <p:nvSpPr>
            <p:cNvPr id="44" name=""/>
            <p:cNvSpPr/>
            <p:nvPr/>
          </p:nvSpPr>
          <p:spPr>
            <a:xfrm>
              <a:off x="38160" y="49320"/>
              <a:ext cx="2057400" cy="83808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1400" y="331560"/>
              <a:ext cx="89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7640" y="529920"/>
              <a:ext cx="1446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36800" y="320400"/>
              <a:ext cx="193680" cy="156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800" y="58248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36800" y="741240"/>
              <a:ext cx="29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6560" y="691920"/>
              <a:ext cx="1562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2120" y="102960"/>
              <a:ext cx="77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800" y="91800"/>
              <a:ext cx="193680" cy="156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7640" y="34920"/>
            <a:ext cx="5757840" cy="373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76320"/>
            <a:ext cx="1828800" cy="38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1222200"/>
            <a:ext cx="3498840" cy="2543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429000" y="1752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69800" y="26668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2514600" y="2819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8640" y="1752480"/>
            <a:ext cx="68580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886200" y="274320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428640" y="274320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1066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4419720" y="32004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428640" y="1219320"/>
            <a:ext cx="1981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181480" y="2286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10080" y="121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9072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2895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32767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35812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82880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43000" y="2133720"/>
            <a:ext cx="3049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15238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0" y="22860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95680" y="1066680"/>
            <a:ext cx="6098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428640" y="25146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17524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17524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1752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1752480"/>
            <a:ext cx="1371600" cy="195588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429000" y="1828800"/>
            <a:ext cx="1447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988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743200" y="23623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048120"/>
            <a:ext cx="6098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52480" y="3048120"/>
            <a:ext cx="914400" cy="3999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505320"/>
            <a:ext cx="2782800" cy="2221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14479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76212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320" y="990720"/>
            <a:ext cx="60948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8120" y="609480"/>
            <a:ext cx="723960" cy="47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2895480"/>
            <a:ext cx="64764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0200" y="182880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81080"/>
            <a:ext cx="72396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2590920"/>
            <a:ext cx="64800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971800"/>
            <a:ext cx="647640" cy="3189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2057400"/>
            <a:ext cx="84744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1371600"/>
            <a:ext cx="84780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3352680"/>
            <a:ext cx="648000" cy="3193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1295280"/>
            <a:ext cx="77148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1295280"/>
            <a:ext cx="720720" cy="474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685800" y="990720"/>
            <a:ext cx="2362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71280" y="1295280"/>
            <a:ext cx="1747800" cy="260352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82880" y="139680"/>
            <a:ext cx="1003320" cy="8892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14800" y="3048120"/>
            <a:ext cx="609480" cy="3175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343400" y="274320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2286000"/>
            <a:ext cx="720720" cy="476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1-19T17:25:25Z</dcterms:modified>
  <cp:revision>36</cp:revision>
  <dc:subject/>
  <dc:title>No Slide Title</dc:title>
</cp:coreProperties>
</file>