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191000" cy="25923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6051-AF88-4F22-8682-74709812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CF7-3C85-4F06-B5EA-C4A016B5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62E-DB11-420E-A3E1-E1F38748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1884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23760" y="7477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428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1884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23760" y="1561320"/>
            <a:ext cx="11469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D3CC-B7FB-4427-B18D-953BFD00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82B3-A1A5-4DD0-B00F-5E0CEC37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DCD-945E-41AD-B14C-4CD6C5CEC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AF8-E500-49CD-954E-490FA0BD3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6D0-D1A8-4EE5-8A4C-97DBB808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4280" y="230040"/>
            <a:ext cx="35625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1D1-C026-4F6D-A316-5DBE5521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FE36-973B-4D70-8209-D81B5F6C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0200" y="15613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DD1-0479-4B4B-9ECC-B26FE1D9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428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0200" y="747720"/>
            <a:ext cx="173844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4280" y="1561320"/>
            <a:ext cx="3562560" cy="74268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D47-C8BB-4E2B-8B4C-74A420DD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230040"/>
            <a:ext cx="3562560" cy="4320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ctr">
            <a:noAutofit/>
          </a:bodyPr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747720"/>
            <a:ext cx="3562560" cy="155736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rmAutofit fontScale="80000"/>
          </a:bodyPr>
          <a:p>
            <a:pPr marL="132120" indent="-13212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84400" indent="-1080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39200" indent="-878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614520" indent="-874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90920" indent="-8856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3920" y="2360160"/>
            <a:ext cx="87300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2080" y="2360160"/>
            <a:ext cx="13269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03480" y="2360160"/>
            <a:ext cx="873360" cy="174600"/>
          </a:xfrm>
          <a:prstGeom prst="rect">
            <a:avLst/>
          </a:prstGeom>
          <a:noFill/>
          <a:ln w="0">
            <a:noFill/>
          </a:ln>
        </p:spPr>
        <p:txBody>
          <a:bodyPr lIns="43920" rIns="43920" tIns="21960" bIns="21960" anchor="t">
            <a:noAutofit/>
          </a:bodyPr>
          <a:lstStyle>
            <a:lvl1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CAC05FA2-67C2-45DD-8335-1DF94C05B5B4}" type="slidenum"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1280" y="34920"/>
            <a:ext cx="4050000" cy="2523960"/>
            <a:chOff x="71280" y="34920"/>
            <a:chExt cx="4050000" cy="2523960"/>
          </a:xfrm>
        </p:grpSpPr>
        <p:sp>
          <p:nvSpPr>
            <p:cNvPr id="42" name=""/>
            <p:cNvSpPr/>
            <p:nvPr/>
          </p:nvSpPr>
          <p:spPr>
            <a:xfrm>
              <a:off x="71280" y="34920"/>
              <a:ext cx="4050000" cy="252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457360" y="523800"/>
              <a:ext cx="1451160" cy="166212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671920" y="992160"/>
              <a:ext cx="1014120" cy="49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Concrete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41200" y="820800"/>
              <a:ext cx="1150920" cy="228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Event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 flipV="1">
              <a:off x="1862280" y="309600"/>
              <a:ext cx="799920" cy="682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36760" y="779400"/>
              <a:ext cx="83016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2150640" y="949320"/>
              <a:ext cx="520920" cy="169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36760" y="1162080"/>
              <a:ext cx="8301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DataProvider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2158560" y="1263600"/>
              <a:ext cx="513000" cy="69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36760" y="1503360"/>
              <a:ext cx="7030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2151000" y="1460520"/>
              <a:ext cx="511200" cy="214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36760" y="1900080"/>
              <a:ext cx="6192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2900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429000" y="779040"/>
              <a:ext cx="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86160" y="693720"/>
              <a:ext cx="856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63840" y="788760"/>
              <a:ext cx="459000" cy="1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roper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606760" y="1884240"/>
              <a:ext cx="45864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557440" y="1936800"/>
              <a:ext cx="40500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A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197160" y="1884240"/>
              <a:ext cx="459000" cy="225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147840" y="1936800"/>
              <a:ext cx="393840" cy="11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ObjectB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809800" y="1487520"/>
              <a:ext cx="19044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63880" y="1452600"/>
              <a:ext cx="792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65" y="0"/>
                  </a:moveTo>
                  <a:lnTo>
                    <a:pt x="0" y="27"/>
                  </a:lnTo>
                  <a:lnTo>
                    <a:pt x="24" y="80"/>
                  </a:lnTo>
                  <a:lnTo>
                    <a:pt x="90" y="53"/>
                  </a:lnTo>
                  <a:lnTo>
                    <a:pt x="6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 flipV="1">
              <a:off x="3255840" y="1487520"/>
              <a:ext cx="193680" cy="41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11560" y="1452600"/>
              <a:ext cx="81000" cy="74520"/>
            </a:xfrm>
            <a:custGeom>
              <a:avLst/>
              <a:gdLst/>
              <a:ahLst/>
              <a:rect l="l" t="t" r="r" b="b"/>
              <a:pathLst>
                <a:path w="90" h="80">
                  <a:moveTo>
                    <a:pt x="24" y="0"/>
                  </a:moveTo>
                  <a:lnTo>
                    <a:pt x="0" y="53"/>
                  </a:lnTo>
                  <a:lnTo>
                    <a:pt x="65" y="80"/>
                  </a:lnTo>
                  <a:lnTo>
                    <a:pt x="90" y="27"/>
                  </a:lnTo>
                  <a:lnTo>
                    <a:pt x="2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720" rIns="9072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19520" y="74520"/>
              <a:ext cx="1440" cy="61128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759040" y="790560"/>
              <a:ext cx="5158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Algorithm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2819520" y="780480"/>
              <a:ext cx="0" cy="21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774880" y="693720"/>
              <a:ext cx="856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75040" y="907920"/>
              <a:ext cx="8388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1200" y="120492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DetectorData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75040" y="12906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1200" y="1546200"/>
              <a:ext cx="1150920" cy="2271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Histogram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075040" y="1630440"/>
              <a:ext cx="83880" cy="87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6560" bIns="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41200" y="192888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Message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075040" y="201456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1200" y="2270160"/>
              <a:ext cx="1150920" cy="2268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47920" y="2406600"/>
              <a:ext cx="98568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ParticlePropertySvc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92120" y="9493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92120" y="13334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392120" y="167472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392120" y="205740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92120" y="2355840"/>
              <a:ext cx="68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075040" y="2313000"/>
              <a:ext cx="83880" cy="85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5840" bIns="15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158560" y="1503360"/>
              <a:ext cx="546120" cy="511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84040" y="182520"/>
              <a:ext cx="1152720" cy="22716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Comic Sans MS"/>
                </a:rPr>
                <a:t>ApplicationMg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563840" y="57240"/>
              <a:ext cx="579240" cy="1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45360" bIns="45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Comic Sans MS"/>
                </a:rPr>
                <a:t>ISvcLocator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436760" y="268200"/>
              <a:ext cx="33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776240" y="225360"/>
              <a:ext cx="86040" cy="84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tIns="14400" bIns="14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158920" y="1503360"/>
              <a:ext cx="641520" cy="809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9072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2T18:40:50Z</dcterms:created>
  <dc:creator>Marco Cattaneo</dc:creator>
  <dc:description/>
  <dc:language>en-US</dc:language>
  <cp:lastModifiedBy>cattaneo</cp:lastModifiedBy>
  <dcterms:modified xsi:type="dcterms:W3CDTF">2001-11-30T12:33:27Z</dcterms:modified>
  <cp:revision>8</cp:revision>
  <dc:subject/>
  <dc:title>No Slide Title</dc:title>
</cp:coreProperties>
</file>