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1145-8458-4263-9DA3-F5496765D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4B2A-E4B4-4E1D-8F40-0D37FAA6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CEF-979F-481B-9D4A-8272C838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7F9E-6A9C-4D47-B5BD-F7FE5E73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526E-85AD-445E-AD1D-17132B6E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4552-42B0-4CC5-9F7E-2A575EEE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4BB5-8783-42E0-8F79-25DE2342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CEF1-3D29-4682-8350-670FD165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586-01AD-4990-B6E2-2E7B73DB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0101-A4AE-462E-B90E-2715E9D9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9F3-2E84-4F81-A4D5-0462763D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404-CAC2-4AEE-9183-3CCFDE46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8098-5EA9-425A-9944-A53A1148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1120" y="266688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29160" y="1859040"/>
            <a:ext cx="1414440" cy="82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01880" y="1996920"/>
            <a:ext cx="126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850920" y="1447920"/>
            <a:ext cx="168120" cy="412200"/>
            <a:chOff x="3850920" y="1447920"/>
            <a:chExt cx="168120" cy="412200"/>
          </a:xfrm>
        </p:grpSpPr>
        <p:sp>
          <p:nvSpPr>
            <p:cNvPr id="45" name=""/>
            <p:cNvSpPr/>
            <p:nvPr/>
          </p:nvSpPr>
          <p:spPr>
            <a:xfrm rot="5400000">
              <a:off x="385776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93516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4373640" y="144792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4520880" y="1447920"/>
            <a:ext cx="168120" cy="412200"/>
            <a:chOff x="4520880" y="1447920"/>
            <a:chExt cx="168120" cy="412200"/>
          </a:xfrm>
        </p:grpSpPr>
        <p:sp>
          <p:nvSpPr>
            <p:cNvPr id="49" name=""/>
            <p:cNvSpPr/>
            <p:nvPr/>
          </p:nvSpPr>
          <p:spPr>
            <a:xfrm rot="5400000">
              <a:off x="4527720" y="1440720"/>
              <a:ext cx="154080" cy="168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1602000"/>
              <a:ext cx="0" cy="258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800600" y="3581280"/>
            <a:ext cx="1638360" cy="822600"/>
            <a:chOff x="4800600" y="3581280"/>
            <a:chExt cx="1638360" cy="822600"/>
          </a:xfrm>
        </p:grpSpPr>
        <p:sp>
          <p:nvSpPr>
            <p:cNvPr id="52" name=""/>
            <p:cNvSpPr/>
            <p:nvPr/>
          </p:nvSpPr>
          <p:spPr>
            <a:xfrm>
              <a:off x="4875120" y="3581280"/>
              <a:ext cx="1414800" cy="82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00600" y="3855240"/>
              <a:ext cx="1638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Sub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5943600" y="411480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ub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715000" y="5157720"/>
            <a:ext cx="1652760" cy="709560"/>
            <a:chOff x="5715000" y="5157720"/>
            <a:chExt cx="1652760" cy="709560"/>
          </a:xfrm>
        </p:grpSpPr>
        <p:sp>
          <p:nvSpPr>
            <p:cNvPr id="56" name=""/>
            <p:cNvSpPr/>
            <p:nvPr/>
          </p:nvSpPr>
          <p:spPr>
            <a:xfrm>
              <a:off x="5789880" y="5157720"/>
              <a:ext cx="1427400" cy="709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15000" y="5397840"/>
              <a:ext cx="165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5486400" y="4419720"/>
            <a:ext cx="176040" cy="142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562720" y="3124080"/>
            <a:ext cx="0" cy="48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3124080"/>
            <a:ext cx="243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144792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6324840" y="3886200"/>
            <a:ext cx="448920" cy="154080"/>
            <a:chOff x="6324840" y="3886200"/>
            <a:chExt cx="448920" cy="154080"/>
          </a:xfrm>
        </p:grpSpPr>
        <p:sp>
          <p:nvSpPr>
            <p:cNvPr id="63" name=""/>
            <p:cNvSpPr/>
            <p:nvPr/>
          </p:nvSpPr>
          <p:spPr>
            <a:xfrm rot="10800000">
              <a:off x="66060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6324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790800" y="5181480"/>
            <a:ext cx="1562400" cy="685800"/>
            <a:chOff x="3790800" y="5181480"/>
            <a:chExt cx="1562400" cy="685800"/>
          </a:xfrm>
        </p:grpSpPr>
        <p:sp>
          <p:nvSpPr>
            <p:cNvPr id="66" name=""/>
            <p:cNvSpPr/>
            <p:nvPr/>
          </p:nvSpPr>
          <p:spPr>
            <a:xfrm>
              <a:off x="3861720" y="5181480"/>
              <a:ext cx="1349280" cy="68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790800" y="5413680"/>
              <a:ext cx="156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Tool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457200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981080" y="3886200"/>
            <a:ext cx="448920" cy="154080"/>
            <a:chOff x="1981080" y="3886200"/>
            <a:chExt cx="448920" cy="154080"/>
          </a:xfrm>
        </p:grpSpPr>
        <p:sp>
          <p:nvSpPr>
            <p:cNvPr id="71" name=""/>
            <p:cNvSpPr/>
            <p:nvPr/>
          </p:nvSpPr>
          <p:spPr>
            <a:xfrm>
              <a:off x="19810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488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362320" y="3124080"/>
            <a:ext cx="1638360" cy="1233360"/>
            <a:chOff x="2362320" y="3124080"/>
            <a:chExt cx="1638360" cy="1233360"/>
          </a:xfrm>
        </p:grpSpPr>
        <p:grpSp>
          <p:nvGrpSpPr>
            <p:cNvPr id="74" name=""/>
            <p:cNvGrpSpPr/>
            <p:nvPr/>
          </p:nvGrpSpPr>
          <p:grpSpPr>
            <a:xfrm>
              <a:off x="2362320" y="3535200"/>
              <a:ext cx="1638360" cy="822240"/>
              <a:chOff x="2362320" y="3535200"/>
              <a:chExt cx="1638360" cy="822240"/>
            </a:xfrm>
          </p:grpSpPr>
          <p:sp>
            <p:nvSpPr>
              <p:cNvPr id="75" name=""/>
              <p:cNvSpPr/>
              <p:nvPr/>
            </p:nvSpPr>
            <p:spPr>
              <a:xfrm>
                <a:off x="2436840" y="3535200"/>
                <a:ext cx="1414800" cy="822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362320" y="3808800"/>
                <a:ext cx="1638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 flipV="1">
              <a:off x="3124440" y="31240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990720" y="414504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ConreteToo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523880" y="3886200"/>
            <a:ext cx="448920" cy="154080"/>
            <a:chOff x="1523880" y="3886200"/>
            <a:chExt cx="448920" cy="154080"/>
          </a:xfrm>
        </p:grpSpPr>
        <p:sp>
          <p:nvSpPr>
            <p:cNvPr id="80" name=""/>
            <p:cNvSpPr/>
            <p:nvPr/>
          </p:nvSpPr>
          <p:spPr>
            <a:xfrm>
              <a:off x="152388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916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 rot="16256400">
            <a:off x="666720" y="3274560"/>
            <a:ext cx="15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782040" y="3886200"/>
            <a:ext cx="448920" cy="154080"/>
            <a:chOff x="6782040" y="3886200"/>
            <a:chExt cx="448920" cy="154080"/>
          </a:xfrm>
        </p:grpSpPr>
        <p:sp>
          <p:nvSpPr>
            <p:cNvPr id="84" name=""/>
            <p:cNvSpPr/>
            <p:nvPr/>
          </p:nvSpPr>
          <p:spPr>
            <a:xfrm rot="10800000">
              <a:off x="7063200" y="3886200"/>
              <a:ext cx="167760" cy="154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6782040" y="3963240"/>
              <a:ext cx="281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705720" y="3581280"/>
            <a:ext cx="15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AlgT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2720" y="4572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72000" y="4800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0:00:55Z</dcterms:created>
  <dc:creator>gcorti</dc:creator>
  <dc:description/>
  <dc:language>en-US</dc:language>
  <cp:lastModifiedBy>gcorti2</cp:lastModifiedBy>
  <dcterms:modified xsi:type="dcterms:W3CDTF">2001-12-19T10:16:13Z</dcterms:modified>
  <cp:revision>4</cp:revision>
  <dc:subject/>
  <dc:title>No Slide Title</dc:title>
</cp:coreProperties>
</file>