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887788" cy="2019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E0AF-2FE8-41C0-9999-12D4BEE49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0E83-4BBF-434C-B5CF-8DB0ABA1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C7F8-AE7A-4187-AE9B-47FBE8CC4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40832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524680" y="58212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9160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40832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524680" y="1215360"/>
            <a:ext cx="10630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187B-5C6D-481A-8BD4-2CE948D66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296E-C734-44AE-948C-A189240D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36D-6D87-460C-9851-72CF4B60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337-7DCA-4C83-9558-02A488E8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27C-C189-4660-98A4-A5571E64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91600" y="178920"/>
            <a:ext cx="3302280" cy="156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E19-91EF-4F5E-ABA7-043852AC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16E9-31C3-4BB9-9ACC-E816933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83960" y="121536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893C-C839-4F3F-9794-1BEE6372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160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983960" y="582120"/>
            <a:ext cx="161136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91600" y="1215360"/>
            <a:ext cx="3302280" cy="5778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862F-F427-4EFF-9097-C1335D56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1600" y="178920"/>
            <a:ext cx="3302280" cy="3366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ctr">
            <a:noAutofit/>
          </a:bodyPr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1600" y="582120"/>
            <a:ext cx="3302280" cy="12114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rmAutofit fontScale="72000"/>
          </a:bodyPr>
          <a:p>
            <a:pPr marL="99360" indent="-9936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640" indent="-8208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3322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•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3" marL="46620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–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4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5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6" marL="598680" indent="-66240">
              <a:spcBef>
                <a:spcPts val="326"/>
              </a:spcBef>
              <a:buClr>
                <a:srgbClr val="000000"/>
              </a:buClr>
              <a:buFont typeface="Times New Roman"/>
              <a:buChar char="»"/>
              <a:tabLst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9160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326960" y="1839600"/>
            <a:ext cx="123156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784240" y="1839600"/>
            <a:ext cx="809640" cy="135000"/>
          </a:xfrm>
          <a:prstGeom prst="rect">
            <a:avLst/>
          </a:prstGeom>
          <a:noFill/>
          <a:ln w="0">
            <a:noFill/>
          </a:ln>
        </p:spPr>
        <p:txBody>
          <a:bodyPr lIns="37080" rIns="37080" tIns="18360" bIns="18360" anchor="t">
            <a:noAutofit/>
          </a:bodyPr>
          <a:lstStyle>
            <a:lvl1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69720"/>
                <a:tab algn="l" pos="739800"/>
                <a:tab algn="l" pos="1109520"/>
                <a:tab algn="l" pos="1479600"/>
                <a:tab algn="l" pos="1849320"/>
                <a:tab algn="l" pos="2219400"/>
                <a:tab algn="l" pos="2589120"/>
                <a:tab algn="l" pos="2959200"/>
                <a:tab algn="l" pos="3328920"/>
                <a:tab algn="l" pos="3699000"/>
                <a:tab algn="l" pos="4068720"/>
                <a:tab algn="l" pos="4438800"/>
                <a:tab algn="l" pos="4808520"/>
                <a:tab algn="l" pos="5178600"/>
                <a:tab algn="l" pos="5548320"/>
                <a:tab algn="l" pos="5918040"/>
                <a:tab algn="l" pos="6288120"/>
                <a:tab algn="l" pos="6657840"/>
                <a:tab algn="l" pos="7027920"/>
                <a:tab algn="l" pos="7397640"/>
              </a:tabLst>
            </a:pPr>
            <a:fld id="{A14AF488-BB30-476D-9828-44ABA503DB9C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4920" y="17640"/>
            <a:ext cx="3809880" cy="1981080"/>
            <a:chOff x="34920" y="17640"/>
            <a:chExt cx="3809880" cy="1981080"/>
          </a:xfrm>
        </p:grpSpPr>
        <p:pic>
          <p:nvPicPr>
            <p:cNvPr id="42" name="folder" descr=""/>
            <p:cNvPicPr/>
            <p:nvPr/>
          </p:nvPicPr>
          <p:blipFill>
            <a:blip r:embed="rId1"/>
            <a:stretch/>
          </p:blipFill>
          <p:spPr>
            <a:xfrm>
              <a:off x="2625840" y="779400"/>
              <a:ext cx="428400" cy="3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folder" descr=""/>
            <p:cNvPicPr/>
            <p:nvPr/>
          </p:nvPicPr>
          <p:blipFill>
            <a:blip r:embed="rId2"/>
            <a:stretch/>
          </p:blipFill>
          <p:spPr>
            <a:xfrm>
              <a:off x="2168640" y="4748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2397240" y="779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397240" y="9320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67440" y="550800"/>
              <a:ext cx="535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928960" y="85572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yTrack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folder" descr=""/>
            <p:cNvPicPr/>
            <p:nvPr/>
          </p:nvPicPr>
          <p:blipFill>
            <a:blip r:embed="rId3"/>
            <a:stretch/>
          </p:blipFill>
          <p:spPr>
            <a:xfrm>
              <a:off x="2625840" y="116064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397240" y="131292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folder" descr=""/>
            <p:cNvPicPr/>
            <p:nvPr/>
          </p:nvPicPr>
          <p:blipFill>
            <a:blip r:embed="rId4"/>
            <a:stretch/>
          </p:blipFill>
          <p:spPr>
            <a:xfrm>
              <a:off x="2625840" y="1541520"/>
              <a:ext cx="428400" cy="3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397240" y="1693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482840" y="246240"/>
              <a:ext cx="609480" cy="228600"/>
            </a:xfrm>
            <a:prstGeom prst="wedgeRoundRectCallout">
              <a:avLst>
                <a:gd name="adj1" fmla="val 84375"/>
                <a:gd name="adj2" fmla="val 132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Ev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11240" y="627120"/>
              <a:ext cx="1981080" cy="228600"/>
            </a:xfrm>
            <a:prstGeom prst="wedgeRoundRectCallout">
              <a:avLst>
                <a:gd name="adj1" fmla="val 84375"/>
                <a:gd name="adj2" fmla="val 107638"/>
                <a:gd name="adj3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urier New"/>
                </a:rPr>
                <a:t>ObjectVector&lt;MyTrack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920" y="17640"/>
              <a:ext cx="3809880" cy="19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6T09:27:26Z</dcterms:created>
  <dc:creator>ALEPH-LHCB</dc:creator>
  <dc:description/>
  <dc:language>en-US</dc:language>
  <cp:lastModifiedBy>ALEPH-LHCB</cp:lastModifiedBy>
  <dcterms:modified xsi:type="dcterms:W3CDTF">2001-01-16T09:57:49Z</dcterms:modified>
  <cp:revision>1</cp:revision>
  <dc:subject/>
  <dc:title>PowerPoint Presentation</dc:title>
</cp:coreProperties>
</file>