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180013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98B2-9FC5-42BA-A192-C70F39205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44038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8440" y="3097800"/>
            <a:ext cx="44038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77C4-CE4A-4FEC-BD23-7D35ECF6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844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64528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27CF-C3EE-4CC7-96B5-9B0C625BE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77400" y="148608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366360" y="148608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8440" y="309780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77400" y="309780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366360" y="3097800"/>
            <a:ext cx="14176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0727-9C1D-4837-9EAA-76B38B57E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8440" y="1486080"/>
            <a:ext cx="440388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0029-87F8-422B-BAE6-8A3691484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440388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CAA0-A4D9-4B18-881A-B6C834003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AA4B-8275-4147-8AAA-2E90B061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3388-EB07-45E8-981D-FD160BD7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8440" y="456840"/>
            <a:ext cx="440388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0E27-7C03-44C7-80C1-E6A230F1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844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C111-9F3F-4690-A9BF-CF2E5BEF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645280" y="309780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495D-6E31-4A91-9658-FFDB4500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844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645280" y="1486080"/>
            <a:ext cx="214884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8440" y="3097800"/>
            <a:ext cx="4403880" cy="14716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7F1D-E546-4E3E-B393-1D8A338A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8440" y="456840"/>
            <a:ext cx="4403880" cy="857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ctr">
            <a:noAutofit/>
          </a:bodyPr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8440" y="1486080"/>
            <a:ext cx="4403880" cy="3085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rmAutofit fontScale="96000"/>
          </a:bodyPr>
          <a:p>
            <a:pPr marL="234360" indent="-23436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509040" indent="-19512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783360" indent="-15696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3" marL="109728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4" marL="141084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5" marL="141084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6" marL="1410840" indent="-1566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8440" y="4686480"/>
            <a:ext cx="1079640" cy="342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Autofit/>
          </a:bodyPr>
          <a:lstStyle>
            <a:lvl1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769760" y="4686480"/>
            <a:ext cx="1641240" cy="342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Autofit/>
          </a:bodyPr>
          <a:lstStyle>
            <a:lvl1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712680" y="4686480"/>
            <a:ext cx="1079640" cy="342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32760" bIns="32760" anchor="t">
            <a:noAutofit/>
          </a:bodyPr>
          <a:lstStyle>
            <a:lvl1pPr indent="0" algn="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652320"/>
                <a:tab algn="l" pos="1305000"/>
                <a:tab algn="l" pos="1957320"/>
                <a:tab algn="l" pos="2610000"/>
                <a:tab algn="l" pos="3262320"/>
                <a:tab algn="l" pos="3914640"/>
                <a:tab algn="l" pos="4567320"/>
                <a:tab algn="l" pos="5219640"/>
                <a:tab algn="l" pos="5872320"/>
                <a:tab algn="l" pos="6524640"/>
                <a:tab algn="l" pos="7176960"/>
                <a:tab algn="l" pos="7829640"/>
                <a:tab algn="l" pos="8481960"/>
                <a:tab algn="l" pos="9134640"/>
                <a:tab algn="l" pos="9786960"/>
                <a:tab algn="l" pos="10439280"/>
              </a:tabLst>
            </a:pPr>
            <a:fld id="{62AE6867-C3D4-4621-BC44-03EF9F386D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5600" y="17640"/>
            <a:ext cx="4705200" cy="5095800"/>
            <a:chOff x="255600" y="17640"/>
            <a:chExt cx="4705200" cy="5095800"/>
          </a:xfrm>
        </p:grpSpPr>
        <p:sp>
          <p:nvSpPr>
            <p:cNvPr id="42" name=""/>
            <p:cNvSpPr/>
            <p:nvPr/>
          </p:nvSpPr>
          <p:spPr>
            <a:xfrm>
              <a:off x="3703680" y="855720"/>
              <a:ext cx="1162080" cy="30492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audiMain.c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703680" y="1617840"/>
              <a:ext cx="1162080" cy="34272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lloWorld.c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703680" y="1236600"/>
              <a:ext cx="1162080" cy="3240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elloWorld.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779480" y="912960"/>
              <a:ext cx="137160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kefile/pro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538440" y="2171880"/>
              <a:ext cx="134316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audi Libra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836720" y="2558880"/>
              <a:ext cx="152388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pplication execu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027160" y="1389240"/>
              <a:ext cx="1143000" cy="609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make/Nmak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" name=""/>
            <p:cNvCxnSpPr>
              <a:stCxn id="42" idx="1"/>
              <a:endCxn id="48" idx="7"/>
            </p:cNvCxnSpPr>
            <p:nvPr/>
          </p:nvCxnSpPr>
          <p:spPr>
            <a:xfrm flipH="1">
              <a:off x="3002760" y="1008360"/>
              <a:ext cx="701280" cy="47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" name=""/>
            <p:cNvSpPr/>
            <p:nvPr/>
          </p:nvSpPr>
          <p:spPr>
            <a:xfrm>
              <a:off x="3921120" y="2714760"/>
              <a:ext cx="831960" cy="10332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ob op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0560" y="303120"/>
              <a:ext cx="320760" cy="2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3036960" y="1888920"/>
              <a:ext cx="487440" cy="40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3122640" y="1351080"/>
              <a:ext cx="58104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171600" y="1722600"/>
              <a:ext cx="53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" name=""/>
            <p:cNvCxnSpPr>
              <a:stCxn id="48" idx="4"/>
              <a:endCxn id="47" idx="0"/>
            </p:cNvCxnSpPr>
            <p:nvPr/>
          </p:nvCxnSpPr>
          <p:spPr>
            <a:xfrm>
              <a:off x="2598840" y="1998720"/>
              <a:ext cx="360" cy="560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152360" y="3040200"/>
              <a:ext cx="2400480" cy="2004840"/>
              <a:chOff x="1152360" y="3040200"/>
              <a:chExt cx="2400480" cy="2004840"/>
            </a:xfrm>
          </p:grpSpPr>
          <p:sp>
            <p:nvSpPr>
              <p:cNvPr id="57" name=""/>
              <p:cNvSpPr/>
              <p:nvPr/>
            </p:nvSpPr>
            <p:spPr>
              <a:xfrm>
                <a:off x="1152360" y="3040200"/>
                <a:ext cx="2400480" cy="2004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795320" y="3672000"/>
                <a:ext cx="1396800" cy="1014120"/>
                <a:chOff x="1795320" y="3672000"/>
                <a:chExt cx="1396800" cy="101412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1795320" y="3672000"/>
                  <a:ext cx="1396800" cy="10141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178000" y="3830760"/>
                  <a:ext cx="841320" cy="4824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jo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1877760" y="4371840"/>
                  <a:ext cx="9763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Environm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1200600" y="3097440"/>
                <a:ext cx="1392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Batch machi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3" name=""/>
            <p:cNvCxnSpPr>
              <a:stCxn id="47" idx="2"/>
              <a:endCxn id="60" idx="0"/>
            </p:cNvCxnSpPr>
            <p:nvPr/>
          </p:nvCxnSpPr>
          <p:spPr>
            <a:xfrm>
              <a:off x="2598840" y="2787480"/>
              <a:ext cx="360" cy="1043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0" idx="1"/>
              <a:endCxn id="60" idx="7"/>
            </p:cNvCxnSpPr>
            <p:nvPr/>
          </p:nvCxnSpPr>
          <p:spPr>
            <a:xfrm flipH="1">
              <a:off x="2896200" y="3231360"/>
              <a:ext cx="1025280" cy="670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" name=""/>
            <p:cNvSpPr/>
            <p:nvPr/>
          </p:nvSpPr>
          <p:spPr>
            <a:xfrm>
              <a:off x="312840" y="84240"/>
              <a:ext cx="1371600" cy="228600"/>
            </a:xfrm>
            <a:prstGeom prst="foldedCorner">
              <a:avLst>
                <a:gd name="adj" fmla="val 20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uire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86080" y="814320"/>
              <a:ext cx="28224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990720" y="484200"/>
              <a:ext cx="571320" cy="428760"/>
              <a:chOff x="990720" y="484200"/>
              <a:chExt cx="571320" cy="428760"/>
            </a:xfrm>
          </p:grpSpPr>
          <p:sp>
            <p:nvSpPr>
              <p:cNvPr id="68" name=""/>
              <p:cNvSpPr/>
              <p:nvPr/>
            </p:nvSpPr>
            <p:spPr>
              <a:xfrm>
                <a:off x="990720" y="484200"/>
                <a:ext cx="571320" cy="428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020240" y="560520"/>
                <a:ext cx="511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200" spc="-1" strike="noStrike">
                    <a:solidFill>
                      <a:srgbClr val="000000"/>
                    </a:solidFill>
                    <a:latin typeface="Times New Roman"/>
                  </a:rPr>
                  <a:t>CM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2075040" y="1141560"/>
              <a:ext cx="25704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5600" y="17640"/>
              <a:ext cx="4705200" cy="509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8T17:21:54Z</dcterms:created>
  <dc:creator>pdm</dc:creator>
  <dc:description/>
  <dc:language>en-US</dc:language>
  <cp:lastModifiedBy>Marco Cattaneo</cp:lastModifiedBy>
  <dcterms:modified xsi:type="dcterms:W3CDTF">2001-01-15T15:42:19Z</dcterms:modified>
  <cp:revision>9</cp:revision>
  <dc:subject/>
  <dc:title>No Slide Title</dc:title>
</cp:coreProperties>
</file>