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572000" cy="2667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A40-6E59-41B5-953E-C040C764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098-FAF2-41E9-AD52-88576D656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D22E-97C0-4B18-B07F-E3BEFEC04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656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970720" y="76968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656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970720" y="1605600"/>
            <a:ext cx="12510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B95-B5B4-465E-820F-4089CB35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726F-CA27-4B18-BEC3-5ED9D8AA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B055-5ED3-4910-A031-C76B2BB2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50C9-2E33-445E-9746-AB2631CEC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4B34-4DB0-42B7-A73A-ED3E3EFB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236160"/>
            <a:ext cx="388620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441C-0798-4F94-BA1D-E97DAC25A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215-94C4-4866-92BC-AD2EDC81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333880" y="160560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FA62-165C-4D6D-A51F-3C235FF2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333880" y="769680"/>
            <a:ext cx="189612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1605600"/>
            <a:ext cx="3886200" cy="763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/>
          </a:bodyPr>
          <a:p>
            <a:pPr indent="0">
              <a:spcBef>
                <a:spcPts val="374"/>
              </a:spcBef>
              <a:buNone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26D-3599-4D11-BB6E-1C09C9C68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36160"/>
            <a:ext cx="3886200" cy="4446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ctr">
            <a:noAutofit/>
          </a:bodyPr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769680"/>
            <a:ext cx="3886200" cy="16002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rmAutofit fontScale="82000"/>
          </a:bodyPr>
          <a:p>
            <a:pPr marL="127440" indent="-12744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275760" indent="-10656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4244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3" marL="59364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4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5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6" marL="762480" indent="-84600">
              <a:spcBef>
                <a:spcPts val="374"/>
              </a:spcBef>
              <a:buClr>
                <a:srgbClr val="000000"/>
              </a:buClr>
              <a:buFont typeface="Times New Roman"/>
              <a:buChar char="»"/>
              <a:tabLst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2430360"/>
            <a:ext cx="95220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562040" y="2430360"/>
            <a:ext cx="144792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76720" y="2430360"/>
            <a:ext cx="952560" cy="1764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20520" bIns="20520" anchor="t">
            <a:noAutofit/>
          </a:bodyPr>
          <a:lstStyle>
            <a:lvl1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fld id="{2E826C0C-7F1E-46EB-83D9-85E87E5B73B5}" type="slidenum"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146052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965160"/>
            <a:ext cx="1371600" cy="800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71280"/>
            <a:ext cx="1371600" cy="6098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7640" y="146880"/>
            <a:ext cx="826920" cy="459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i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47640" y="2071800"/>
            <a:ext cx="550800" cy="50004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9760" y="2076480"/>
            <a:ext cx="571320" cy="495360"/>
          </a:xfrm>
          <a:prstGeom prst="can">
            <a:avLst>
              <a:gd name="adj" fmla="val 1057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460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650960"/>
            <a:ext cx="30492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180504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51" idx="2"/>
            <a:endCxn id="47" idx="7"/>
          </p:cNvCxnSpPr>
          <p:nvPr/>
        </p:nvCxnSpPr>
        <p:spPr>
          <a:xfrm flipH="1">
            <a:off x="41256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51" idx="2"/>
            <a:endCxn id="48" idx="7"/>
          </p:cNvCxnSpPr>
          <p:nvPr/>
        </p:nvCxnSpPr>
        <p:spPr>
          <a:xfrm flipH="1">
            <a:off x="41256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1" idx="2"/>
            <a:endCxn id="49" idx="7"/>
          </p:cNvCxnSpPr>
          <p:nvPr/>
        </p:nvCxnSpPr>
        <p:spPr>
          <a:xfrm flipH="1">
            <a:off x="412560" y="1460520"/>
            <a:ext cx="27360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156204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1650960"/>
            <a:ext cx="304560" cy="306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6"/>
            <a:endCxn id="58" idx="1"/>
          </p:cNvCxnSpPr>
          <p:nvPr/>
        </p:nvCxnSpPr>
        <p:spPr>
          <a:xfrm>
            <a:off x="1905120" y="1460520"/>
            <a:ext cx="273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5" idx="6"/>
            <a:endCxn id="41" idx="1"/>
          </p:cNvCxnSpPr>
          <p:nvPr/>
        </p:nvCxnSpPr>
        <p:spPr>
          <a:xfrm>
            <a:off x="1905120" y="1460520"/>
            <a:ext cx="273600" cy="45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5" idx="6"/>
            <a:endCxn id="56" idx="1"/>
          </p:cNvCxnSpPr>
          <p:nvPr/>
        </p:nvCxnSpPr>
        <p:spPr>
          <a:xfrm>
            <a:off x="1905120" y="1460520"/>
            <a:ext cx="27360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8" name=""/>
          <p:cNvSpPr/>
          <p:nvPr/>
        </p:nvSpPr>
        <p:spPr>
          <a:xfrm>
            <a:off x="2133720" y="184320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787480" y="143352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787480" y="181620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7680" y="144792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1280" y="1832040"/>
            <a:ext cx="120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conve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711520" y="1397160"/>
            <a:ext cx="1676160" cy="7617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76160" y="546120"/>
            <a:ext cx="266760" cy="1563840"/>
          </a:xfrm>
          <a:prstGeom prst="upDownArrow">
            <a:avLst>
              <a:gd name="adj1" fmla="val 50000"/>
              <a:gd name="adj2" fmla="val 768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231920"/>
            <a:ext cx="457200" cy="457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13800" y="98568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istency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34920"/>
            <a:ext cx="4498920" cy="2595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13:05:56Z</dcterms:created>
  <dc:creator>Roger the Rabbit</dc:creator>
  <dc:description/>
  <dc:language>en-US</dc:language>
  <cp:lastModifiedBy>Marco Cattaneo</cp:lastModifiedBy>
  <cp:lastPrinted>1999-05-20T13:43:05Z</cp:lastPrinted>
  <dcterms:modified xsi:type="dcterms:W3CDTF">2001-01-12T17:17:06Z</dcterms:modified>
  <cp:revision>4</cp:revision>
  <dc:subject/>
  <dc:title>No Slide Title</dc:title>
</cp:coreProperties>
</file>