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526088" cy="36179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0FBA-4BD9-464F-A3D2-2D2ECF18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46958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14360" y="2180160"/>
            <a:ext cx="46958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04A3-7AFF-4502-8B62-13B59F76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1436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2060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C4EC-9DE8-4218-BEBB-4D0440C5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01960" y="104580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89560" y="104580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14360" y="218016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01960" y="218016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89560" y="2180160"/>
            <a:ext cx="15116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B604-DED5-4FAA-B66D-AC4A55708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14360" y="1045800"/>
            <a:ext cx="4695840" cy="21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EC5D-8DEA-4430-9679-BEE47B83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469584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7DC1-AF5B-443B-B4BA-FBCF9658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FD91-BB64-444F-B973-51DBF33E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00EB-2BA3-4C68-9898-8EED93ED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4360" y="322200"/>
            <a:ext cx="4695840" cy="27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30B2-BC80-4E73-995F-AE4A6292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1436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1A2A-F143-4CA5-82E7-427AF6FB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20600" y="218016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5279-A85C-4B0F-AF3A-D3449581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1436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20600" y="1045800"/>
            <a:ext cx="229140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14360" y="2180160"/>
            <a:ext cx="4695840" cy="103572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/>
          </a:bodyPr>
          <a:p>
            <a:pPr indent="0">
              <a:spcBef>
                <a:spcPts val="476"/>
              </a:spcBef>
              <a:buNone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B7DA-9C06-4CAB-A98B-D8D4839A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4360" y="322200"/>
            <a:ext cx="4695840" cy="60336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ctr">
            <a:noAutofit/>
          </a:bodyPr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4360" y="1045800"/>
            <a:ext cx="4695840" cy="217188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rmAutofit fontScale="88000"/>
          </a:bodyPr>
          <a:p>
            <a:pPr marL="176040" indent="-17604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379800" indent="-14508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2" marL="585360" indent="-11736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3" marL="820080" indent="-11736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4" marL="1053360" indent="-11592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5" marL="1053360" indent="-11592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6" marL="1053360" indent="-115920">
              <a:spcBef>
                <a:spcPts val="476"/>
              </a:spcBef>
              <a:buClr>
                <a:srgbClr val="000000"/>
              </a:buClr>
              <a:buFont typeface="Times New Roman"/>
              <a:buChar char="»"/>
              <a:tabLst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14000" y="3297240"/>
            <a:ext cx="1150920" cy="24120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Autofit/>
          </a:bodyPr>
          <a:lstStyle>
            <a:lvl1pPr indent="0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87480" y="3297240"/>
            <a:ext cx="1749600" cy="24120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Autofit/>
          </a:bodyPr>
          <a:lstStyle>
            <a:lvl1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958920" y="3297240"/>
            <a:ext cx="1150920" cy="241200"/>
          </a:xfrm>
          <a:prstGeom prst="rect">
            <a:avLst/>
          </a:prstGeom>
          <a:noFill/>
          <a:ln w="0">
            <a:noFill/>
          </a:ln>
        </p:spPr>
        <p:txBody>
          <a:bodyPr lIns="53280" rIns="53280" tIns="26640" bIns="26640" anchor="t">
            <a:noAutofit/>
          </a:bodyPr>
          <a:lstStyle>
            <a:lvl1pPr indent="0" algn="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31720"/>
                <a:tab algn="l" pos="1063800"/>
                <a:tab algn="l" pos="1595520"/>
                <a:tab algn="l" pos="2127240"/>
                <a:tab algn="l" pos="2658960"/>
                <a:tab algn="l" pos="3191040"/>
                <a:tab algn="l" pos="3722760"/>
                <a:tab algn="l" pos="4254480"/>
                <a:tab algn="l" pos="4786200"/>
                <a:tab algn="l" pos="5318280"/>
                <a:tab algn="l" pos="5850000"/>
                <a:tab algn="l" pos="6381720"/>
                <a:tab algn="l" pos="6913440"/>
                <a:tab algn="l" pos="7445520"/>
                <a:tab algn="l" pos="7977240"/>
                <a:tab algn="l" pos="8508960"/>
                <a:tab algn="l" pos="9040680"/>
                <a:tab algn="l" pos="9572760"/>
                <a:tab algn="l" pos="10104480"/>
                <a:tab algn="l" pos="10636200"/>
              </a:tabLst>
            </a:pPr>
            <a:fld id="{B99518C9-2236-4DD7-8D6D-5E923692099C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42840" y="3257640"/>
            <a:ext cx="36216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639600" y="133920"/>
            <a:ext cx="1828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LHCb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640" y="30240"/>
            <a:ext cx="5473440" cy="354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05000" y="3040200"/>
            <a:ext cx="868320" cy="3618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mlEd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pplica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19480" y="649440"/>
            <a:ext cx="687240" cy="452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cbC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63840" y="1228680"/>
            <a:ext cx="615960" cy="303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r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87560" y="1228680"/>
            <a:ext cx="615960" cy="303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EANT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19480" y="2098800"/>
            <a:ext cx="434880" cy="50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0520" y="2967120"/>
            <a:ext cx="6890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XmlDD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databas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7440" y="141120"/>
            <a:ext cx="3260880" cy="290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xamples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applica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39880" y="1084320"/>
            <a:ext cx="0" cy="12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725040" y="2387520"/>
            <a:ext cx="435240" cy="5796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39880" y="431640"/>
            <a:ext cx="0" cy="2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11160" y="2532240"/>
            <a:ext cx="94320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60640" y="2316240"/>
            <a:ext cx="6872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tDe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11160" y="1663560"/>
            <a:ext cx="7970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HCbE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data model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32040" y="1873080"/>
            <a:ext cx="2719440" cy="1686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10800" y="1848240"/>
            <a:ext cx="1035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Comic Sans MS"/>
              </a:rPr>
              <a:t>Gaudi</a:t>
            </a:r>
            <a:r>
              <a:rPr b="0" lang="en-US" sz="6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Comic Sans MS"/>
              </a:rPr>
              <a:t>Frame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733840" y="1787400"/>
            <a:ext cx="1068120" cy="398520"/>
            <a:chOff x="2733840" y="1787400"/>
            <a:chExt cx="1068120" cy="398520"/>
          </a:xfrm>
        </p:grpSpPr>
        <p:sp>
          <p:nvSpPr>
            <p:cNvPr id="60" name=""/>
            <p:cNvSpPr/>
            <p:nvPr/>
          </p:nvSpPr>
          <p:spPr>
            <a:xfrm>
              <a:off x="2733840" y="1787400"/>
              <a:ext cx="978840" cy="39852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51280" y="1922400"/>
              <a:ext cx="49140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xternal packag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0480" y="2017440"/>
              <a:ext cx="79776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Gaudi Package dependenc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80640" y="1916280"/>
              <a:ext cx="91800" cy="745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80640" y="204084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780640" y="2116440"/>
              <a:ext cx="137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40120" y="2093040"/>
              <a:ext cx="861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External Package dependency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950200" y="1813680"/>
              <a:ext cx="4273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Gaudi package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80640" y="1807560"/>
              <a:ext cx="91800" cy="74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8800" bIns="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724120" y="1781280"/>
            <a:ext cx="2738520" cy="177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64080" y="1800360"/>
            <a:ext cx="869760" cy="18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Example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application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32160" y="2346480"/>
            <a:ext cx="1663560" cy="12096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346640" y="2598840"/>
            <a:ext cx="217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65280" y="3009960"/>
            <a:ext cx="457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" spc="-1" strike="noStrike">
                <a:solidFill>
                  <a:srgbClr val="000000"/>
                </a:solidFill>
                <a:latin typeface="Comic Sans MS"/>
              </a:rPr>
              <a:t>GaudiSy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27720" y="3359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38640" y="3359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911760" y="3105000"/>
            <a:ext cx="217440" cy="1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346640" y="2598840"/>
            <a:ext cx="32688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563720" y="3070080"/>
            <a:ext cx="18108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6280" y="3070080"/>
            <a:ext cx="3618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83000" y="2271600"/>
            <a:ext cx="144720" cy="1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73520" y="2271600"/>
            <a:ext cx="0" cy="1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818240" y="3287880"/>
            <a:ext cx="39816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4346280" y="2344680"/>
            <a:ext cx="94284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800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89480" y="2344680"/>
            <a:ext cx="0" cy="1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86000" y="2924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68560" y="292428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59080" y="3141720"/>
            <a:ext cx="25416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22720" y="3324240"/>
            <a:ext cx="29052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14720" y="3468600"/>
            <a:ext cx="398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7280" y="2635200"/>
            <a:ext cx="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59080" y="2779560"/>
            <a:ext cx="144360" cy="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49640" y="2489040"/>
            <a:ext cx="25380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3760" y="2852640"/>
            <a:ext cx="217440" cy="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54600" y="2271600"/>
            <a:ext cx="289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346280" y="2960640"/>
            <a:ext cx="290520" cy="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238640" y="25988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84480" y="2598840"/>
            <a:ext cx="144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0680" y="2598840"/>
            <a:ext cx="3254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18240" y="2598840"/>
            <a:ext cx="652320" cy="930240"/>
          </a:xfrm>
          <a:custGeom>
            <a:avLst/>
            <a:gdLst/>
            <a:ahLst/>
            <a:rect l="l" t="t" r="r" b="b"/>
            <a:pathLst>
              <a:path w="896" h="1088">
                <a:moveTo>
                  <a:pt x="768" y="0"/>
                </a:moveTo>
                <a:cubicBezTo>
                  <a:pt x="832" y="368"/>
                  <a:pt x="896" y="736"/>
                  <a:pt x="768" y="912"/>
                </a:cubicBezTo>
                <a:cubicBezTo>
                  <a:pt x="640" y="1088"/>
                  <a:pt x="128" y="1032"/>
                  <a:pt x="0" y="10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346640" y="2635200"/>
            <a:ext cx="689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27720" y="2054160"/>
            <a:ext cx="344160" cy="228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RootD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21200" y="2887560"/>
            <a:ext cx="342720" cy="227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Kerne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foundation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83000" y="3214800"/>
            <a:ext cx="290520" cy="150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HT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92480" y="3214800"/>
            <a:ext cx="29052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CLHEP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49600" y="3214800"/>
            <a:ext cx="434880" cy="1904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Policy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13240" y="3432240"/>
            <a:ext cx="1323720" cy="106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ExternalLibs</a:t>
            </a:r>
            <a:r>
              <a:rPr b="1" lang="en-US" sz="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figura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43680" y="2452680"/>
            <a:ext cx="29016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ROO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8400" y="2127240"/>
            <a:ext cx="344520" cy="227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RootHi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Cn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51120" y="2235240"/>
            <a:ext cx="29052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ODB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65560" y="2054160"/>
            <a:ext cx="344520" cy="2286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ODBCD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35680" y="3141720"/>
            <a:ext cx="30780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CernLi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18040" y="2635200"/>
            <a:ext cx="34452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HbookCnv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converter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32200" y="2706840"/>
            <a:ext cx="344520" cy="2268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scripting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05280" y="2997360"/>
            <a:ext cx="30780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Pyth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32200" y="3178080"/>
            <a:ext cx="309600" cy="1526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Boo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03440" y="2743200"/>
            <a:ext cx="403560" cy="227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Introspectio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24200" y="2417760"/>
            <a:ext cx="40320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ObjDes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data description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7280" y="3359160"/>
            <a:ext cx="307800" cy="1522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Xerce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65560" y="2381400"/>
            <a:ext cx="36684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Aud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monitoring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40160" y="2381400"/>
            <a:ext cx="36684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Alg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algorithm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3760" y="2381400"/>
            <a:ext cx="36648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Tool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tool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27720" y="2381400"/>
            <a:ext cx="34272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Db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persistenc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041640" y="2235240"/>
            <a:ext cx="1123920" cy="10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81280" y="2381400"/>
            <a:ext cx="831960" cy="1238040"/>
          </a:xfrm>
          <a:custGeom>
            <a:avLst/>
            <a:gdLst/>
            <a:ahLst/>
            <a:rect l="l" t="t" r="r" b="b"/>
            <a:pathLst>
              <a:path w="1008" h="1688">
                <a:moveTo>
                  <a:pt x="144" y="0"/>
                </a:moveTo>
                <a:cubicBezTo>
                  <a:pt x="72" y="596"/>
                  <a:pt x="0" y="1192"/>
                  <a:pt x="144" y="1440"/>
                </a:cubicBezTo>
                <a:cubicBezTo>
                  <a:pt x="288" y="1688"/>
                  <a:pt x="648" y="1588"/>
                  <a:pt x="1008" y="1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86360" y="1830240"/>
            <a:ext cx="477720" cy="42840"/>
          </a:xfrm>
          <a:custGeom>
            <a:avLst/>
            <a:gdLst/>
            <a:ahLst/>
            <a:rect l="l" t="t" r="r" b="b"/>
            <a:pathLst>
              <a:path w="632" h="56">
                <a:moveTo>
                  <a:pt x="632" y="8"/>
                </a:moveTo>
                <a:cubicBezTo>
                  <a:pt x="420" y="4"/>
                  <a:pt x="208" y="0"/>
                  <a:pt x="104" y="8"/>
                </a:cubicBezTo>
                <a:cubicBezTo>
                  <a:pt x="0" y="16"/>
                  <a:pt x="24" y="48"/>
                  <a:pt x="8" y="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73520" y="3214800"/>
            <a:ext cx="289080" cy="1508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AIDA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781520" y="3070080"/>
            <a:ext cx="36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37160" y="2852640"/>
            <a:ext cx="342720" cy="2253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GaudiSvc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omic Sans MS"/>
              </a:rPr>
              <a:t>(services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5160" y="335916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54360" y="10843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080" y="2025720"/>
            <a:ext cx="615960" cy="3031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BJ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880" y="1735200"/>
            <a:ext cx="0" cy="2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4880" y="431640"/>
            <a:ext cx="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84240" y="1084320"/>
            <a:ext cx="73080" cy="57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319480" y="1084320"/>
            <a:ext cx="71280" cy="57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8080" y="10843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73320" y="3257640"/>
            <a:ext cx="58104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1040" y="431640"/>
            <a:ext cx="723960" cy="188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31920" y="649440"/>
            <a:ext cx="689040" cy="452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i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(service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25400" y="1735200"/>
            <a:ext cx="506520" cy="58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463840" y="431640"/>
            <a:ext cx="0" cy="2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60880" y="431640"/>
            <a:ext cx="579240" cy="144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080" y="1301760"/>
            <a:ext cx="689040" cy="452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t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01680" y="431640"/>
            <a:ext cx="0" cy="1231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8:16:55Z</dcterms:created>
  <dc:creator>Marco Cattaneo</dc:creator>
  <dc:description/>
  <dc:language>en-US</dc:language>
  <cp:lastModifiedBy>cattaneo</cp:lastModifiedBy>
  <cp:lastPrinted>2000-11-07T10:26:31Z</cp:lastPrinted>
  <dcterms:modified xsi:type="dcterms:W3CDTF">2001-12-13T12:17:32Z</dcterms:modified>
  <cp:revision>34</cp:revision>
  <dc:subject/>
  <dc:title>No Slide Title</dc:title>
</cp:coreProperties>
</file>