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0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CBD-1577-420D-999E-BA41F1EA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0E0-06C5-44E5-8464-0ECEE106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1A28-52E3-4DF3-ABB5-6CE0D2FA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2D2-7430-453A-83F8-8E328A3B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D02-1626-4292-A011-2AB7A07B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E97-0FC1-4D35-B583-97C8C727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CDC-FEFD-4E7D-9C9C-95B1A0DE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EF0-125A-4FD4-8AAA-602E916A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39840"/>
            <a:ext cx="495612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7F0-3709-425D-A27C-982584E6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C14-E42B-40FF-BEF8-4225868B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C21-D01E-4FE9-96FD-A0B07322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50D-4BFD-4FF2-9B8B-0C6553F1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 fontScale="88000"/>
          </a:bodyPr>
          <a:p>
            <a:pPr marL="185400" indent="-18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3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17400" indent="-123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6472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470040"/>
            <a:ext cx="121428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470040"/>
            <a:ext cx="184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470040"/>
            <a:ext cx="121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fld id="{59ABBEC3-412B-4959-8654-3895A7A1026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228600"/>
            <a:ext cx="5715000" cy="354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26440" y="229320"/>
            <a:ext cx="1881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Gaudi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160" y="49320"/>
            <a:ext cx="2057400" cy="838080"/>
            <a:chOff x="38160" y="49320"/>
            <a:chExt cx="2057400" cy="838080"/>
          </a:xfrm>
        </p:grpSpPr>
        <p:sp>
          <p:nvSpPr>
            <p:cNvPr id="44" name=""/>
            <p:cNvSpPr/>
            <p:nvPr/>
          </p:nvSpPr>
          <p:spPr>
            <a:xfrm>
              <a:off x="38160" y="49320"/>
              <a:ext cx="2057400" cy="83808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1400" y="331560"/>
              <a:ext cx="89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7640" y="529920"/>
              <a:ext cx="144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800" y="320400"/>
              <a:ext cx="193680" cy="156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800" y="58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6800" y="7412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691920"/>
              <a:ext cx="156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120" y="102960"/>
              <a:ext cx="77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800" y="91800"/>
              <a:ext cx="193680" cy="156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7640" y="34920"/>
            <a:ext cx="575784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76320"/>
            <a:ext cx="18288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222200"/>
            <a:ext cx="3498840" cy="2543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1752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9800" y="26668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6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8640" y="17524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886200" y="2743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8640" y="2743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066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419720" y="32004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428640" y="1219320"/>
            <a:ext cx="19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8954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828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133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523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86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0666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428640" y="2514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17524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752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752480"/>
            <a:ext cx="1371600" cy="195588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290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3623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048120"/>
            <a:ext cx="6098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3048120"/>
            <a:ext cx="914400" cy="399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505320"/>
            <a:ext cx="2782800" cy="22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14479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7621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9907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2895480"/>
            <a:ext cx="64764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0200" y="182880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8108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64800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971800"/>
            <a:ext cx="6476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2057400"/>
            <a:ext cx="84744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371600"/>
            <a:ext cx="84780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352680"/>
            <a:ext cx="64800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1295280"/>
            <a:ext cx="720720" cy="47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800" y="99072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71280" y="1295280"/>
            <a:ext cx="1747800" cy="260352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82880" y="139680"/>
            <a:ext cx="1003320" cy="8892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343400" y="2743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286000"/>
            <a:ext cx="72072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1-19T17:25:25Z</dcterms:modified>
  <cp:revision>36</cp:revision>
  <dc:subject/>
  <dc:title>No Slide Title</dc:title>
</cp:coreProperties>
</file>