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87788" cy="2019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39CC-96D4-458E-B212-89DD20EE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1600" y="121536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67F-A460-4592-9B98-161747C3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8396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81CC-F5A6-4ED2-91FB-D3C3EF54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0832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2468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160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0832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52468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B920-B1BB-4348-AA76-6FB9852A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59B2-D09F-498C-AE18-EDA472A3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413B-8483-432C-BD58-E2C175AD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D43-456B-4EA1-9C05-D9B393B4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3DEE-6F76-46B5-A955-B6A29DDB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" y="178920"/>
            <a:ext cx="3302280" cy="15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6686-A6CB-4DD1-AA10-C345ED95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82AD-8DE2-4C39-AF99-69047DF8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8396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66B-142D-4082-9C48-43D584BC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AE9B-FD29-45B0-88F0-4FEEA836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 fontScale="72000"/>
          </a:bodyPr>
          <a:p>
            <a:pPr marL="99360" indent="-9936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640" indent="-82080"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3322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46620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5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6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91600" y="1839600"/>
            <a:ext cx="80964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26960" y="1839600"/>
            <a:ext cx="123156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84240" y="1839600"/>
            <a:ext cx="80964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 algn="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fld id="{0C7A707C-DD65-4D1F-9D80-2185113A6545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4920" y="17640"/>
            <a:ext cx="3809880" cy="1981080"/>
            <a:chOff x="34920" y="17640"/>
            <a:chExt cx="3809880" cy="1981080"/>
          </a:xfrm>
        </p:grpSpPr>
        <p:pic>
          <p:nvPicPr>
            <p:cNvPr id="42" name="folder" descr=""/>
            <p:cNvPicPr/>
            <p:nvPr/>
          </p:nvPicPr>
          <p:blipFill>
            <a:blip r:embed="rId1"/>
            <a:stretch/>
          </p:blipFill>
          <p:spPr>
            <a:xfrm>
              <a:off x="2625840" y="779400"/>
              <a:ext cx="42840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folder" descr=""/>
            <p:cNvPicPr/>
            <p:nvPr/>
          </p:nvPicPr>
          <p:blipFill>
            <a:blip r:embed="rId2"/>
            <a:stretch/>
          </p:blipFill>
          <p:spPr>
            <a:xfrm>
              <a:off x="2168640" y="47484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397240" y="779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97240" y="9320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467440" y="550800"/>
              <a:ext cx="53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28960" y="8557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MyTrac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folder" descr=""/>
            <p:cNvPicPr/>
            <p:nvPr/>
          </p:nvPicPr>
          <p:blipFill>
            <a:blip r:embed="rId3"/>
            <a:stretch/>
          </p:blipFill>
          <p:spPr>
            <a:xfrm>
              <a:off x="2625840" y="116064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397240" y="1312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folder" descr=""/>
            <p:cNvPicPr/>
            <p:nvPr/>
          </p:nvPicPr>
          <p:blipFill>
            <a:blip r:embed="rId4"/>
            <a:stretch/>
          </p:blipFill>
          <p:spPr>
            <a:xfrm>
              <a:off x="2625840" y="154152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397240" y="1693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2840" y="246240"/>
              <a:ext cx="609480" cy="228600"/>
            </a:xfrm>
            <a:prstGeom prst="wedgeRoundRectCallout">
              <a:avLst>
                <a:gd name="adj1" fmla="val 84375"/>
                <a:gd name="adj2" fmla="val 1326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1240" y="627120"/>
              <a:ext cx="1981080" cy="228600"/>
            </a:xfrm>
            <a:prstGeom prst="wedgeRoundRectCallout">
              <a:avLst>
                <a:gd name="adj1" fmla="val 84375"/>
                <a:gd name="adj2" fmla="val 1076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ObjectVector&lt;MyTrack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920" y="17640"/>
              <a:ext cx="3809880" cy="19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6T09:27:26Z</dcterms:created>
  <dc:creator>ALEPH-LHCB</dc:creator>
  <dc:description/>
  <dc:language>en-US</dc:language>
  <cp:lastModifiedBy>ALEPH-LHCB</cp:lastModifiedBy>
  <dcterms:modified xsi:type="dcterms:W3CDTF">2001-01-16T09:57:49Z</dcterms:modified>
  <cp:revision>1</cp:revision>
  <dc:subject/>
  <dc:title>PowerPoint Presentation</dc:title>
</cp:coreProperties>
</file>