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9603-9C67-46A1-AB7F-8258AE4D2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AED8-3A21-43A4-834F-85882FB73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FD7A-1548-4E6E-9CB9-9F21DE57F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4AA5-5545-4474-99B0-3E7181595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F641-2A01-4CC0-95D8-C3D19EB6E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123E-A246-418C-BE38-C62F25793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F3BE-32DB-4A21-AF5B-3BEEEF353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7F1A-8F82-4E9C-B149-84BF42B0A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1D93-AD85-4AFD-8ECB-FBB901612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922C-24A6-4FAE-AE2C-7F00F11C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10F1-5211-4597-9089-623A3FD8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C636-65EB-478C-A841-FB5E82C1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6FD9D-4988-4013-9E61-9970C31653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91120" y="2666880"/>
            <a:ext cx="176040" cy="142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629160" y="1859040"/>
            <a:ext cx="1414440" cy="82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01880" y="1996920"/>
            <a:ext cx="126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lgT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850920" y="1447920"/>
            <a:ext cx="168120" cy="412200"/>
            <a:chOff x="3850920" y="1447920"/>
            <a:chExt cx="168120" cy="412200"/>
          </a:xfrm>
        </p:grpSpPr>
        <p:sp>
          <p:nvSpPr>
            <p:cNvPr id="45" name=""/>
            <p:cNvSpPr/>
            <p:nvPr/>
          </p:nvSpPr>
          <p:spPr>
            <a:xfrm rot="5400000">
              <a:off x="3857760" y="1440720"/>
              <a:ext cx="154080" cy="168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935160" y="1602000"/>
              <a:ext cx="0" cy="25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4373640" y="1447920"/>
            <a:ext cx="156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Prope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4520880" y="1447920"/>
            <a:ext cx="168120" cy="412200"/>
            <a:chOff x="4520880" y="1447920"/>
            <a:chExt cx="168120" cy="412200"/>
          </a:xfrm>
        </p:grpSpPr>
        <p:sp>
          <p:nvSpPr>
            <p:cNvPr id="49" name=""/>
            <p:cNvSpPr/>
            <p:nvPr/>
          </p:nvSpPr>
          <p:spPr>
            <a:xfrm rot="5400000">
              <a:off x="4527720" y="1440720"/>
              <a:ext cx="154080" cy="168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05120" y="1602000"/>
              <a:ext cx="0" cy="25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800600" y="3581280"/>
            <a:ext cx="1638360" cy="822600"/>
            <a:chOff x="4800600" y="3581280"/>
            <a:chExt cx="1638360" cy="822600"/>
          </a:xfrm>
        </p:grpSpPr>
        <p:sp>
          <p:nvSpPr>
            <p:cNvPr id="52" name=""/>
            <p:cNvSpPr/>
            <p:nvPr/>
          </p:nvSpPr>
          <p:spPr>
            <a:xfrm>
              <a:off x="4875120" y="3581280"/>
              <a:ext cx="1414800" cy="822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800600" y="3855240"/>
              <a:ext cx="163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SubTo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5943600" y="4114800"/>
            <a:ext cx="15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ubT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5715000" y="5157720"/>
            <a:ext cx="1652760" cy="709560"/>
            <a:chOff x="5715000" y="5157720"/>
            <a:chExt cx="1652760" cy="709560"/>
          </a:xfrm>
        </p:grpSpPr>
        <p:sp>
          <p:nvSpPr>
            <p:cNvPr id="56" name=""/>
            <p:cNvSpPr/>
            <p:nvPr/>
          </p:nvSpPr>
          <p:spPr>
            <a:xfrm>
              <a:off x="5789880" y="5157720"/>
              <a:ext cx="1427400" cy="709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715000" y="5397840"/>
              <a:ext cx="1652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ConcreteTool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5486400" y="4419720"/>
            <a:ext cx="176040" cy="142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562720" y="3124080"/>
            <a:ext cx="0" cy="48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3124080"/>
            <a:ext cx="243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1447920"/>
            <a:ext cx="15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AlgT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6324840" y="3886200"/>
            <a:ext cx="448920" cy="154080"/>
            <a:chOff x="6324840" y="3886200"/>
            <a:chExt cx="448920" cy="154080"/>
          </a:xfrm>
        </p:grpSpPr>
        <p:sp>
          <p:nvSpPr>
            <p:cNvPr id="63" name=""/>
            <p:cNvSpPr/>
            <p:nvPr/>
          </p:nvSpPr>
          <p:spPr>
            <a:xfrm rot="10800000">
              <a:off x="6606000" y="3886200"/>
              <a:ext cx="167760" cy="154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6324840" y="3963240"/>
              <a:ext cx="28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3790800" y="5181480"/>
            <a:ext cx="1562400" cy="685800"/>
            <a:chOff x="3790800" y="5181480"/>
            <a:chExt cx="1562400" cy="685800"/>
          </a:xfrm>
        </p:grpSpPr>
        <p:sp>
          <p:nvSpPr>
            <p:cNvPr id="66" name=""/>
            <p:cNvSpPr/>
            <p:nvPr/>
          </p:nvSpPr>
          <p:spPr>
            <a:xfrm>
              <a:off x="3861720" y="5181480"/>
              <a:ext cx="134928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790800" y="5413680"/>
              <a:ext cx="156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ConcreteTool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4572000" y="48006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553080" y="4800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981080" y="3886200"/>
            <a:ext cx="448920" cy="154080"/>
            <a:chOff x="1981080" y="3886200"/>
            <a:chExt cx="448920" cy="154080"/>
          </a:xfrm>
        </p:grpSpPr>
        <p:sp>
          <p:nvSpPr>
            <p:cNvPr id="71" name=""/>
            <p:cNvSpPr/>
            <p:nvPr/>
          </p:nvSpPr>
          <p:spPr>
            <a:xfrm>
              <a:off x="1981080" y="3886200"/>
              <a:ext cx="167760" cy="154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148840" y="3963240"/>
              <a:ext cx="28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362320" y="3124080"/>
            <a:ext cx="1638360" cy="1233360"/>
            <a:chOff x="2362320" y="3124080"/>
            <a:chExt cx="1638360" cy="1233360"/>
          </a:xfrm>
        </p:grpSpPr>
        <p:grpSp>
          <p:nvGrpSpPr>
            <p:cNvPr id="74" name=""/>
            <p:cNvGrpSpPr/>
            <p:nvPr/>
          </p:nvGrpSpPr>
          <p:grpSpPr>
            <a:xfrm>
              <a:off x="2362320" y="3535200"/>
              <a:ext cx="1638360" cy="822240"/>
              <a:chOff x="2362320" y="3535200"/>
              <a:chExt cx="1638360" cy="822240"/>
            </a:xfrm>
          </p:grpSpPr>
          <p:sp>
            <p:nvSpPr>
              <p:cNvPr id="75" name=""/>
              <p:cNvSpPr/>
              <p:nvPr/>
            </p:nvSpPr>
            <p:spPr>
              <a:xfrm>
                <a:off x="2436840" y="3535200"/>
                <a:ext cx="1414800" cy="8222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362320" y="3808800"/>
                <a:ext cx="1638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ConcreteTool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 flipV="1">
              <a:off x="3124440" y="3124080"/>
              <a:ext cx="0" cy="41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990720" y="4145040"/>
            <a:ext cx="156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ConreteTool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523880" y="3886200"/>
            <a:ext cx="448920" cy="154080"/>
            <a:chOff x="1523880" y="3886200"/>
            <a:chExt cx="448920" cy="154080"/>
          </a:xfrm>
        </p:grpSpPr>
        <p:sp>
          <p:nvSpPr>
            <p:cNvPr id="80" name=""/>
            <p:cNvSpPr/>
            <p:nvPr/>
          </p:nvSpPr>
          <p:spPr>
            <a:xfrm>
              <a:off x="1523880" y="3886200"/>
              <a:ext cx="167760" cy="154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691640" y="3963240"/>
              <a:ext cx="28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 rot="16256400">
            <a:off x="666720" y="3274560"/>
            <a:ext cx="15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AlgT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6782040" y="3886200"/>
            <a:ext cx="448920" cy="154080"/>
            <a:chOff x="6782040" y="3886200"/>
            <a:chExt cx="448920" cy="154080"/>
          </a:xfrm>
        </p:grpSpPr>
        <p:sp>
          <p:nvSpPr>
            <p:cNvPr id="84" name=""/>
            <p:cNvSpPr/>
            <p:nvPr/>
          </p:nvSpPr>
          <p:spPr>
            <a:xfrm rot="10800000">
              <a:off x="7063200" y="3886200"/>
              <a:ext cx="167760" cy="154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6782040" y="3963240"/>
              <a:ext cx="28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705720" y="3581280"/>
            <a:ext cx="156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AlgT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6708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62720" y="4572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4800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0T10:00:55Z</dcterms:created>
  <dc:creator>gcorti</dc:creator>
  <dc:description/>
  <dc:language>en-US</dc:language>
  <cp:lastModifiedBy>gcorti2</cp:lastModifiedBy>
  <dcterms:modified xsi:type="dcterms:W3CDTF">2001-12-19T10:16:13Z</dcterms:modified>
  <cp:revision>4</cp:revision>
  <dc:subject/>
  <dc:title>No Slide Title</dc:title>
</cp:coreProperties>
</file>