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335588" cy="2667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CECD-960E-4880-9D20-2D9D6C18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453384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9960" y="1605600"/>
            <a:ext cx="453384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3880-C50F-42DE-AEF2-78702088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996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2304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CFAB-8DEC-4315-9F84-063D58C2D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33200" y="76968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66440" y="76968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9960" y="160560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33200" y="160560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466440" y="160560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1A06-70A7-42F2-B1AB-D779BA63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9960" y="769680"/>
            <a:ext cx="453384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2F65-C5C0-4EAB-870A-94961FD2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453384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3BC1-F3E1-4DBA-B6EA-944FF5B7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0F6C-75DA-4E87-A8EF-E1CABA55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A118-3737-469F-ABF9-F3E0A6B5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9960" y="236160"/>
            <a:ext cx="453384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8CC7-8384-4959-B4BC-AD46F623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996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67B2-D768-414A-A303-32EC1216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304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64D8-A079-4024-8AEB-323D8CA4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9960" y="1605600"/>
            <a:ext cx="453384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F4AA-F831-4715-AB0E-14A55E76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9960" y="769680"/>
            <a:ext cx="453384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 fontScale="72000"/>
          </a:bodyPr>
          <a:p>
            <a:pPr marL="130320" indent="-13032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1098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432000" indent="-8676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603360" indent="-8676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4" marL="774720" indent="-84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5" marL="774720" indent="-84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6" marL="774720" indent="-84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9600" y="2430360"/>
            <a:ext cx="1111320" cy="1778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22320" y="2430360"/>
            <a:ext cx="1689120" cy="1778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22840" y="2430360"/>
            <a:ext cx="1110960" cy="1778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lstStyle>
            <a:lvl1pPr indent="0" algn="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  <a:defRPr b="0" lang="en-GB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fld id="{32B8A480-DE4B-4077-AD70-18E459D296C0}" type="slidenum"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49"/>
          <p:cNvGrpSpPr/>
          <p:nvPr/>
        </p:nvGrpSpPr>
        <p:grpSpPr>
          <a:xfrm>
            <a:off x="76320" y="42840"/>
            <a:ext cx="5217840" cy="2587680"/>
            <a:chOff x="76320" y="42840"/>
            <a:chExt cx="5217840" cy="2587680"/>
          </a:xfrm>
        </p:grpSpPr>
        <p:sp>
          <p:nvSpPr>
            <p:cNvPr id="42" name="Rectangle 150"/>
            <p:cNvSpPr/>
            <p:nvPr/>
          </p:nvSpPr>
          <p:spPr>
            <a:xfrm>
              <a:off x="4052160" y="42840"/>
              <a:ext cx="765360" cy="3322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Conver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Line 151"/>
            <p:cNvSpPr/>
            <p:nvPr/>
          </p:nvSpPr>
          <p:spPr>
            <a:xfrm>
              <a:off x="1516320" y="1299960"/>
              <a:ext cx="494280" cy="4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Line 152"/>
            <p:cNvSpPr/>
            <p:nvPr/>
          </p:nvSpPr>
          <p:spPr>
            <a:xfrm flipH="1" flipV="1">
              <a:off x="841320" y="801720"/>
              <a:ext cx="628200" cy="49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Line 153"/>
            <p:cNvSpPr/>
            <p:nvPr/>
          </p:nvSpPr>
          <p:spPr>
            <a:xfrm flipH="1" flipV="1">
              <a:off x="841680" y="1217520"/>
              <a:ext cx="58320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Line 154"/>
            <p:cNvSpPr/>
            <p:nvPr/>
          </p:nvSpPr>
          <p:spPr>
            <a:xfrm flipH="1">
              <a:off x="841680" y="1342800"/>
              <a:ext cx="583200" cy="33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155"/>
            <p:cNvSpPr/>
            <p:nvPr/>
          </p:nvSpPr>
          <p:spPr>
            <a:xfrm>
              <a:off x="254880" y="2172600"/>
              <a:ext cx="765360" cy="292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156"/>
            <p:cNvSpPr/>
            <p:nvPr/>
          </p:nvSpPr>
          <p:spPr>
            <a:xfrm>
              <a:off x="167040" y="2089800"/>
              <a:ext cx="76248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157"/>
            <p:cNvSpPr/>
            <p:nvPr/>
          </p:nvSpPr>
          <p:spPr>
            <a:xfrm>
              <a:off x="1199880" y="1217520"/>
              <a:ext cx="766080" cy="3333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lgorith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58"/>
            <p:cNvSpPr/>
            <p:nvPr/>
          </p:nvSpPr>
          <p:spPr>
            <a:xfrm>
              <a:off x="2011680" y="677520"/>
              <a:ext cx="7635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Event 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59"/>
            <p:cNvSpPr/>
            <p:nvPr/>
          </p:nvSpPr>
          <p:spPr>
            <a:xfrm>
              <a:off x="3944520" y="636480"/>
              <a:ext cx="674640" cy="3315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ersist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160"/>
            <p:cNvSpPr/>
            <p:nvPr/>
          </p:nvSpPr>
          <p:spPr>
            <a:xfrm>
              <a:off x="2775240" y="802080"/>
              <a:ext cx="896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AutoShape 161"/>
            <p:cNvSpPr/>
            <p:nvPr/>
          </p:nvSpPr>
          <p:spPr>
            <a:xfrm>
              <a:off x="4752720" y="511200"/>
              <a:ext cx="541440" cy="582120"/>
            </a:xfrm>
            <a:prstGeom prst="can">
              <a:avLst>
                <a:gd name="adj" fmla="val 25004"/>
              </a:avLst>
            </a:pr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Fi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Picture 162" descr=""/>
            <p:cNvPicPr/>
            <p:nvPr/>
          </p:nvPicPr>
          <p:blipFill>
            <a:blip r:embed="rId1"/>
            <a:stretch/>
          </p:blipFill>
          <p:spPr>
            <a:xfrm>
              <a:off x="3057120" y="240840"/>
              <a:ext cx="784080" cy="62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Rectangle 163"/>
            <p:cNvSpPr/>
            <p:nvPr/>
          </p:nvSpPr>
          <p:spPr>
            <a:xfrm>
              <a:off x="1153800" y="1175760"/>
              <a:ext cx="766080" cy="3322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lgorith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64"/>
            <p:cNvSpPr/>
            <p:nvPr/>
          </p:nvSpPr>
          <p:spPr>
            <a:xfrm>
              <a:off x="1110960" y="1134720"/>
              <a:ext cx="763560" cy="3333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Algorith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AutoShape 165"/>
            <p:cNvCxnSpPr>
              <a:stCxn id="51" idx="3"/>
              <a:endCxn id="53" idx="2"/>
            </p:cNvCxnSpPr>
            <p:nvPr/>
          </p:nvCxnSpPr>
          <p:spPr>
            <a:xfrm>
              <a:off x="4619160" y="802080"/>
              <a:ext cx="133920" cy="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8" name="AutoShape 166"/>
            <p:cNvSpPr/>
            <p:nvPr/>
          </p:nvSpPr>
          <p:spPr>
            <a:xfrm>
              <a:off x="2865240" y="222120"/>
              <a:ext cx="943920" cy="1162080"/>
            </a:xfrm>
            <a:custGeom>
              <a:avLst/>
              <a:gdLst>
                <a:gd name="textAreaLeft" fmla="*/ 46080 w 943920"/>
                <a:gd name="textAreaRight" fmla="*/ 897840 w 943920"/>
                <a:gd name="textAreaTop" fmla="*/ 46080 h 1162080"/>
                <a:gd name="textAreaBottom" fmla="*/ 1116000 h 1162080"/>
              </a:gdLst>
              <a:ahLst/>
              <a:rect l="textAreaLeft" t="textAreaTop" r="textAreaRight" b="textAreaBottom"/>
              <a:pathLst>
                <a:path w="21600" h="26590">
                  <a:moveTo>
                    <a:pt x="3600" y="0"/>
                  </a:moveTo>
                  <a:arcTo wR="3600" hR="3600" stAng="16200000" swAng="-5400000"/>
                  <a:lnTo>
                    <a:pt x="0" y="22990"/>
                  </a:lnTo>
                  <a:arcTo wR="3600" hR="3600" stAng="10800000" swAng="-5400000"/>
                  <a:lnTo>
                    <a:pt x="18000" y="265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Transient Event Sto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" name="AutoShape 167"/>
            <p:cNvCxnSpPr>
              <a:stCxn id="58" idx="3"/>
              <a:endCxn id="51" idx="1"/>
            </p:cNvCxnSpPr>
            <p:nvPr/>
          </p:nvCxnSpPr>
          <p:spPr>
            <a:xfrm flipV="1">
              <a:off x="3809160" y="802080"/>
              <a:ext cx="135720" cy="1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0" name="Rectangle 168"/>
            <p:cNvSpPr/>
            <p:nvPr/>
          </p:nvSpPr>
          <p:spPr>
            <a:xfrm>
              <a:off x="2011680" y="1591560"/>
              <a:ext cx="7635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etec. 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169"/>
            <p:cNvSpPr/>
            <p:nvPr/>
          </p:nvSpPr>
          <p:spPr>
            <a:xfrm>
              <a:off x="3944520" y="1550880"/>
              <a:ext cx="674640" cy="331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ersist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70"/>
            <p:cNvSpPr/>
            <p:nvPr/>
          </p:nvSpPr>
          <p:spPr>
            <a:xfrm>
              <a:off x="2775240" y="1716480"/>
              <a:ext cx="896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AutoShape 171"/>
            <p:cNvSpPr/>
            <p:nvPr/>
          </p:nvSpPr>
          <p:spPr>
            <a:xfrm>
              <a:off x="4752720" y="1425600"/>
              <a:ext cx="541440" cy="580320"/>
            </a:xfrm>
            <a:prstGeom prst="can">
              <a:avLst>
                <a:gd name="adj" fmla="val 25078"/>
              </a:avLst>
            </a:pr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Fi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" name="AutoShape 172"/>
            <p:cNvCxnSpPr>
              <a:stCxn id="61" idx="3"/>
              <a:endCxn id="63" idx="2"/>
            </p:cNvCxnSpPr>
            <p:nvPr/>
          </p:nvCxnSpPr>
          <p:spPr>
            <a:xfrm flipV="1">
              <a:off x="4619160" y="1715760"/>
              <a:ext cx="1339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5" name="AutoShape 173"/>
            <p:cNvSpPr/>
            <p:nvPr/>
          </p:nvSpPr>
          <p:spPr>
            <a:xfrm>
              <a:off x="2865240" y="1468080"/>
              <a:ext cx="943920" cy="4986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Transient Detector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to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" name="AutoShape 174"/>
            <p:cNvCxnSpPr>
              <a:stCxn id="65" idx="3"/>
              <a:endCxn id="61" idx="1"/>
            </p:cNvCxnSpPr>
            <p:nvPr/>
          </p:nvCxnSpPr>
          <p:spPr>
            <a:xfrm flipV="1">
              <a:off x="3809160" y="1716480"/>
              <a:ext cx="135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7" name="Rectangle 175"/>
            <p:cNvSpPr/>
            <p:nvPr/>
          </p:nvSpPr>
          <p:spPr>
            <a:xfrm>
              <a:off x="76320" y="636480"/>
              <a:ext cx="7653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Mess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76"/>
            <p:cNvSpPr/>
            <p:nvPr/>
          </p:nvSpPr>
          <p:spPr>
            <a:xfrm>
              <a:off x="76320" y="1093680"/>
              <a:ext cx="7653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JobOp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77"/>
            <p:cNvSpPr/>
            <p:nvPr/>
          </p:nvSpPr>
          <p:spPr>
            <a:xfrm>
              <a:off x="76320" y="1550880"/>
              <a:ext cx="7653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article Prop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78"/>
            <p:cNvSpPr/>
            <p:nvPr/>
          </p:nvSpPr>
          <p:spPr>
            <a:xfrm>
              <a:off x="76320" y="2006280"/>
              <a:ext cx="765360" cy="2916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Ot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79"/>
            <p:cNvSpPr/>
            <p:nvPr/>
          </p:nvSpPr>
          <p:spPr>
            <a:xfrm>
              <a:off x="2011680" y="2214360"/>
              <a:ext cx="763560" cy="2916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Hist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80"/>
            <p:cNvSpPr/>
            <p:nvPr/>
          </p:nvSpPr>
          <p:spPr>
            <a:xfrm>
              <a:off x="3944520" y="2173320"/>
              <a:ext cx="674640" cy="3333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ersist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181"/>
            <p:cNvSpPr/>
            <p:nvPr/>
          </p:nvSpPr>
          <p:spPr>
            <a:xfrm>
              <a:off x="2775240" y="2337840"/>
              <a:ext cx="8964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AutoShape 182"/>
            <p:cNvSpPr/>
            <p:nvPr/>
          </p:nvSpPr>
          <p:spPr>
            <a:xfrm>
              <a:off x="4752720" y="2049840"/>
              <a:ext cx="541440" cy="580680"/>
            </a:xfrm>
            <a:prstGeom prst="can">
              <a:avLst>
                <a:gd name="adj" fmla="val 25041"/>
              </a:avLst>
            </a:pr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Fi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5" name="AutoShape 183"/>
            <p:cNvCxnSpPr>
              <a:stCxn id="72" idx="3"/>
              <a:endCxn id="74" idx="2"/>
            </p:cNvCxnSpPr>
            <p:nvPr/>
          </p:nvCxnSpPr>
          <p:spPr>
            <a:xfrm>
              <a:off x="4619160" y="2340000"/>
              <a:ext cx="133920" cy="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6" name="AutoShape 184"/>
            <p:cNvSpPr/>
            <p:nvPr/>
          </p:nvSpPr>
          <p:spPr>
            <a:xfrm>
              <a:off x="2865240" y="2088720"/>
              <a:ext cx="943920" cy="4996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Transi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Histogram Sto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" name="AutoShape 185"/>
            <p:cNvCxnSpPr>
              <a:stCxn id="76" idx="3"/>
              <a:endCxn id="72" idx="1"/>
            </p:cNvCxnSpPr>
            <p:nvPr/>
          </p:nvCxnSpPr>
          <p:spPr>
            <a:xfrm>
              <a:off x="3809160" y="2338560"/>
              <a:ext cx="135720" cy="1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8" name="Line 186"/>
            <p:cNvSpPr/>
            <p:nvPr/>
          </p:nvSpPr>
          <p:spPr>
            <a:xfrm flipV="1">
              <a:off x="1606320" y="844200"/>
              <a:ext cx="404640" cy="28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187"/>
            <p:cNvSpPr/>
            <p:nvPr/>
          </p:nvSpPr>
          <p:spPr>
            <a:xfrm>
              <a:off x="1560960" y="1550880"/>
              <a:ext cx="450000" cy="78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188"/>
            <p:cNvSpPr/>
            <p:nvPr/>
          </p:nvSpPr>
          <p:spPr>
            <a:xfrm flipH="1">
              <a:off x="841680" y="1550880"/>
              <a:ext cx="583200" cy="62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189"/>
            <p:cNvSpPr/>
            <p:nvPr/>
          </p:nvSpPr>
          <p:spPr>
            <a:xfrm>
              <a:off x="1064880" y="137880"/>
              <a:ext cx="765000" cy="2916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Manag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190"/>
            <p:cNvSpPr/>
            <p:nvPr/>
          </p:nvSpPr>
          <p:spPr>
            <a:xfrm>
              <a:off x="1424880" y="429480"/>
              <a:ext cx="0" cy="705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191"/>
            <p:cNvSpPr/>
            <p:nvPr/>
          </p:nvSpPr>
          <p:spPr>
            <a:xfrm flipH="1">
              <a:off x="841680" y="426960"/>
              <a:ext cx="504000" cy="33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92"/>
            <p:cNvSpPr/>
            <p:nvPr/>
          </p:nvSpPr>
          <p:spPr>
            <a:xfrm>
              <a:off x="3982680" y="106560"/>
              <a:ext cx="765360" cy="3322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Conver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193"/>
            <p:cNvSpPr/>
            <p:nvPr/>
          </p:nvSpPr>
          <p:spPr>
            <a:xfrm>
              <a:off x="1553760" y="426960"/>
              <a:ext cx="464040" cy="305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94"/>
            <p:cNvSpPr/>
            <p:nvPr/>
          </p:nvSpPr>
          <p:spPr>
            <a:xfrm>
              <a:off x="3913200" y="171360"/>
              <a:ext cx="765360" cy="3315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Convert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195"/>
            <p:cNvSpPr/>
            <p:nvPr/>
          </p:nvSpPr>
          <p:spPr>
            <a:xfrm>
              <a:off x="4259880" y="490680"/>
              <a:ext cx="0" cy="12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196"/>
            <p:cNvSpPr/>
            <p:nvPr/>
          </p:nvSpPr>
          <p:spPr>
            <a:xfrm>
              <a:off x="2017800" y="214200"/>
              <a:ext cx="765360" cy="2887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Ev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lect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197"/>
            <p:cNvSpPr/>
            <p:nvPr/>
          </p:nvSpPr>
          <p:spPr>
            <a:xfrm>
              <a:off x="1833120" y="298800"/>
              <a:ext cx="184680" cy="4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9T16:09:22Z</dcterms:created>
  <dc:creator>cattaneo</dc:creator>
  <dc:description/>
  <dc:language>en-US</dc:language>
  <cp:lastModifiedBy>Stefan Roiser</cp:lastModifiedBy>
  <dcterms:modified xsi:type="dcterms:W3CDTF">2019-05-15T07:19:40Z</dcterms:modified>
  <cp:revision>3</cp:revision>
  <dc:subject/>
  <dc:title>PowerPoint Presentation</dc:title>
</cp:coreProperties>
</file>