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" cy="266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99AE-406C-4B47-A4B7-7EC5C21C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160560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89C6-852C-4EA9-8C81-2029CC58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388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ED78-9996-4AC6-90A9-662E7F3E5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ED0F-871F-46ED-A4CC-6BC0B926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EF6F-F5D1-4CC6-902C-3FC84347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D93A-1708-4962-BDA5-815560B0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9A42-5C98-4EF8-8E6B-619A7F41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57D9-F61B-42AD-9BCE-37F5E5BD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236160"/>
            <a:ext cx="388620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7DF0-AB94-4A1F-A549-8E7089AD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9EB8-8073-42FB-BDB3-DD2A9AB1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388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ABB0-F524-45C6-B65B-89EDDB57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F5E2-1D54-44A4-AEA1-D09111A0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 fontScale="82000"/>
          </a:bodyPr>
          <a:p>
            <a:pPr marL="127440" indent="-1274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275760" indent="-10656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2444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59364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2430360"/>
            <a:ext cx="95220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040" y="2430360"/>
            <a:ext cx="144792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720" y="2430360"/>
            <a:ext cx="95256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 algn="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fld id="{AA24AEF6-9CAC-4F8E-9269-FE13F73C128D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14605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965160"/>
            <a:ext cx="1371600" cy="800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71280"/>
            <a:ext cx="137160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7640" y="146880"/>
            <a:ext cx="826920" cy="459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S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640" y="2071800"/>
            <a:ext cx="550800" cy="500040"/>
          </a:xfrm>
          <a:prstGeom prst="can">
            <a:avLst>
              <a:gd name="adj" fmla="val 1057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9760" y="2076480"/>
            <a:ext cx="571320" cy="495360"/>
          </a:xfrm>
          <a:prstGeom prst="can">
            <a:avLst>
              <a:gd name="adj" fmla="val 1057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4605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650960"/>
            <a:ext cx="304920" cy="30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8050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51" idx="2"/>
            <a:endCxn id="47" idx="7"/>
          </p:cNvCxnSpPr>
          <p:nvPr/>
        </p:nvCxnSpPr>
        <p:spPr>
          <a:xfrm flipH="1">
            <a:off x="412560" y="1460520"/>
            <a:ext cx="27360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51" idx="2"/>
            <a:endCxn id="48" idx="7"/>
          </p:cNvCxnSpPr>
          <p:nvPr/>
        </p:nvCxnSpPr>
        <p:spPr>
          <a:xfrm flipH="1">
            <a:off x="412560" y="1460520"/>
            <a:ext cx="27360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1" idx="2"/>
            <a:endCxn id="49" idx="7"/>
          </p:cNvCxnSpPr>
          <p:nvPr/>
        </p:nvCxnSpPr>
        <p:spPr>
          <a:xfrm flipH="1">
            <a:off x="412560" y="1460520"/>
            <a:ext cx="27360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1562040" y="546120"/>
            <a:ext cx="266760" cy="1563840"/>
          </a:xfrm>
          <a:prstGeom prst="upDownArrow">
            <a:avLst>
              <a:gd name="adj1" fmla="val 50000"/>
              <a:gd name="adj2" fmla="val 768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1231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1650960"/>
            <a:ext cx="304560" cy="30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6"/>
            <a:endCxn id="58" idx="1"/>
          </p:cNvCxnSpPr>
          <p:nvPr/>
        </p:nvCxnSpPr>
        <p:spPr>
          <a:xfrm>
            <a:off x="1905120" y="1460520"/>
            <a:ext cx="273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5" idx="6"/>
            <a:endCxn id="41" idx="1"/>
          </p:cNvCxnSpPr>
          <p:nvPr/>
        </p:nvCxnSpPr>
        <p:spPr>
          <a:xfrm>
            <a:off x="1905120" y="1460520"/>
            <a:ext cx="27360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5" idx="6"/>
            <a:endCxn id="56" idx="1"/>
          </p:cNvCxnSpPr>
          <p:nvPr/>
        </p:nvCxnSpPr>
        <p:spPr>
          <a:xfrm>
            <a:off x="1905120" y="1460520"/>
            <a:ext cx="27360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2133720" y="184320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7480" y="14335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87480" y="181620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7680" y="144792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BC 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31280" y="1832040"/>
            <a:ext cx="120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11520" y="1397160"/>
            <a:ext cx="167616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6160" y="546120"/>
            <a:ext cx="266760" cy="1563840"/>
          </a:xfrm>
          <a:prstGeom prst="upDownArrow">
            <a:avLst>
              <a:gd name="adj1" fmla="val 50000"/>
              <a:gd name="adj2" fmla="val 768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231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3800" y="985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stency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920" y="34920"/>
            <a:ext cx="4498920" cy="259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0T13:05:56Z</dcterms:created>
  <dc:creator>Roger the Rabbit</dc:creator>
  <dc:description/>
  <dc:language>en-US</dc:language>
  <cp:lastModifiedBy>Marco Cattaneo</cp:lastModifiedBy>
  <cp:lastPrinted>1999-05-20T13:43:05Z</cp:lastPrinted>
  <dcterms:modified xsi:type="dcterms:W3CDTF">2001-01-12T17:17:06Z</dcterms:modified>
  <cp:revision>4</cp:revision>
  <dc:subject/>
  <dc:title>No Slide Title</dc:title>
</cp:coreProperties>
</file>