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526088" cy="3617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928-416C-4CC4-B9AD-4914FDEE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522-EADC-4B73-9329-90EA64BF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09F-80B0-4CE1-8C1F-45289736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019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895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019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895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507-D190-4A8F-B17C-1394DA43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7C35-E47F-42B2-AAB8-0A218CEC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37C-59FB-4AB4-97D4-96660B0C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162-9A5E-46FC-8CF2-2B3B6028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143-DB88-4FCD-9FDD-FB8ADB8E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360" y="322200"/>
            <a:ext cx="469584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22C-4C24-46AF-BF6B-CA89191E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9F8-38FD-4D3B-A7B0-2A3DB8B2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25C-121F-4239-A2BE-D1779265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BCB-FB67-4910-A70D-CA55B8D0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 fontScale="88000"/>
          </a:bodyPr>
          <a:p>
            <a:pPr marL="176040" indent="-176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800" indent="-145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36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82008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87480" y="3297240"/>
            <a:ext cx="174960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5892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fld id="{A59ECBCB-3932-4B6C-9D2A-03BDE5F9261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2840" y="3257640"/>
            <a:ext cx="362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39600" y="133920"/>
            <a:ext cx="1828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LHCb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640" y="30240"/>
            <a:ext cx="5473440" cy="35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5000" y="3040200"/>
            <a:ext cx="868320" cy="361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9480" y="649440"/>
            <a:ext cx="6872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cb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6384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756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AN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19480" y="2098800"/>
            <a:ext cx="434880" cy="50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0" y="296712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DD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ba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7440" y="141120"/>
            <a:ext cx="3260880" cy="29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9880" y="108432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25040" y="2387520"/>
            <a:ext cx="435240" cy="579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988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11160" y="2532240"/>
            <a:ext cx="9432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60640" y="2316240"/>
            <a:ext cx="6872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De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11160" y="1663560"/>
            <a:ext cx="797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HCb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 mod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2040" y="1873080"/>
            <a:ext cx="2719440" cy="168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0800" y="1848240"/>
            <a:ext cx="103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Gaudi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33840" y="1787400"/>
            <a:ext cx="1068120" cy="398520"/>
            <a:chOff x="2733840" y="1787400"/>
            <a:chExt cx="1068120" cy="398520"/>
          </a:xfrm>
        </p:grpSpPr>
        <p:sp>
          <p:nvSpPr>
            <p:cNvPr id="60" name=""/>
            <p:cNvSpPr/>
            <p:nvPr/>
          </p:nvSpPr>
          <p:spPr>
            <a:xfrm>
              <a:off x="2733840" y="1787400"/>
              <a:ext cx="978840" cy="3985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1922400"/>
              <a:ext cx="491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0480" y="2017440"/>
              <a:ext cx="797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0640" y="1916280"/>
              <a:ext cx="91800" cy="74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0640" y="20408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0640" y="21164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0120" y="2093040"/>
              <a:ext cx="861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50200" y="1813680"/>
              <a:ext cx="427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80640" y="1807560"/>
              <a:ext cx="91800" cy="74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724120" y="1781280"/>
            <a:ext cx="2738520" cy="17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64080" y="1800360"/>
            <a:ext cx="869760" cy="18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32160" y="2346480"/>
            <a:ext cx="1663560" cy="1209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46640" y="2598840"/>
            <a:ext cx="217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65280" y="3009960"/>
            <a:ext cx="45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772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3864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911760" y="3105000"/>
            <a:ext cx="21744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346640" y="2598840"/>
            <a:ext cx="32688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3720" y="3070080"/>
            <a:ext cx="181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6280" y="3070080"/>
            <a:ext cx="3618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83000" y="2271600"/>
            <a:ext cx="14472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3520" y="2271600"/>
            <a:ext cx="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18240" y="3287880"/>
            <a:ext cx="39816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346280" y="2344680"/>
            <a:ext cx="94284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00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89480" y="234468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6000" y="29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8560" y="29242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9080" y="3141720"/>
            <a:ext cx="25416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22720" y="3324240"/>
            <a:ext cx="2905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14720" y="346860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7280" y="26352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59080" y="2779560"/>
            <a:ext cx="14436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9640" y="2489040"/>
            <a:ext cx="2538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3760" y="2852640"/>
            <a:ext cx="217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4600" y="227160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46280" y="2960640"/>
            <a:ext cx="29052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8640" y="25988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4480" y="2598840"/>
            <a:ext cx="14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0680" y="2598840"/>
            <a:ext cx="325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18240" y="2598840"/>
            <a:ext cx="652320" cy="93024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46640" y="2635200"/>
            <a:ext cx="689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27720" y="2054160"/>
            <a:ext cx="34416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1200" y="2887560"/>
            <a:ext cx="3427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3000" y="3214800"/>
            <a:ext cx="29052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2480" y="321480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49600" y="3214800"/>
            <a:ext cx="434880" cy="190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3240" y="3432240"/>
            <a:ext cx="1323720" cy="10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452680"/>
            <a:ext cx="29016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8400" y="2127240"/>
            <a:ext cx="3445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51120" y="223524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65560" y="2054160"/>
            <a:ext cx="34452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35680" y="314172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18040" y="2635200"/>
            <a:ext cx="3445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32200" y="2706840"/>
            <a:ext cx="344520" cy="226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05280" y="29973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32200" y="3178080"/>
            <a:ext cx="309600" cy="1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743200"/>
            <a:ext cx="40356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2417760"/>
            <a:ext cx="40320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7280" y="33591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55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401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3760" y="2381400"/>
            <a:ext cx="36648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7720" y="238140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41640" y="2235240"/>
            <a:ext cx="1123920" cy="1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1280" y="2381400"/>
            <a:ext cx="831960" cy="123804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6360" y="1830240"/>
            <a:ext cx="477720" cy="4284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14800"/>
            <a:ext cx="28908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81520" y="3070080"/>
            <a:ext cx="36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7160" y="285264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436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080" y="202572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880" y="17352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431640"/>
            <a:ext cx="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84240" y="1084320"/>
            <a:ext cx="730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319480" y="1084320"/>
            <a:ext cx="712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808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3320" y="325764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1040" y="431640"/>
            <a:ext cx="723960" cy="188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31920" y="649440"/>
            <a:ext cx="6890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i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5400" y="1735200"/>
            <a:ext cx="50652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6384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60880" y="431640"/>
            <a:ext cx="579240" cy="144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0" y="130176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1680" y="43164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2-13T12:17:32Z</dcterms:modified>
  <cp:revision>34</cp:revision>
  <dc:subject/>
  <dc:title>No Slide Title</dc:title>
</cp:coreProperties>
</file>