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827713" cy="38877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9EAB-FCEA-4F50-BACE-6F59628CE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36320" y="1123920"/>
            <a:ext cx="495612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6320" y="2342160"/>
            <a:ext cx="495612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63FD-2AA2-4D67-9927-EF670048A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36320" y="112392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976120" y="112392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36320" y="234216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976120" y="234216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F411-D948-4071-B659-09A6A62F1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36320" y="1123920"/>
            <a:ext cx="159552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112120" y="1123920"/>
            <a:ext cx="159552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787560" y="1123920"/>
            <a:ext cx="159552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36320" y="2342160"/>
            <a:ext cx="159552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112120" y="2342160"/>
            <a:ext cx="159552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787560" y="2342160"/>
            <a:ext cx="159552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FFB6-A7F9-4CE4-916B-BB3F70E9E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36320" y="1123920"/>
            <a:ext cx="4956120" cy="23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38E7-7EEF-408A-8C2F-A6E4EFD75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36320" y="1123920"/>
            <a:ext cx="4956120" cy="23320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6594-DF7A-468A-B6CB-73C1C7FD9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36320" y="1123920"/>
            <a:ext cx="2418480" cy="23320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976120" y="1123920"/>
            <a:ext cx="2418480" cy="23320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7AA8-394A-4322-A908-CC0138FB6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BD46-F1AC-422F-AD83-11B767046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36320" y="345600"/>
            <a:ext cx="49561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1DC1-0845-4F9B-B535-EAE5CB252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36320" y="112392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976120" y="1123920"/>
            <a:ext cx="2418480" cy="23320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320" y="234216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58A4-7B9E-4E7D-9413-C47562E4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36320" y="1123920"/>
            <a:ext cx="2418480" cy="23320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976120" y="112392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76120" y="234216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5762-F055-40E3-8659-81F93497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36320" y="112392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976120" y="112392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36320" y="2342160"/>
            <a:ext cx="495612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5EC8-D8ED-4AD1-BD28-1277EDEB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6320" y="1123920"/>
            <a:ext cx="4956120" cy="23320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 fontScale="90000"/>
          </a:bodyPr>
          <a:p>
            <a:pPr marL="191160" indent="-1911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14360" indent="-159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37200" indent="-127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891360" indent="-127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145880" indent="-127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145880" indent="-127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145880" indent="-127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6320" y="3540240"/>
            <a:ext cx="1214280" cy="2584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Autofit/>
          </a:bodyPr>
          <a:lstStyle>
            <a:lvl1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92240" y="3540240"/>
            <a:ext cx="1844640" cy="2584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Autofit/>
          </a:bodyPr>
          <a:lstStyle>
            <a:lvl1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178160" y="3540240"/>
            <a:ext cx="1214640" cy="2584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Autofit/>
          </a:bodyPr>
          <a:lstStyle>
            <a:lvl1pPr indent="0" algn="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fld id="{25189918-63A0-4EE2-9CF2-A731ECC9BFD8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595600" y="77760"/>
            <a:ext cx="617400" cy="429840"/>
            <a:chOff x="2595600" y="77760"/>
            <a:chExt cx="617400" cy="429840"/>
          </a:xfrm>
        </p:grpSpPr>
        <p:sp>
          <p:nvSpPr>
            <p:cNvPr id="42" name=""/>
            <p:cNvSpPr/>
            <p:nvPr/>
          </p:nvSpPr>
          <p:spPr>
            <a:xfrm>
              <a:off x="2595600" y="77760"/>
              <a:ext cx="615960" cy="428400"/>
            </a:xfrm>
            <a:custGeom>
              <a:avLst/>
              <a:gdLst/>
              <a:ahLst/>
              <a:rect l="l" t="t" r="r" b="b"/>
              <a:pathLst>
                <a:path w="931" h="585">
                  <a:moveTo>
                    <a:pt x="0" y="585"/>
                  </a:moveTo>
                  <a:lnTo>
                    <a:pt x="931" y="585"/>
                  </a:lnTo>
                  <a:lnTo>
                    <a:pt x="931" y="84"/>
                  </a:lnTo>
                  <a:lnTo>
                    <a:pt x="838" y="0"/>
                  </a:lnTo>
                  <a:lnTo>
                    <a:pt x="558" y="0"/>
                  </a:lnTo>
                  <a:lnTo>
                    <a:pt x="465" y="84"/>
                  </a:lnTo>
                  <a:lnTo>
                    <a:pt x="0" y="84"/>
                  </a:lnTo>
                  <a:lnTo>
                    <a:pt x="0" y="585"/>
                  </a:lnTo>
                  <a:close/>
                </a:path>
              </a:pathLst>
            </a:custGeom>
            <a:solidFill>
              <a:srgbClr val="66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595600" y="139320"/>
              <a:ext cx="617400" cy="368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698560" y="214200"/>
              <a:ext cx="43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pack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1427040" y="936720"/>
            <a:ext cx="615960" cy="430200"/>
            <a:chOff x="1427040" y="936720"/>
            <a:chExt cx="615960" cy="430200"/>
          </a:xfrm>
        </p:grpSpPr>
        <p:sp>
          <p:nvSpPr>
            <p:cNvPr id="46" name=""/>
            <p:cNvSpPr/>
            <p:nvPr/>
          </p:nvSpPr>
          <p:spPr>
            <a:xfrm>
              <a:off x="1427040" y="936720"/>
              <a:ext cx="614520" cy="430200"/>
            </a:xfrm>
            <a:custGeom>
              <a:avLst/>
              <a:gdLst/>
              <a:ahLst/>
              <a:rect l="l" t="t" r="r" b="b"/>
              <a:pathLst>
                <a:path w="931" h="584">
                  <a:moveTo>
                    <a:pt x="0" y="584"/>
                  </a:moveTo>
                  <a:lnTo>
                    <a:pt x="931" y="584"/>
                  </a:lnTo>
                  <a:lnTo>
                    <a:pt x="931" y="83"/>
                  </a:lnTo>
                  <a:lnTo>
                    <a:pt x="838" y="0"/>
                  </a:lnTo>
                  <a:lnTo>
                    <a:pt x="559" y="0"/>
                  </a:lnTo>
                  <a:lnTo>
                    <a:pt x="466" y="83"/>
                  </a:lnTo>
                  <a:lnTo>
                    <a:pt x="0" y="83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66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27040" y="998280"/>
              <a:ext cx="615960" cy="368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57440" y="1073160"/>
              <a:ext cx="16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v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5600" y="936720"/>
            <a:ext cx="617400" cy="430200"/>
            <a:chOff x="2595600" y="936720"/>
            <a:chExt cx="617400" cy="430200"/>
          </a:xfrm>
        </p:grpSpPr>
        <p:sp>
          <p:nvSpPr>
            <p:cNvPr id="50" name=""/>
            <p:cNvSpPr/>
            <p:nvPr/>
          </p:nvSpPr>
          <p:spPr>
            <a:xfrm>
              <a:off x="2595600" y="936720"/>
              <a:ext cx="615960" cy="430200"/>
            </a:xfrm>
            <a:custGeom>
              <a:avLst/>
              <a:gdLst/>
              <a:ahLst/>
              <a:rect l="l" t="t" r="r" b="b"/>
              <a:pathLst>
                <a:path w="931" h="584">
                  <a:moveTo>
                    <a:pt x="0" y="584"/>
                  </a:moveTo>
                  <a:lnTo>
                    <a:pt x="931" y="584"/>
                  </a:lnTo>
                  <a:lnTo>
                    <a:pt x="931" y="83"/>
                  </a:lnTo>
                  <a:lnTo>
                    <a:pt x="838" y="0"/>
                  </a:lnTo>
                  <a:lnTo>
                    <a:pt x="558" y="0"/>
                  </a:lnTo>
                  <a:lnTo>
                    <a:pt x="465" y="83"/>
                  </a:lnTo>
                  <a:lnTo>
                    <a:pt x="0" y="83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66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95600" y="998280"/>
              <a:ext cx="617400" cy="368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54000" y="1073160"/>
              <a:ext cx="31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v1r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889440" y="936720"/>
            <a:ext cx="617400" cy="430200"/>
            <a:chOff x="3889440" y="936720"/>
            <a:chExt cx="617400" cy="430200"/>
          </a:xfrm>
        </p:grpSpPr>
        <p:sp>
          <p:nvSpPr>
            <p:cNvPr id="54" name=""/>
            <p:cNvSpPr/>
            <p:nvPr/>
          </p:nvSpPr>
          <p:spPr>
            <a:xfrm>
              <a:off x="3889440" y="936720"/>
              <a:ext cx="615960" cy="430200"/>
            </a:xfrm>
            <a:custGeom>
              <a:avLst/>
              <a:gdLst/>
              <a:ahLst/>
              <a:rect l="l" t="t" r="r" b="b"/>
              <a:pathLst>
                <a:path w="932" h="584">
                  <a:moveTo>
                    <a:pt x="0" y="584"/>
                  </a:moveTo>
                  <a:lnTo>
                    <a:pt x="932" y="584"/>
                  </a:lnTo>
                  <a:lnTo>
                    <a:pt x="932" y="83"/>
                  </a:lnTo>
                  <a:lnTo>
                    <a:pt x="839" y="0"/>
                  </a:lnTo>
                  <a:lnTo>
                    <a:pt x="559" y="0"/>
                  </a:lnTo>
                  <a:lnTo>
                    <a:pt x="466" y="83"/>
                  </a:lnTo>
                  <a:lnTo>
                    <a:pt x="0" y="83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66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889440" y="998280"/>
              <a:ext cx="617400" cy="368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20200" y="1073160"/>
              <a:ext cx="16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v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903400" y="506520"/>
            <a:ext cx="1800" cy="24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33400" y="752400"/>
            <a:ext cx="1800" cy="24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733040" y="752400"/>
            <a:ext cx="2403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03400" y="752400"/>
            <a:ext cx="1800" cy="24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37120" y="752400"/>
            <a:ext cx="1440" cy="24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903400" y="1366920"/>
            <a:ext cx="180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687240" y="1795320"/>
            <a:ext cx="4741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379440" y="1979640"/>
            <a:ext cx="617400" cy="429840"/>
            <a:chOff x="379440" y="1979640"/>
            <a:chExt cx="617400" cy="429840"/>
          </a:xfrm>
        </p:grpSpPr>
        <p:sp>
          <p:nvSpPr>
            <p:cNvPr id="65" name=""/>
            <p:cNvSpPr/>
            <p:nvPr/>
          </p:nvSpPr>
          <p:spPr>
            <a:xfrm>
              <a:off x="379440" y="1979640"/>
              <a:ext cx="615960" cy="428760"/>
            </a:xfrm>
            <a:custGeom>
              <a:avLst/>
              <a:gdLst/>
              <a:ahLst/>
              <a:rect l="l" t="t" r="r" b="b"/>
              <a:pathLst>
                <a:path w="931" h="584">
                  <a:moveTo>
                    <a:pt x="0" y="584"/>
                  </a:moveTo>
                  <a:lnTo>
                    <a:pt x="931" y="584"/>
                  </a:lnTo>
                  <a:lnTo>
                    <a:pt x="931" y="83"/>
                  </a:lnTo>
                  <a:lnTo>
                    <a:pt x="838" y="0"/>
                  </a:lnTo>
                  <a:lnTo>
                    <a:pt x="559" y="0"/>
                  </a:lnTo>
                  <a:lnTo>
                    <a:pt x="466" y="83"/>
                  </a:lnTo>
                  <a:lnTo>
                    <a:pt x="0" y="83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66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9440" y="2041200"/>
              <a:ext cx="617400" cy="368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57280" y="2116080"/>
              <a:ext cx="27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cm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687240" y="1795320"/>
            <a:ext cx="1800" cy="24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117440" y="1979640"/>
            <a:ext cx="617760" cy="429840"/>
            <a:chOff x="1117440" y="1979640"/>
            <a:chExt cx="617760" cy="429840"/>
          </a:xfrm>
        </p:grpSpPr>
        <p:sp>
          <p:nvSpPr>
            <p:cNvPr id="70" name=""/>
            <p:cNvSpPr/>
            <p:nvPr/>
          </p:nvSpPr>
          <p:spPr>
            <a:xfrm>
              <a:off x="1117440" y="1979640"/>
              <a:ext cx="616320" cy="428760"/>
            </a:xfrm>
            <a:custGeom>
              <a:avLst/>
              <a:gdLst/>
              <a:ahLst/>
              <a:rect l="l" t="t" r="r" b="b"/>
              <a:pathLst>
                <a:path w="932" h="584">
                  <a:moveTo>
                    <a:pt x="0" y="584"/>
                  </a:moveTo>
                  <a:lnTo>
                    <a:pt x="932" y="584"/>
                  </a:lnTo>
                  <a:lnTo>
                    <a:pt x="932" y="83"/>
                  </a:lnTo>
                  <a:lnTo>
                    <a:pt x="839" y="0"/>
                  </a:lnTo>
                  <a:lnTo>
                    <a:pt x="559" y="0"/>
                  </a:lnTo>
                  <a:lnTo>
                    <a:pt x="466" y="83"/>
                  </a:lnTo>
                  <a:lnTo>
                    <a:pt x="0" y="83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66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117440" y="2041200"/>
              <a:ext cx="617760" cy="368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25520" y="2116080"/>
              <a:ext cx="20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sr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427040" y="1795320"/>
            <a:ext cx="0" cy="24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595600" y="1979640"/>
            <a:ext cx="617400" cy="429840"/>
            <a:chOff x="2595600" y="1979640"/>
            <a:chExt cx="617400" cy="429840"/>
          </a:xfrm>
        </p:grpSpPr>
        <p:sp>
          <p:nvSpPr>
            <p:cNvPr id="75" name=""/>
            <p:cNvSpPr/>
            <p:nvPr/>
          </p:nvSpPr>
          <p:spPr>
            <a:xfrm>
              <a:off x="2595600" y="1979640"/>
              <a:ext cx="615960" cy="428760"/>
            </a:xfrm>
            <a:custGeom>
              <a:avLst/>
              <a:gdLst/>
              <a:ahLst/>
              <a:rect l="l" t="t" r="r" b="b"/>
              <a:pathLst>
                <a:path w="931" h="584">
                  <a:moveTo>
                    <a:pt x="0" y="584"/>
                  </a:moveTo>
                  <a:lnTo>
                    <a:pt x="931" y="584"/>
                  </a:lnTo>
                  <a:lnTo>
                    <a:pt x="931" y="83"/>
                  </a:lnTo>
                  <a:lnTo>
                    <a:pt x="838" y="0"/>
                  </a:lnTo>
                  <a:lnTo>
                    <a:pt x="558" y="0"/>
                  </a:lnTo>
                  <a:lnTo>
                    <a:pt x="465" y="83"/>
                  </a:lnTo>
                  <a:lnTo>
                    <a:pt x="0" y="83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66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595600" y="2041200"/>
              <a:ext cx="617400" cy="368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78120" y="2116080"/>
              <a:ext cx="26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do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2903400" y="1795320"/>
            <a:ext cx="1800" cy="24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3335400" y="1974960"/>
            <a:ext cx="617400" cy="501120"/>
            <a:chOff x="3335400" y="1974960"/>
            <a:chExt cx="617400" cy="501120"/>
          </a:xfrm>
        </p:grpSpPr>
        <p:sp>
          <p:nvSpPr>
            <p:cNvPr id="80" name=""/>
            <p:cNvSpPr/>
            <p:nvPr/>
          </p:nvSpPr>
          <p:spPr>
            <a:xfrm>
              <a:off x="3335400" y="1974960"/>
              <a:ext cx="615960" cy="428040"/>
            </a:xfrm>
            <a:custGeom>
              <a:avLst/>
              <a:gdLst/>
              <a:ahLst/>
              <a:rect l="l" t="t" r="r" b="b"/>
              <a:pathLst>
                <a:path w="932" h="584">
                  <a:moveTo>
                    <a:pt x="0" y="584"/>
                  </a:moveTo>
                  <a:lnTo>
                    <a:pt x="932" y="584"/>
                  </a:lnTo>
                  <a:lnTo>
                    <a:pt x="932" y="83"/>
                  </a:lnTo>
                  <a:lnTo>
                    <a:pt x="838" y="0"/>
                  </a:lnTo>
                  <a:lnTo>
                    <a:pt x="559" y="0"/>
                  </a:lnTo>
                  <a:lnTo>
                    <a:pt x="466" y="83"/>
                  </a:lnTo>
                  <a:lnTo>
                    <a:pt x="0" y="83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b0d1f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335400" y="2036160"/>
              <a:ext cx="617400" cy="367920"/>
            </a:xfrm>
            <a:prstGeom prst="rect">
              <a:avLst/>
            </a:prstGeom>
            <a:solidFill>
              <a:srgbClr val="b0d1f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448800" y="211104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3643200" y="1795320"/>
            <a:ext cx="1800" cy="24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75200" y="1979640"/>
            <a:ext cx="615960" cy="428760"/>
          </a:xfrm>
          <a:custGeom>
            <a:avLst/>
            <a:gdLst/>
            <a:ahLst/>
            <a:rect l="l" t="t" r="r" b="b"/>
            <a:pathLst>
              <a:path w="931" h="584">
                <a:moveTo>
                  <a:pt x="0" y="584"/>
                </a:moveTo>
                <a:lnTo>
                  <a:pt x="931" y="584"/>
                </a:lnTo>
                <a:lnTo>
                  <a:pt x="931" y="83"/>
                </a:lnTo>
                <a:lnTo>
                  <a:pt x="838" y="0"/>
                </a:lnTo>
                <a:lnTo>
                  <a:pt x="559" y="0"/>
                </a:lnTo>
                <a:lnTo>
                  <a:pt x="466" y="83"/>
                </a:lnTo>
                <a:lnTo>
                  <a:pt x="0" y="83"/>
                </a:lnTo>
                <a:lnTo>
                  <a:pt x="0" y="584"/>
                </a:lnTo>
                <a:close/>
              </a:path>
            </a:pathLst>
          </a:custGeom>
          <a:solidFill>
            <a:srgbClr val="b0d1f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75200" y="2041560"/>
            <a:ext cx="617400" cy="368280"/>
          </a:xfrm>
          <a:prstGeom prst="rect">
            <a:avLst/>
          </a:prstGeom>
          <a:solidFill>
            <a:srgbClr val="b0d1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11560" y="2057400"/>
            <a:ext cx="5814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rh61</a:t>
            </a: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_g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2952db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70480" y="21384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383000" y="1795320"/>
            <a:ext cx="1800" cy="24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122800" y="1979640"/>
            <a:ext cx="615960" cy="591840"/>
            <a:chOff x="5122800" y="1979640"/>
            <a:chExt cx="615960" cy="591840"/>
          </a:xfrm>
        </p:grpSpPr>
        <p:sp>
          <p:nvSpPr>
            <p:cNvPr id="90" name=""/>
            <p:cNvSpPr/>
            <p:nvPr/>
          </p:nvSpPr>
          <p:spPr>
            <a:xfrm>
              <a:off x="5122800" y="1979640"/>
              <a:ext cx="614520" cy="429120"/>
            </a:xfrm>
            <a:custGeom>
              <a:avLst/>
              <a:gdLst/>
              <a:ahLst/>
              <a:rect l="l" t="t" r="r" b="b"/>
              <a:pathLst>
                <a:path w="931" h="584">
                  <a:moveTo>
                    <a:pt x="0" y="584"/>
                  </a:moveTo>
                  <a:lnTo>
                    <a:pt x="931" y="584"/>
                  </a:lnTo>
                  <a:lnTo>
                    <a:pt x="931" y="83"/>
                  </a:lnTo>
                  <a:lnTo>
                    <a:pt x="838" y="0"/>
                  </a:lnTo>
                  <a:lnTo>
                    <a:pt x="559" y="0"/>
                  </a:lnTo>
                  <a:lnTo>
                    <a:pt x="466" y="83"/>
                  </a:lnTo>
                  <a:lnTo>
                    <a:pt x="0" y="83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b0d1f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122800" y="2041200"/>
              <a:ext cx="615960" cy="368640"/>
            </a:xfrm>
            <a:prstGeom prst="rect">
              <a:avLst/>
            </a:prstGeom>
            <a:solidFill>
              <a:srgbClr val="b0d1f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249520" y="2029320"/>
              <a:ext cx="3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185800" y="2207160"/>
              <a:ext cx="360" cy="3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5429160" y="1795320"/>
            <a:ext cx="1800" cy="24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857240" y="1979640"/>
            <a:ext cx="617760" cy="429840"/>
            <a:chOff x="1857240" y="1979640"/>
            <a:chExt cx="617760" cy="429840"/>
          </a:xfrm>
        </p:grpSpPr>
        <p:sp>
          <p:nvSpPr>
            <p:cNvPr id="96" name=""/>
            <p:cNvSpPr/>
            <p:nvPr/>
          </p:nvSpPr>
          <p:spPr>
            <a:xfrm>
              <a:off x="1857240" y="1979640"/>
              <a:ext cx="616320" cy="428760"/>
            </a:xfrm>
            <a:custGeom>
              <a:avLst/>
              <a:gdLst/>
              <a:ahLst/>
              <a:rect l="l" t="t" r="r" b="b"/>
              <a:pathLst>
                <a:path w="931" h="584">
                  <a:moveTo>
                    <a:pt x="0" y="584"/>
                  </a:moveTo>
                  <a:lnTo>
                    <a:pt x="931" y="584"/>
                  </a:lnTo>
                  <a:lnTo>
                    <a:pt x="931" y="83"/>
                  </a:lnTo>
                  <a:lnTo>
                    <a:pt x="838" y="0"/>
                  </a:lnTo>
                  <a:lnTo>
                    <a:pt x="559" y="0"/>
                  </a:lnTo>
                  <a:lnTo>
                    <a:pt x="466" y="83"/>
                  </a:lnTo>
                  <a:lnTo>
                    <a:pt x="0" y="83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66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57240" y="2041200"/>
              <a:ext cx="617760" cy="368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959840" y="2116080"/>
              <a:ext cx="43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pack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2165400" y="1795320"/>
            <a:ext cx="0" cy="24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16360" y="304920"/>
            <a:ext cx="1650960" cy="1471320"/>
          </a:xfrm>
          <a:custGeom>
            <a:avLst/>
            <a:gdLst/>
            <a:ahLst/>
            <a:rect l="l" t="t" r="r" b="b"/>
            <a:pathLst>
              <a:path w="2497" h="2005">
                <a:moveTo>
                  <a:pt x="1178" y="0"/>
                </a:moveTo>
                <a:lnTo>
                  <a:pt x="1125" y="2"/>
                </a:lnTo>
                <a:lnTo>
                  <a:pt x="1075" y="5"/>
                </a:lnTo>
                <a:lnTo>
                  <a:pt x="1030" y="9"/>
                </a:lnTo>
                <a:lnTo>
                  <a:pt x="991" y="16"/>
                </a:lnTo>
                <a:lnTo>
                  <a:pt x="974" y="21"/>
                </a:lnTo>
                <a:lnTo>
                  <a:pt x="958" y="25"/>
                </a:lnTo>
                <a:lnTo>
                  <a:pt x="945" y="30"/>
                </a:lnTo>
                <a:lnTo>
                  <a:pt x="935" y="33"/>
                </a:lnTo>
                <a:lnTo>
                  <a:pt x="925" y="38"/>
                </a:lnTo>
                <a:lnTo>
                  <a:pt x="919" y="44"/>
                </a:lnTo>
                <a:lnTo>
                  <a:pt x="916" y="51"/>
                </a:lnTo>
                <a:lnTo>
                  <a:pt x="914" y="56"/>
                </a:lnTo>
                <a:lnTo>
                  <a:pt x="914" y="195"/>
                </a:lnTo>
                <a:lnTo>
                  <a:pt x="914" y="278"/>
                </a:lnTo>
                <a:lnTo>
                  <a:pt x="916" y="284"/>
                </a:lnTo>
                <a:lnTo>
                  <a:pt x="919" y="291"/>
                </a:lnTo>
                <a:lnTo>
                  <a:pt x="925" y="296"/>
                </a:lnTo>
                <a:lnTo>
                  <a:pt x="935" y="301"/>
                </a:lnTo>
                <a:lnTo>
                  <a:pt x="945" y="304"/>
                </a:lnTo>
                <a:lnTo>
                  <a:pt x="958" y="310"/>
                </a:lnTo>
                <a:lnTo>
                  <a:pt x="974" y="315"/>
                </a:lnTo>
                <a:lnTo>
                  <a:pt x="991" y="318"/>
                </a:lnTo>
                <a:lnTo>
                  <a:pt x="1030" y="325"/>
                </a:lnTo>
                <a:lnTo>
                  <a:pt x="1075" y="331"/>
                </a:lnTo>
                <a:lnTo>
                  <a:pt x="1125" y="332"/>
                </a:lnTo>
                <a:lnTo>
                  <a:pt x="1178" y="334"/>
                </a:lnTo>
                <a:lnTo>
                  <a:pt x="0" y="2005"/>
                </a:lnTo>
                <a:lnTo>
                  <a:pt x="1573" y="334"/>
                </a:lnTo>
                <a:lnTo>
                  <a:pt x="2233" y="334"/>
                </a:lnTo>
                <a:lnTo>
                  <a:pt x="2285" y="332"/>
                </a:lnTo>
                <a:lnTo>
                  <a:pt x="2336" y="331"/>
                </a:lnTo>
                <a:lnTo>
                  <a:pt x="2381" y="325"/>
                </a:lnTo>
                <a:lnTo>
                  <a:pt x="2419" y="318"/>
                </a:lnTo>
                <a:lnTo>
                  <a:pt x="2437" y="315"/>
                </a:lnTo>
                <a:lnTo>
                  <a:pt x="2452" y="310"/>
                </a:lnTo>
                <a:lnTo>
                  <a:pt x="2466" y="304"/>
                </a:lnTo>
                <a:lnTo>
                  <a:pt x="2476" y="301"/>
                </a:lnTo>
                <a:lnTo>
                  <a:pt x="2485" y="296"/>
                </a:lnTo>
                <a:lnTo>
                  <a:pt x="2491" y="291"/>
                </a:lnTo>
                <a:lnTo>
                  <a:pt x="2495" y="284"/>
                </a:lnTo>
                <a:lnTo>
                  <a:pt x="2497" y="278"/>
                </a:lnTo>
                <a:lnTo>
                  <a:pt x="2497" y="195"/>
                </a:lnTo>
                <a:lnTo>
                  <a:pt x="2497" y="56"/>
                </a:lnTo>
                <a:lnTo>
                  <a:pt x="2495" y="51"/>
                </a:lnTo>
                <a:lnTo>
                  <a:pt x="2491" y="44"/>
                </a:lnTo>
                <a:lnTo>
                  <a:pt x="2485" y="38"/>
                </a:lnTo>
                <a:lnTo>
                  <a:pt x="2476" y="33"/>
                </a:lnTo>
                <a:lnTo>
                  <a:pt x="2466" y="30"/>
                </a:lnTo>
                <a:lnTo>
                  <a:pt x="2452" y="25"/>
                </a:lnTo>
                <a:lnTo>
                  <a:pt x="2437" y="21"/>
                </a:lnTo>
                <a:lnTo>
                  <a:pt x="2419" y="16"/>
                </a:lnTo>
                <a:lnTo>
                  <a:pt x="2381" y="9"/>
                </a:lnTo>
                <a:lnTo>
                  <a:pt x="2336" y="5"/>
                </a:lnTo>
                <a:lnTo>
                  <a:pt x="2285" y="2"/>
                </a:lnTo>
                <a:lnTo>
                  <a:pt x="2233" y="0"/>
                </a:lnTo>
                <a:lnTo>
                  <a:pt x="1573" y="0"/>
                </a:lnTo>
                <a:lnTo>
                  <a:pt x="1178" y="0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50400" y="3319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$PACKAROO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55520" y="876240"/>
            <a:ext cx="185760" cy="550800"/>
          </a:xfrm>
          <a:custGeom>
            <a:avLst/>
            <a:gdLst/>
            <a:ahLst/>
            <a:rect l="l" t="t" r="r" b="b"/>
            <a:pathLst>
              <a:path w="280" h="752">
                <a:moveTo>
                  <a:pt x="280" y="0"/>
                </a:moveTo>
                <a:lnTo>
                  <a:pt x="251" y="2"/>
                </a:lnTo>
                <a:lnTo>
                  <a:pt x="225" y="6"/>
                </a:lnTo>
                <a:lnTo>
                  <a:pt x="202" y="11"/>
                </a:lnTo>
                <a:lnTo>
                  <a:pt x="181" y="20"/>
                </a:lnTo>
                <a:lnTo>
                  <a:pt x="163" y="28"/>
                </a:lnTo>
                <a:lnTo>
                  <a:pt x="152" y="39"/>
                </a:lnTo>
                <a:lnTo>
                  <a:pt x="142" y="51"/>
                </a:lnTo>
                <a:lnTo>
                  <a:pt x="140" y="63"/>
                </a:lnTo>
                <a:lnTo>
                  <a:pt x="140" y="313"/>
                </a:lnTo>
                <a:lnTo>
                  <a:pt x="138" y="326"/>
                </a:lnTo>
                <a:lnTo>
                  <a:pt x="128" y="338"/>
                </a:lnTo>
                <a:lnTo>
                  <a:pt x="117" y="348"/>
                </a:lnTo>
                <a:lnTo>
                  <a:pt x="99" y="359"/>
                </a:lnTo>
                <a:lnTo>
                  <a:pt x="78" y="366"/>
                </a:lnTo>
                <a:lnTo>
                  <a:pt x="55" y="371"/>
                </a:lnTo>
                <a:lnTo>
                  <a:pt x="29" y="374"/>
                </a:lnTo>
                <a:lnTo>
                  <a:pt x="0" y="376"/>
                </a:lnTo>
                <a:lnTo>
                  <a:pt x="29" y="378"/>
                </a:lnTo>
                <a:lnTo>
                  <a:pt x="55" y="381"/>
                </a:lnTo>
                <a:lnTo>
                  <a:pt x="78" y="386"/>
                </a:lnTo>
                <a:lnTo>
                  <a:pt x="99" y="395"/>
                </a:lnTo>
                <a:lnTo>
                  <a:pt x="117" y="404"/>
                </a:lnTo>
                <a:lnTo>
                  <a:pt x="128" y="414"/>
                </a:lnTo>
                <a:lnTo>
                  <a:pt x="138" y="426"/>
                </a:lnTo>
                <a:lnTo>
                  <a:pt x="140" y="439"/>
                </a:lnTo>
                <a:lnTo>
                  <a:pt x="140" y="689"/>
                </a:lnTo>
                <a:lnTo>
                  <a:pt x="142" y="701"/>
                </a:lnTo>
                <a:lnTo>
                  <a:pt x="152" y="713"/>
                </a:lnTo>
                <a:lnTo>
                  <a:pt x="163" y="724"/>
                </a:lnTo>
                <a:lnTo>
                  <a:pt x="181" y="734"/>
                </a:lnTo>
                <a:lnTo>
                  <a:pt x="202" y="741"/>
                </a:lnTo>
                <a:lnTo>
                  <a:pt x="225" y="746"/>
                </a:lnTo>
                <a:lnTo>
                  <a:pt x="251" y="750"/>
                </a:lnTo>
                <a:lnTo>
                  <a:pt x="280" y="7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9440" y="977760"/>
            <a:ext cx="6523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8200" y="992160"/>
            <a:ext cx="54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7680" y="1163520"/>
            <a:ext cx="57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35400" y="2592360"/>
            <a:ext cx="2401920" cy="182520"/>
          </a:xfrm>
          <a:custGeom>
            <a:avLst/>
            <a:gdLst/>
            <a:ahLst/>
            <a:rect l="l" t="t" r="r" b="b"/>
            <a:pathLst>
              <a:path w="3632" h="251">
                <a:moveTo>
                  <a:pt x="0" y="0"/>
                </a:moveTo>
                <a:lnTo>
                  <a:pt x="2" y="12"/>
                </a:lnTo>
                <a:lnTo>
                  <a:pt x="6" y="26"/>
                </a:lnTo>
                <a:lnTo>
                  <a:pt x="14" y="39"/>
                </a:lnTo>
                <a:lnTo>
                  <a:pt x="24" y="49"/>
                </a:lnTo>
                <a:lnTo>
                  <a:pt x="37" y="59"/>
                </a:lnTo>
                <a:lnTo>
                  <a:pt x="53" y="70"/>
                </a:lnTo>
                <a:lnTo>
                  <a:pt x="70" y="80"/>
                </a:lnTo>
                <a:lnTo>
                  <a:pt x="90" y="89"/>
                </a:lnTo>
                <a:lnTo>
                  <a:pt x="111" y="98"/>
                </a:lnTo>
                <a:lnTo>
                  <a:pt x="134" y="105"/>
                </a:lnTo>
                <a:lnTo>
                  <a:pt x="185" y="115"/>
                </a:lnTo>
                <a:lnTo>
                  <a:pt x="243" y="124"/>
                </a:lnTo>
                <a:lnTo>
                  <a:pt x="303" y="126"/>
                </a:lnTo>
                <a:lnTo>
                  <a:pt x="1514" y="126"/>
                </a:lnTo>
                <a:lnTo>
                  <a:pt x="1574" y="127"/>
                </a:lnTo>
                <a:lnTo>
                  <a:pt x="1632" y="136"/>
                </a:lnTo>
                <a:lnTo>
                  <a:pt x="1682" y="146"/>
                </a:lnTo>
                <a:lnTo>
                  <a:pt x="1706" y="153"/>
                </a:lnTo>
                <a:lnTo>
                  <a:pt x="1727" y="162"/>
                </a:lnTo>
                <a:lnTo>
                  <a:pt x="1747" y="171"/>
                </a:lnTo>
                <a:lnTo>
                  <a:pt x="1764" y="181"/>
                </a:lnTo>
                <a:lnTo>
                  <a:pt x="1780" y="192"/>
                </a:lnTo>
                <a:lnTo>
                  <a:pt x="1793" y="202"/>
                </a:lnTo>
                <a:lnTo>
                  <a:pt x="1803" y="214"/>
                </a:lnTo>
                <a:lnTo>
                  <a:pt x="1811" y="225"/>
                </a:lnTo>
                <a:lnTo>
                  <a:pt x="1814" y="239"/>
                </a:lnTo>
                <a:lnTo>
                  <a:pt x="1816" y="251"/>
                </a:lnTo>
                <a:lnTo>
                  <a:pt x="1818" y="239"/>
                </a:lnTo>
                <a:lnTo>
                  <a:pt x="1822" y="225"/>
                </a:lnTo>
                <a:lnTo>
                  <a:pt x="1830" y="214"/>
                </a:lnTo>
                <a:lnTo>
                  <a:pt x="1840" y="202"/>
                </a:lnTo>
                <a:lnTo>
                  <a:pt x="1853" y="192"/>
                </a:lnTo>
                <a:lnTo>
                  <a:pt x="1869" y="181"/>
                </a:lnTo>
                <a:lnTo>
                  <a:pt x="1886" y="171"/>
                </a:lnTo>
                <a:lnTo>
                  <a:pt x="1906" y="162"/>
                </a:lnTo>
                <a:lnTo>
                  <a:pt x="1927" y="153"/>
                </a:lnTo>
                <a:lnTo>
                  <a:pt x="1950" y="146"/>
                </a:lnTo>
                <a:lnTo>
                  <a:pt x="2001" y="136"/>
                </a:lnTo>
                <a:lnTo>
                  <a:pt x="2059" y="127"/>
                </a:lnTo>
                <a:lnTo>
                  <a:pt x="2119" y="126"/>
                </a:lnTo>
                <a:lnTo>
                  <a:pt x="3330" y="126"/>
                </a:lnTo>
                <a:lnTo>
                  <a:pt x="3390" y="124"/>
                </a:lnTo>
                <a:lnTo>
                  <a:pt x="3448" y="115"/>
                </a:lnTo>
                <a:lnTo>
                  <a:pt x="3499" y="105"/>
                </a:lnTo>
                <a:lnTo>
                  <a:pt x="3522" y="98"/>
                </a:lnTo>
                <a:lnTo>
                  <a:pt x="3543" y="89"/>
                </a:lnTo>
                <a:lnTo>
                  <a:pt x="3563" y="80"/>
                </a:lnTo>
                <a:lnTo>
                  <a:pt x="3580" y="70"/>
                </a:lnTo>
                <a:lnTo>
                  <a:pt x="3596" y="59"/>
                </a:lnTo>
                <a:lnTo>
                  <a:pt x="3609" y="49"/>
                </a:lnTo>
                <a:lnTo>
                  <a:pt x="3619" y="39"/>
                </a:lnTo>
                <a:lnTo>
                  <a:pt x="3627" y="26"/>
                </a:lnTo>
                <a:lnTo>
                  <a:pt x="3631" y="12"/>
                </a:lnTo>
                <a:lnTo>
                  <a:pt x="363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13280" y="2755800"/>
            <a:ext cx="6825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82760" y="2771640"/>
            <a:ext cx="57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bin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3680" y="2395440"/>
            <a:ext cx="1601640" cy="1306440"/>
          </a:xfrm>
          <a:custGeom>
            <a:avLst/>
            <a:gdLst/>
            <a:ahLst/>
            <a:rect l="l" t="t" r="r" b="b"/>
            <a:pathLst>
              <a:path w="2422" h="1778">
                <a:moveTo>
                  <a:pt x="404" y="659"/>
                </a:moveTo>
                <a:lnTo>
                  <a:pt x="363" y="660"/>
                </a:lnTo>
                <a:lnTo>
                  <a:pt x="323" y="662"/>
                </a:lnTo>
                <a:lnTo>
                  <a:pt x="284" y="667"/>
                </a:lnTo>
                <a:lnTo>
                  <a:pt x="247" y="672"/>
                </a:lnTo>
                <a:lnTo>
                  <a:pt x="212" y="681"/>
                </a:lnTo>
                <a:lnTo>
                  <a:pt x="179" y="690"/>
                </a:lnTo>
                <a:lnTo>
                  <a:pt x="148" y="700"/>
                </a:lnTo>
                <a:lnTo>
                  <a:pt x="119" y="712"/>
                </a:lnTo>
                <a:lnTo>
                  <a:pt x="92" y="726"/>
                </a:lnTo>
                <a:lnTo>
                  <a:pt x="70" y="740"/>
                </a:lnTo>
                <a:lnTo>
                  <a:pt x="49" y="756"/>
                </a:lnTo>
                <a:lnTo>
                  <a:pt x="31" y="772"/>
                </a:lnTo>
                <a:lnTo>
                  <a:pt x="18" y="789"/>
                </a:lnTo>
                <a:lnTo>
                  <a:pt x="8" y="806"/>
                </a:lnTo>
                <a:lnTo>
                  <a:pt x="2" y="825"/>
                </a:lnTo>
                <a:lnTo>
                  <a:pt x="0" y="845"/>
                </a:lnTo>
                <a:lnTo>
                  <a:pt x="0" y="1125"/>
                </a:lnTo>
                <a:lnTo>
                  <a:pt x="0" y="1592"/>
                </a:lnTo>
                <a:lnTo>
                  <a:pt x="2" y="1611"/>
                </a:lnTo>
                <a:lnTo>
                  <a:pt x="8" y="1631"/>
                </a:lnTo>
                <a:lnTo>
                  <a:pt x="18" y="1648"/>
                </a:lnTo>
                <a:lnTo>
                  <a:pt x="31" y="1665"/>
                </a:lnTo>
                <a:lnTo>
                  <a:pt x="49" y="1681"/>
                </a:lnTo>
                <a:lnTo>
                  <a:pt x="70" y="1697"/>
                </a:lnTo>
                <a:lnTo>
                  <a:pt x="92" y="1711"/>
                </a:lnTo>
                <a:lnTo>
                  <a:pt x="119" y="1724"/>
                </a:lnTo>
                <a:lnTo>
                  <a:pt x="148" y="1737"/>
                </a:lnTo>
                <a:lnTo>
                  <a:pt x="179" y="1747"/>
                </a:lnTo>
                <a:lnTo>
                  <a:pt x="212" y="1756"/>
                </a:lnTo>
                <a:lnTo>
                  <a:pt x="247" y="1764"/>
                </a:lnTo>
                <a:lnTo>
                  <a:pt x="284" y="1770"/>
                </a:lnTo>
                <a:lnTo>
                  <a:pt x="323" y="1775"/>
                </a:lnTo>
                <a:lnTo>
                  <a:pt x="363" y="1777"/>
                </a:lnTo>
                <a:lnTo>
                  <a:pt x="404" y="1778"/>
                </a:lnTo>
                <a:lnTo>
                  <a:pt x="1413" y="1778"/>
                </a:lnTo>
                <a:lnTo>
                  <a:pt x="2018" y="1778"/>
                </a:lnTo>
                <a:lnTo>
                  <a:pt x="2059" y="1777"/>
                </a:lnTo>
                <a:lnTo>
                  <a:pt x="2100" y="1775"/>
                </a:lnTo>
                <a:lnTo>
                  <a:pt x="2139" y="1770"/>
                </a:lnTo>
                <a:lnTo>
                  <a:pt x="2176" y="1764"/>
                </a:lnTo>
                <a:lnTo>
                  <a:pt x="2210" y="1756"/>
                </a:lnTo>
                <a:lnTo>
                  <a:pt x="2243" y="1747"/>
                </a:lnTo>
                <a:lnTo>
                  <a:pt x="2274" y="1737"/>
                </a:lnTo>
                <a:lnTo>
                  <a:pt x="2304" y="1724"/>
                </a:lnTo>
                <a:lnTo>
                  <a:pt x="2331" y="1711"/>
                </a:lnTo>
                <a:lnTo>
                  <a:pt x="2354" y="1697"/>
                </a:lnTo>
                <a:lnTo>
                  <a:pt x="2373" y="1681"/>
                </a:lnTo>
                <a:lnTo>
                  <a:pt x="2391" y="1665"/>
                </a:lnTo>
                <a:lnTo>
                  <a:pt x="2404" y="1648"/>
                </a:lnTo>
                <a:lnTo>
                  <a:pt x="2414" y="1631"/>
                </a:lnTo>
                <a:lnTo>
                  <a:pt x="2420" y="1611"/>
                </a:lnTo>
                <a:lnTo>
                  <a:pt x="2422" y="1592"/>
                </a:lnTo>
                <a:lnTo>
                  <a:pt x="2422" y="1125"/>
                </a:lnTo>
                <a:lnTo>
                  <a:pt x="2422" y="845"/>
                </a:lnTo>
                <a:lnTo>
                  <a:pt x="2420" y="825"/>
                </a:lnTo>
                <a:lnTo>
                  <a:pt x="2414" y="806"/>
                </a:lnTo>
                <a:lnTo>
                  <a:pt x="2404" y="789"/>
                </a:lnTo>
                <a:lnTo>
                  <a:pt x="2391" y="772"/>
                </a:lnTo>
                <a:lnTo>
                  <a:pt x="2373" y="756"/>
                </a:lnTo>
                <a:lnTo>
                  <a:pt x="2354" y="740"/>
                </a:lnTo>
                <a:lnTo>
                  <a:pt x="2331" y="726"/>
                </a:lnTo>
                <a:lnTo>
                  <a:pt x="2304" y="712"/>
                </a:lnTo>
                <a:lnTo>
                  <a:pt x="2274" y="700"/>
                </a:lnTo>
                <a:lnTo>
                  <a:pt x="2243" y="690"/>
                </a:lnTo>
                <a:lnTo>
                  <a:pt x="2210" y="681"/>
                </a:lnTo>
                <a:lnTo>
                  <a:pt x="2176" y="672"/>
                </a:lnTo>
                <a:lnTo>
                  <a:pt x="2139" y="667"/>
                </a:lnTo>
                <a:lnTo>
                  <a:pt x="2100" y="662"/>
                </a:lnTo>
                <a:lnTo>
                  <a:pt x="2059" y="660"/>
                </a:lnTo>
                <a:lnTo>
                  <a:pt x="2018" y="659"/>
                </a:lnTo>
                <a:lnTo>
                  <a:pt x="1884" y="0"/>
                </a:lnTo>
                <a:lnTo>
                  <a:pt x="1413" y="659"/>
                </a:lnTo>
                <a:lnTo>
                  <a:pt x="404" y="659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1040" y="2925720"/>
            <a:ext cx="1117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internal incl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6160" y="3095640"/>
            <a:ext cx="112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files and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8960" y="3267000"/>
            <a:ext cx="42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cod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3640" y="3267000"/>
            <a:ext cx="89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Avoid 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200" y="3438360"/>
            <a:ext cx="48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level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03480" y="2411280"/>
            <a:ext cx="1971720" cy="1111320"/>
          </a:xfrm>
          <a:custGeom>
            <a:avLst/>
            <a:gdLst/>
            <a:ahLst/>
            <a:rect l="l" t="t" r="r" b="b"/>
            <a:pathLst>
              <a:path w="2980" h="1513">
                <a:moveTo>
                  <a:pt x="496" y="680"/>
                </a:moveTo>
                <a:lnTo>
                  <a:pt x="397" y="684"/>
                </a:lnTo>
                <a:lnTo>
                  <a:pt x="349" y="687"/>
                </a:lnTo>
                <a:lnTo>
                  <a:pt x="304" y="691"/>
                </a:lnTo>
                <a:lnTo>
                  <a:pt x="260" y="698"/>
                </a:lnTo>
                <a:lnTo>
                  <a:pt x="219" y="705"/>
                </a:lnTo>
                <a:lnTo>
                  <a:pt x="180" y="712"/>
                </a:lnTo>
                <a:lnTo>
                  <a:pt x="145" y="722"/>
                </a:lnTo>
                <a:lnTo>
                  <a:pt x="114" y="731"/>
                </a:lnTo>
                <a:lnTo>
                  <a:pt x="85" y="741"/>
                </a:lnTo>
                <a:lnTo>
                  <a:pt x="60" y="753"/>
                </a:lnTo>
                <a:lnTo>
                  <a:pt x="38" y="765"/>
                </a:lnTo>
                <a:lnTo>
                  <a:pt x="23" y="778"/>
                </a:lnTo>
                <a:lnTo>
                  <a:pt x="9" y="792"/>
                </a:lnTo>
                <a:lnTo>
                  <a:pt x="2" y="805"/>
                </a:lnTo>
                <a:lnTo>
                  <a:pt x="0" y="819"/>
                </a:lnTo>
                <a:lnTo>
                  <a:pt x="0" y="1028"/>
                </a:lnTo>
                <a:lnTo>
                  <a:pt x="0" y="1374"/>
                </a:lnTo>
                <a:lnTo>
                  <a:pt x="2" y="1388"/>
                </a:lnTo>
                <a:lnTo>
                  <a:pt x="9" y="1402"/>
                </a:lnTo>
                <a:lnTo>
                  <a:pt x="23" y="1416"/>
                </a:lnTo>
                <a:lnTo>
                  <a:pt x="38" y="1428"/>
                </a:lnTo>
                <a:lnTo>
                  <a:pt x="60" y="1440"/>
                </a:lnTo>
                <a:lnTo>
                  <a:pt x="85" y="1452"/>
                </a:lnTo>
                <a:lnTo>
                  <a:pt x="114" y="1463"/>
                </a:lnTo>
                <a:lnTo>
                  <a:pt x="145" y="1473"/>
                </a:lnTo>
                <a:lnTo>
                  <a:pt x="180" y="1482"/>
                </a:lnTo>
                <a:lnTo>
                  <a:pt x="219" y="1489"/>
                </a:lnTo>
                <a:lnTo>
                  <a:pt x="260" y="1496"/>
                </a:lnTo>
                <a:lnTo>
                  <a:pt x="304" y="1503"/>
                </a:lnTo>
                <a:lnTo>
                  <a:pt x="349" y="1506"/>
                </a:lnTo>
                <a:lnTo>
                  <a:pt x="397" y="1510"/>
                </a:lnTo>
                <a:lnTo>
                  <a:pt x="496" y="1513"/>
                </a:lnTo>
                <a:lnTo>
                  <a:pt x="1241" y="1513"/>
                </a:lnTo>
                <a:lnTo>
                  <a:pt x="2483" y="1513"/>
                </a:lnTo>
                <a:lnTo>
                  <a:pt x="2584" y="1510"/>
                </a:lnTo>
                <a:lnTo>
                  <a:pt x="2631" y="1506"/>
                </a:lnTo>
                <a:lnTo>
                  <a:pt x="2677" y="1503"/>
                </a:lnTo>
                <a:lnTo>
                  <a:pt x="2720" y="1496"/>
                </a:lnTo>
                <a:lnTo>
                  <a:pt x="2761" y="1489"/>
                </a:lnTo>
                <a:lnTo>
                  <a:pt x="2799" y="1482"/>
                </a:lnTo>
                <a:lnTo>
                  <a:pt x="2834" y="1473"/>
                </a:lnTo>
                <a:lnTo>
                  <a:pt x="2865" y="1463"/>
                </a:lnTo>
                <a:lnTo>
                  <a:pt x="2894" y="1452"/>
                </a:lnTo>
                <a:lnTo>
                  <a:pt x="2920" y="1440"/>
                </a:lnTo>
                <a:lnTo>
                  <a:pt x="2941" y="1428"/>
                </a:lnTo>
                <a:lnTo>
                  <a:pt x="2957" y="1416"/>
                </a:lnTo>
                <a:lnTo>
                  <a:pt x="2970" y="1402"/>
                </a:lnTo>
                <a:lnTo>
                  <a:pt x="2978" y="1388"/>
                </a:lnTo>
                <a:lnTo>
                  <a:pt x="2980" y="1374"/>
                </a:lnTo>
                <a:lnTo>
                  <a:pt x="2980" y="1028"/>
                </a:lnTo>
                <a:lnTo>
                  <a:pt x="2980" y="819"/>
                </a:lnTo>
                <a:lnTo>
                  <a:pt x="2978" y="805"/>
                </a:lnTo>
                <a:lnTo>
                  <a:pt x="2970" y="792"/>
                </a:lnTo>
                <a:lnTo>
                  <a:pt x="2957" y="778"/>
                </a:lnTo>
                <a:lnTo>
                  <a:pt x="2941" y="765"/>
                </a:lnTo>
                <a:lnTo>
                  <a:pt x="2920" y="753"/>
                </a:lnTo>
                <a:lnTo>
                  <a:pt x="2894" y="741"/>
                </a:lnTo>
                <a:lnTo>
                  <a:pt x="2865" y="731"/>
                </a:lnTo>
                <a:lnTo>
                  <a:pt x="2834" y="722"/>
                </a:lnTo>
                <a:lnTo>
                  <a:pt x="2799" y="712"/>
                </a:lnTo>
                <a:lnTo>
                  <a:pt x="2761" y="705"/>
                </a:lnTo>
                <a:lnTo>
                  <a:pt x="2720" y="698"/>
                </a:lnTo>
                <a:lnTo>
                  <a:pt x="2677" y="691"/>
                </a:lnTo>
                <a:lnTo>
                  <a:pt x="2631" y="687"/>
                </a:lnTo>
                <a:lnTo>
                  <a:pt x="2584" y="684"/>
                </a:lnTo>
                <a:lnTo>
                  <a:pt x="2483" y="680"/>
                </a:lnTo>
                <a:lnTo>
                  <a:pt x="1241" y="680"/>
                </a:lnTo>
                <a:lnTo>
                  <a:pt x="229" y="0"/>
                </a:lnTo>
                <a:lnTo>
                  <a:pt x="496" y="680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62240" y="2949480"/>
            <a:ext cx="147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external include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47480" y="3151080"/>
            <a:ext cx="762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#include 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92320" y="3151080"/>
            <a:ext cx="38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pack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363480" y="3151080"/>
            <a:ext cx="77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439800" y="3151080"/>
            <a:ext cx="22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xx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63720" y="3151080"/>
            <a:ext cx="22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.h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06440" y="3265560"/>
            <a:ext cx="1419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Avoid many level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91160" y="1979640"/>
            <a:ext cx="4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64600" y="2031840"/>
            <a:ext cx="335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89320" y="2006640"/>
            <a:ext cx="666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rh61</a:t>
            </a: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gcc29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78960" y="2057400"/>
            <a:ext cx="578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Win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Debu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6840" y="0"/>
            <a:ext cx="5715000" cy="380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7T10:54:13Z</dcterms:created>
  <dc:creator>Marco Cattaneo</dc:creator>
  <dc:description/>
  <dc:language>en-US</dc:language>
  <cp:lastModifiedBy>cattaneo</cp:lastModifiedBy>
  <dcterms:modified xsi:type="dcterms:W3CDTF">2001-12-14T13:52:34Z</dcterms:modified>
  <cp:revision>2</cp:revision>
  <dc:subject/>
  <dc:title>No Slide Title</dc:title>
</cp:coreProperties>
</file>