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87788" cy="201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95C-53AF-4205-B5CB-6F811EEC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5F7-3717-48F1-B93F-F42F403F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A8D-5B20-4E2D-8BBB-C01B2D3B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832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468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60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0832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468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D44-BA86-4EDD-AC9D-381FAED2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143-4CAD-4DCD-8469-CFFF1698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25D-8F56-46C6-9A3B-78BAD587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245-CD57-4411-B353-AF9D9FC3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C18-B737-41C9-969C-70461288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" y="178920"/>
            <a:ext cx="330228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AC6-46DC-4C04-9DBF-E62DA5B0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1F6-FC88-4ED1-BE4F-334B7385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20F-829B-44F0-A152-1D08A507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A6D-6B25-42C6-BB50-9B513089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 fontScale="72000"/>
          </a:bodyPr>
          <a:p>
            <a:pPr marL="99360" indent="-9936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640" indent="-8208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3322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46620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160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26960" y="1839600"/>
            <a:ext cx="123156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8424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14D5928E-6CB2-45DD-B200-FB1A142317BC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17640"/>
            <a:ext cx="3809880" cy="1981080"/>
            <a:chOff x="34920" y="17640"/>
            <a:chExt cx="3809880" cy="1981080"/>
          </a:xfrm>
        </p:grpSpPr>
        <p:pic>
          <p:nvPicPr>
            <p:cNvPr id="42" name="folder" descr=""/>
            <p:cNvPicPr/>
            <p:nvPr/>
          </p:nvPicPr>
          <p:blipFill>
            <a:blip r:embed="rId1"/>
            <a:stretch/>
          </p:blipFill>
          <p:spPr>
            <a:xfrm>
              <a:off x="2625840" y="779400"/>
              <a:ext cx="42840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folder" descr=""/>
            <p:cNvPicPr/>
            <p:nvPr/>
          </p:nvPicPr>
          <p:blipFill>
            <a:blip r:embed="rId2"/>
            <a:stretch/>
          </p:blipFill>
          <p:spPr>
            <a:xfrm>
              <a:off x="2168640" y="4748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97240" y="779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97240" y="932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67440" y="55080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28960" y="8557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yTra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folder" descr=""/>
            <p:cNvPicPr/>
            <p:nvPr/>
          </p:nvPicPr>
          <p:blipFill>
            <a:blip r:embed="rId3"/>
            <a:stretch/>
          </p:blipFill>
          <p:spPr>
            <a:xfrm>
              <a:off x="2625840" y="11606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397240" y="1312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folder" descr=""/>
            <p:cNvPicPr/>
            <p:nvPr/>
          </p:nvPicPr>
          <p:blipFill>
            <a:blip r:embed="rId4"/>
            <a:stretch/>
          </p:blipFill>
          <p:spPr>
            <a:xfrm>
              <a:off x="2625840" y="154152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97240" y="169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2840" y="246240"/>
              <a:ext cx="609480" cy="228600"/>
            </a:xfrm>
            <a:prstGeom prst="wedgeRoundRectCallout">
              <a:avLst>
                <a:gd name="adj1" fmla="val 84375"/>
                <a:gd name="adj2" fmla="val 132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1240" y="627120"/>
              <a:ext cx="1981080" cy="228600"/>
            </a:xfrm>
            <a:prstGeom prst="wedgeRoundRectCallout">
              <a:avLst>
                <a:gd name="adj1" fmla="val 84375"/>
                <a:gd name="adj2" fmla="val 107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ObjectVector&lt;MyTrack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0" y="17640"/>
              <a:ext cx="380988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9:27:26Z</dcterms:created>
  <dc:creator>ALEPH-LHCB</dc:creator>
  <dc:description/>
  <dc:language>en-US</dc:language>
  <cp:lastModifiedBy>ALEPH-LHCB</cp:lastModifiedBy>
  <dcterms:modified xsi:type="dcterms:W3CDTF">2001-01-16T09:57:49Z</dcterms:modified>
  <cp:revision>1</cp:revision>
  <dc:subject/>
  <dc:title>PowerPoint Presentation</dc:title>
</cp:coreProperties>
</file>