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191000" cy="2592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6A6-A26D-41F5-A71C-9DF930CD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768-CF09-436D-879D-6F2A6309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8D6-F6B8-4138-8C6A-75B587E4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1884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2376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428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1884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2376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36D-EB34-41F2-975E-754CB8AD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C663-BCEE-46DD-B5B6-5C78170D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BED-D962-4D40-896B-F1714DBD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4EB0-0FC7-4B8F-9DD3-CE3AACC4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704-1A93-48A0-94C5-74C31178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4280" y="230040"/>
            <a:ext cx="35625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232-B994-4F97-BF8B-5D3A480D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5B2-179E-4CDF-B5AD-4EF5FDAF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713-3847-4300-941B-E6C81AEE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EBD-6566-4D70-AD85-CB7F2CDB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 fontScale="80000"/>
          </a:bodyPr>
          <a:p>
            <a:pPr marL="132120" indent="-13212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400" indent="-1080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39200" indent="-87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14520" indent="-874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3920" y="2360160"/>
            <a:ext cx="87300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2080" y="2360160"/>
            <a:ext cx="13269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03480" y="2360160"/>
            <a:ext cx="8733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97203F5C-9FF2-47AD-A5C3-123B1792FC0F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1280" y="34920"/>
            <a:ext cx="4050000" cy="2523960"/>
            <a:chOff x="71280" y="34920"/>
            <a:chExt cx="4050000" cy="2523960"/>
          </a:xfrm>
        </p:grpSpPr>
        <p:sp>
          <p:nvSpPr>
            <p:cNvPr id="42" name=""/>
            <p:cNvSpPr/>
            <p:nvPr/>
          </p:nvSpPr>
          <p:spPr>
            <a:xfrm>
              <a:off x="71280" y="34920"/>
              <a:ext cx="4050000" cy="252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57360" y="523800"/>
              <a:ext cx="1451160" cy="166212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71920" y="992160"/>
              <a:ext cx="1014120" cy="49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1200" y="820800"/>
              <a:ext cx="1150920" cy="228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Event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flipV="1">
              <a:off x="1862280" y="309600"/>
              <a:ext cx="799920" cy="682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36760" y="779400"/>
              <a:ext cx="8301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2150640" y="949320"/>
              <a:ext cx="520920" cy="169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36760" y="1162080"/>
              <a:ext cx="8301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158560" y="1263600"/>
              <a:ext cx="513000" cy="69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36760" y="1503360"/>
              <a:ext cx="7030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151000" y="1460520"/>
              <a:ext cx="511200" cy="214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36760" y="1900080"/>
              <a:ext cx="619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900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429000" y="779040"/>
              <a:ext cx="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86160" y="693720"/>
              <a:ext cx="856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63840" y="788760"/>
              <a:ext cx="459000" cy="1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roper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57440" y="1936800"/>
              <a:ext cx="4050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47840" y="1936800"/>
              <a:ext cx="393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809800" y="1487520"/>
              <a:ext cx="19044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255840" y="1487520"/>
              <a:ext cx="19368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952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59040" y="790560"/>
              <a:ext cx="5158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819520" y="780480"/>
              <a:ext cx="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74880" y="693720"/>
              <a:ext cx="856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75040" y="907920"/>
              <a:ext cx="8388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1200" y="120492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Detector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75040" y="12906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1200" y="1546200"/>
              <a:ext cx="1150920" cy="2271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75040" y="1630440"/>
              <a:ext cx="838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1200" y="192888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75040" y="201456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1200" y="227016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7920" y="2406600"/>
              <a:ext cx="9856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92120" y="9493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92120" y="1333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92120" y="16747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92120" y="205740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92120" y="23558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75040" y="23130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158560" y="1503360"/>
              <a:ext cx="546120" cy="511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040" y="182520"/>
              <a:ext cx="1152720" cy="2271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ApplicationMg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3840" y="57240"/>
              <a:ext cx="5792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SvcLocat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6760" y="268200"/>
              <a:ext cx="3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76240" y="225360"/>
              <a:ext cx="8604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158920" y="1503360"/>
              <a:ext cx="641520" cy="809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40:50Z</dcterms:created>
  <dc:creator>Marco Cattaneo</dc:creator>
  <dc:description/>
  <dc:language>en-US</dc:language>
  <cp:lastModifiedBy>cattaneo</cp:lastModifiedBy>
  <dcterms:modified xsi:type="dcterms:W3CDTF">2001-11-30T12:33:27Z</dcterms:modified>
  <cp:revision>8</cp:revision>
  <dc:subject/>
  <dc:title>No Slide Title</dc:title>
</cp:coreProperties>
</file>