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827713" cy="380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9F82-9591-4107-80EC-96322CBF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320" y="229572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00AE-7DA5-4D58-8B17-5ED8D67A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761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EE32-DF83-4411-BF0B-8E6B2CC5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1212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8756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32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1212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8756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B65-6BA7-4F45-8D49-E2F2ABC4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7903-2F4F-4D00-9C25-068C7004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AA0-58CE-4EDF-907B-1646639A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E703-60A2-42F2-AAA8-2C55A44E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B2BE-B5B3-4F7B-93EC-5AC8217C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6320" y="339840"/>
            <a:ext cx="495612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AE7-55B0-4896-9913-F618A67E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FD85-1EE0-46DB-B56D-8CEF65F6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61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A603-1A53-426E-8664-0E84638F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9C1F-A6A2-4C65-8DC7-59754F48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 fontScale="88000"/>
          </a:bodyPr>
          <a:p>
            <a:pPr marL="185400" indent="-185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3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17400" indent="-123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64720" indent="-124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6320" y="3470040"/>
            <a:ext cx="121428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2240" y="3470040"/>
            <a:ext cx="184464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78160" y="3470040"/>
            <a:ext cx="121464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 algn="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fld id="{3C0EBEE6-4D64-4CD1-B655-EE48521C35F4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228600"/>
            <a:ext cx="5715000" cy="354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26440" y="229320"/>
            <a:ext cx="1881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Gaudi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8160" y="49320"/>
            <a:ext cx="2057400" cy="838080"/>
            <a:chOff x="38160" y="49320"/>
            <a:chExt cx="2057400" cy="838080"/>
          </a:xfrm>
        </p:grpSpPr>
        <p:sp>
          <p:nvSpPr>
            <p:cNvPr id="44" name=""/>
            <p:cNvSpPr/>
            <p:nvPr/>
          </p:nvSpPr>
          <p:spPr>
            <a:xfrm>
              <a:off x="38160" y="49320"/>
              <a:ext cx="2057400" cy="83808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1400" y="331560"/>
              <a:ext cx="89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ternal pack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7640" y="529920"/>
              <a:ext cx="144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audi Package depend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800" y="320400"/>
              <a:ext cx="193680" cy="156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800" y="5824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6800" y="7412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6560" y="691920"/>
              <a:ext cx="156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ternal Package depend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120" y="102960"/>
              <a:ext cx="775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audi pack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800" y="91800"/>
              <a:ext cx="193680" cy="1569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7640" y="34920"/>
            <a:ext cx="575784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76320"/>
            <a:ext cx="1828800" cy="380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222200"/>
            <a:ext cx="3498840" cy="2543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429000" y="1752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69800" y="26668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GaudiS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514600" y="2819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8640" y="1752480"/>
            <a:ext cx="6858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886200" y="2743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428640" y="27432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10666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419720" y="32004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428640" y="1219320"/>
            <a:ext cx="1981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121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8954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2767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581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828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1337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5238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22860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10666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428640" y="25146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1752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17524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1752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1752480"/>
            <a:ext cx="1371600" cy="1955880"/>
          </a:xfrm>
          <a:custGeom>
            <a:avLst/>
            <a:gdLst/>
            <a:ahLst/>
            <a:rect l="l" t="t" r="r" b="b"/>
            <a:pathLst>
              <a:path w="896" h="1088">
                <a:moveTo>
                  <a:pt x="768" y="0"/>
                </a:moveTo>
                <a:cubicBezTo>
                  <a:pt x="832" y="368"/>
                  <a:pt x="896" y="736"/>
                  <a:pt x="768" y="912"/>
                </a:cubicBezTo>
                <a:cubicBezTo>
                  <a:pt x="640" y="1088"/>
                  <a:pt x="128" y="1032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429000" y="18288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609480"/>
            <a:ext cx="72396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236232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found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3048120"/>
            <a:ext cx="609480" cy="31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3048120"/>
            <a:ext cx="60984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H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3048120"/>
            <a:ext cx="914400" cy="399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505320"/>
            <a:ext cx="2782800" cy="22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ternalLib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1447920"/>
            <a:ext cx="60948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76212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H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990720"/>
            <a:ext cx="60948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609480"/>
            <a:ext cx="72396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DBC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2895480"/>
            <a:ext cx="647640" cy="319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nL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40200" y="182880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book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8108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cript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2590920"/>
            <a:ext cx="64800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971800"/>
            <a:ext cx="64764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2057400"/>
            <a:ext cx="84744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trosp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371600"/>
            <a:ext cx="84780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audiObjDe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3352680"/>
            <a:ext cx="648000" cy="319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e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A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monitor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Al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lgorith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tool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1295280"/>
            <a:ext cx="720720" cy="47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85800" y="990720"/>
            <a:ext cx="2362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71280" y="1295280"/>
            <a:ext cx="1747800" cy="2603520"/>
          </a:xfrm>
          <a:custGeom>
            <a:avLst/>
            <a:gdLst/>
            <a:ahLst/>
            <a:rect l="l" t="t" r="r" b="b"/>
            <a:pathLst>
              <a:path w="1008" h="1688">
                <a:moveTo>
                  <a:pt x="144" y="0"/>
                </a:moveTo>
                <a:cubicBezTo>
                  <a:pt x="72" y="596"/>
                  <a:pt x="0" y="1192"/>
                  <a:pt x="144" y="1440"/>
                </a:cubicBezTo>
                <a:cubicBezTo>
                  <a:pt x="288" y="1688"/>
                  <a:pt x="648" y="1588"/>
                  <a:pt x="1008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82880" y="139680"/>
            <a:ext cx="1003320" cy="88920"/>
          </a:xfrm>
          <a:custGeom>
            <a:avLst/>
            <a:gdLst/>
            <a:ahLst/>
            <a:rect l="l" t="t" r="r" b="b"/>
            <a:pathLst>
              <a:path w="632" h="56">
                <a:moveTo>
                  <a:pt x="632" y="8"/>
                </a:moveTo>
                <a:cubicBezTo>
                  <a:pt x="420" y="4"/>
                  <a:pt x="208" y="0"/>
                  <a:pt x="104" y="8"/>
                </a:cubicBezTo>
                <a:cubicBezTo>
                  <a:pt x="0" y="16"/>
                  <a:pt x="24" y="48"/>
                  <a:pt x="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3048120"/>
            <a:ext cx="609480" cy="31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343400" y="27432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2286000"/>
            <a:ext cx="72072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S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16:55Z</dcterms:created>
  <dc:creator>Marco Cattaneo</dc:creator>
  <dc:description/>
  <dc:language>en-US</dc:language>
  <cp:lastModifiedBy>cattaneo</cp:lastModifiedBy>
  <cp:lastPrinted>2000-11-07T10:26:31Z</cp:lastPrinted>
  <dcterms:modified xsi:type="dcterms:W3CDTF">2001-11-19T17:25:25Z</dcterms:modified>
  <cp:revision>36</cp:revision>
  <dc:subject/>
  <dc:title>No Slide Title</dc:title>
</cp:coreProperties>
</file>