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572000" cy="2667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D248-A113-41EC-8F7A-185781257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38862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1605600"/>
            <a:ext cx="38862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DCA8-660D-44E0-BC3B-37D6F5A5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160560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333880" y="160560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97C8-C3D4-4103-B540-6CACE7009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56720" y="76968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970720" y="76968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160560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656720" y="160560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970720" y="160560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DCC8-A0B7-43C1-A1D0-045A7D69D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76968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972B-0751-48F5-ABC9-04A4E14F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9410-5096-476C-8132-AD5AE86A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FBE2-FF6C-4A7D-B392-8D6055DE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F877-0629-4BBD-8DE3-B2E05CF9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236160"/>
            <a:ext cx="3886200" cy="20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AFF0-66A1-4AD9-BB8C-524644C8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160560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A33B-94B4-4A67-88E4-A87654A7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333880" y="160560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B991-2D96-4E2D-BDBE-065D2DCA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1605600"/>
            <a:ext cx="38862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57CD-ADD6-4766-9590-630B0040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76968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 fontScale="82000"/>
          </a:bodyPr>
          <a:p>
            <a:pPr marL="127440" indent="-12744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275760" indent="-10656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42444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59364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76248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5" marL="76248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6" marL="76248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2430360"/>
            <a:ext cx="952200" cy="1764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Autofit/>
          </a:bodyPr>
          <a:lstStyle>
            <a:lvl1pPr indent="0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62040" y="2430360"/>
            <a:ext cx="1447920" cy="1764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Autofit/>
          </a:bodyPr>
          <a:lstStyle>
            <a:lvl1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76720" y="2430360"/>
            <a:ext cx="952560" cy="1764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Autofit/>
          </a:bodyPr>
          <a:lstStyle>
            <a:lvl1pPr indent="0" algn="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fld id="{3D4DF293-1E50-496B-B44C-C5B795B14F39}" type="slidenum"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146052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965160"/>
            <a:ext cx="1371600" cy="800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71280"/>
            <a:ext cx="1371600" cy="609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7640" y="146880"/>
            <a:ext cx="826920" cy="459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S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7640" y="2071800"/>
            <a:ext cx="550800" cy="500040"/>
          </a:xfrm>
          <a:prstGeom prst="can">
            <a:avLst>
              <a:gd name="adj" fmla="val 1057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09760" y="2076480"/>
            <a:ext cx="571320" cy="495360"/>
          </a:xfrm>
          <a:prstGeom prst="can">
            <a:avLst>
              <a:gd name="adj" fmla="val 1057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14605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650960"/>
            <a:ext cx="304920" cy="30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18050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51" idx="2"/>
            <a:endCxn id="47" idx="7"/>
          </p:cNvCxnSpPr>
          <p:nvPr/>
        </p:nvCxnSpPr>
        <p:spPr>
          <a:xfrm flipH="1">
            <a:off x="412560" y="1460520"/>
            <a:ext cx="273600" cy="45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" name=""/>
          <p:cNvCxnSpPr>
            <a:stCxn id="51" idx="2"/>
            <a:endCxn id="48" idx="7"/>
          </p:cNvCxnSpPr>
          <p:nvPr/>
        </p:nvCxnSpPr>
        <p:spPr>
          <a:xfrm flipH="1">
            <a:off x="412560" y="1460520"/>
            <a:ext cx="273600" cy="23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"/>
          <p:cNvCxnSpPr>
            <a:stCxn id="51" idx="2"/>
            <a:endCxn id="49" idx="7"/>
          </p:cNvCxnSpPr>
          <p:nvPr/>
        </p:nvCxnSpPr>
        <p:spPr>
          <a:xfrm flipH="1">
            <a:off x="412560" y="1460520"/>
            <a:ext cx="27360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1562040" y="546120"/>
            <a:ext cx="266760" cy="1563840"/>
          </a:xfrm>
          <a:prstGeom prst="upDownArrow">
            <a:avLst>
              <a:gd name="adj1" fmla="val 50000"/>
              <a:gd name="adj2" fmla="val 768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1231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33720" y="1650960"/>
            <a:ext cx="304560" cy="30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6"/>
            <a:endCxn id="58" idx="1"/>
          </p:cNvCxnSpPr>
          <p:nvPr/>
        </p:nvCxnSpPr>
        <p:spPr>
          <a:xfrm>
            <a:off x="1905120" y="1460520"/>
            <a:ext cx="273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55" idx="6"/>
            <a:endCxn id="41" idx="1"/>
          </p:cNvCxnSpPr>
          <p:nvPr/>
        </p:nvCxnSpPr>
        <p:spPr>
          <a:xfrm>
            <a:off x="1905120" y="1460520"/>
            <a:ext cx="273600" cy="45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55" idx="6"/>
            <a:endCxn id="56" idx="1"/>
          </p:cNvCxnSpPr>
          <p:nvPr/>
        </p:nvCxnSpPr>
        <p:spPr>
          <a:xfrm>
            <a:off x="1905120" y="1460520"/>
            <a:ext cx="273600" cy="23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8" name=""/>
          <p:cNvSpPr/>
          <p:nvPr/>
        </p:nvSpPr>
        <p:spPr>
          <a:xfrm>
            <a:off x="2133720" y="184320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87480" y="14335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87480" y="181620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7680" y="144792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BC conve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31280" y="1832040"/>
            <a:ext cx="120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conve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11520" y="1397160"/>
            <a:ext cx="167616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76160" y="546120"/>
            <a:ext cx="266760" cy="1563840"/>
          </a:xfrm>
          <a:prstGeom prst="upDownArrow">
            <a:avLst>
              <a:gd name="adj1" fmla="val 50000"/>
              <a:gd name="adj2" fmla="val 768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231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3800" y="985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stency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920" y="34920"/>
            <a:ext cx="4498920" cy="259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0T13:05:56Z</dcterms:created>
  <dc:creator>Roger the Rabbit</dc:creator>
  <dc:description/>
  <dc:language>en-US</dc:language>
  <cp:lastModifiedBy>Marco Cattaneo</cp:lastModifiedBy>
  <cp:lastPrinted>1999-05-20T13:43:05Z</cp:lastPrinted>
  <dcterms:modified xsi:type="dcterms:W3CDTF">2001-01-12T17:17:06Z</dcterms:modified>
  <cp:revision>4</cp:revision>
  <dc:subject/>
  <dc:title>No Slide Title</dc:title>
</cp:coreProperties>
</file>