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800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D05-D1C9-4430-90D5-0B967A62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1BE-EB40-4BDF-A3DD-8BD32382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F41-AC4A-4F73-9466-1319EF98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7740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6636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7740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6636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E6E-970B-4B27-A176-F6DC6EDA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89E-3312-47E4-B35D-32A126FE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B45-1DDC-4EC7-AF9B-525E4055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E2A-C88E-400B-BF66-A9CA3B55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150-3B1B-4576-82D7-7CBB5788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456840"/>
            <a:ext cx="440388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D1C-73AB-4094-8978-8F4FA9DD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CC9-FB37-4F47-B9B5-74A2CF72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42E-6B01-4021-B684-8EE63278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0F9-2531-4EC4-A922-7CE17E1C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 fontScale="96000"/>
          </a:bodyPr>
          <a:p>
            <a:pPr marL="234360" indent="-2343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9512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69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728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44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69760" y="4686480"/>
            <a:ext cx="16412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1268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44AB78B3-F935-4510-8080-24FD90FDAF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5600" y="17640"/>
            <a:ext cx="4705200" cy="5095800"/>
            <a:chOff x="255600" y="17640"/>
            <a:chExt cx="4705200" cy="5095800"/>
          </a:xfrm>
        </p:grpSpPr>
        <p:sp>
          <p:nvSpPr>
            <p:cNvPr id="42" name=""/>
            <p:cNvSpPr/>
            <p:nvPr/>
          </p:nvSpPr>
          <p:spPr>
            <a:xfrm>
              <a:off x="3703680" y="855720"/>
              <a:ext cx="1162080" cy="3049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Main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03680" y="1617840"/>
              <a:ext cx="1162080" cy="3427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03680" y="1236600"/>
              <a:ext cx="1162080" cy="3240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9480" y="91296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file/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38440" y="2171880"/>
              <a:ext cx="134316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 Libr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36720" y="2558880"/>
              <a:ext cx="152388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pplication 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27160" y="1389240"/>
              <a:ext cx="114300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make/N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" name=""/>
            <p:cNvCxnSpPr>
              <a:stCxn id="42" idx="1"/>
              <a:endCxn id="48" idx="7"/>
            </p:cNvCxnSpPr>
            <p:nvPr/>
          </p:nvCxnSpPr>
          <p:spPr>
            <a:xfrm flipH="1">
              <a:off x="3002760" y="1008360"/>
              <a:ext cx="701280" cy="47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3921120" y="2714760"/>
              <a:ext cx="831960" cy="10332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ob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0560" y="303120"/>
              <a:ext cx="32076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3036960" y="1888920"/>
              <a:ext cx="48744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122640" y="1351080"/>
              <a:ext cx="5810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171600" y="172260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48" idx="4"/>
              <a:endCxn id="47" idx="0"/>
            </p:cNvCxnSpPr>
            <p:nvPr/>
          </p:nvCxnSpPr>
          <p:spPr>
            <a:xfrm>
              <a:off x="2598840" y="1998720"/>
              <a:ext cx="360" cy="56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152360" y="3040200"/>
              <a:ext cx="2400480" cy="2004840"/>
              <a:chOff x="1152360" y="3040200"/>
              <a:chExt cx="2400480" cy="2004840"/>
            </a:xfrm>
          </p:grpSpPr>
          <p:sp>
            <p:nvSpPr>
              <p:cNvPr id="57" name=""/>
              <p:cNvSpPr/>
              <p:nvPr/>
            </p:nvSpPr>
            <p:spPr>
              <a:xfrm>
                <a:off x="1152360" y="3040200"/>
                <a:ext cx="2400480" cy="200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795320" y="3672000"/>
                <a:ext cx="1396800" cy="1014120"/>
                <a:chOff x="1795320" y="3672000"/>
                <a:chExt cx="1396800" cy="10141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795320" y="3672000"/>
                  <a:ext cx="1396800" cy="10141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78000" y="3830760"/>
                  <a:ext cx="841320" cy="48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jo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877760" y="4371840"/>
                  <a:ext cx="976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nviron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1200600" y="3097440"/>
                <a:ext cx="139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atch mach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3" name=""/>
            <p:cNvCxnSpPr>
              <a:stCxn id="47" idx="2"/>
              <a:endCxn id="60" idx="0"/>
            </p:cNvCxnSpPr>
            <p:nvPr/>
          </p:nvCxnSpPr>
          <p:spPr>
            <a:xfrm>
              <a:off x="2598840" y="2787480"/>
              <a:ext cx="360" cy="10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0" idx="1"/>
              <a:endCxn id="60" idx="7"/>
            </p:cNvCxnSpPr>
            <p:nvPr/>
          </p:nvCxnSpPr>
          <p:spPr>
            <a:xfrm flipH="1">
              <a:off x="2896200" y="3231360"/>
              <a:ext cx="1025280" cy="67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312840" y="8424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86080" y="814320"/>
              <a:ext cx="28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990720" y="484200"/>
              <a:ext cx="571320" cy="428760"/>
              <a:chOff x="990720" y="484200"/>
              <a:chExt cx="571320" cy="428760"/>
            </a:xfrm>
          </p:grpSpPr>
          <p:sp>
            <p:nvSpPr>
              <p:cNvPr id="68" name=""/>
              <p:cNvSpPr/>
              <p:nvPr/>
            </p:nvSpPr>
            <p:spPr>
              <a:xfrm>
                <a:off x="990720" y="484200"/>
                <a:ext cx="571320" cy="42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20240" y="5605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075040" y="1141560"/>
              <a:ext cx="2570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5600" y="17640"/>
              <a:ext cx="4705200" cy="509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21:54Z</dcterms:created>
  <dc:creator>pdm</dc:creator>
  <dc:description/>
  <dc:language>en-US</dc:language>
  <cp:lastModifiedBy>Marco Cattaneo</cp:lastModifiedBy>
  <dcterms:modified xsi:type="dcterms:W3CDTF">2001-01-15T15:42:19Z</dcterms:modified>
  <cp:revision>9</cp:revision>
  <dc:subject/>
  <dc:title>No Slide Title</dc:title>
</cp:coreProperties>
</file>