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B89-708F-48BD-BE5F-67CBED30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DED-9653-4BA2-9BE2-B24AAD25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B70D-C32E-4FA8-97E4-483FEECB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400-DCB1-4968-A117-190D68A5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C8C-A902-45B9-B137-D71AB102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9FA-A1B5-460C-9F23-DBF80A29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164-B68C-43D2-95AC-4A61E46B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41D-353F-4E01-A41B-6DE59709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527-24F0-4AD6-B14D-5D1E3F4A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1AB-05DB-44C7-BC93-471F0352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601-BDDF-4FFC-AA2E-EF2FCE52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ECF-4D80-48CD-9729-5FA9CC33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2A08-B723-4A13-BCBE-52198C535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362320"/>
            <a:ext cx="16765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629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52280" y="1143000"/>
            <a:ext cx="8382240" cy="3726000"/>
            <a:chOff x="152280" y="1143000"/>
            <a:chExt cx="8382240" cy="3726000"/>
          </a:xfrm>
        </p:grpSpPr>
        <p:sp>
          <p:nvSpPr>
            <p:cNvPr id="44" name=""/>
            <p:cNvSpPr/>
            <p:nvPr/>
          </p:nvSpPr>
          <p:spPr>
            <a:xfrm>
              <a:off x="152280" y="2666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7920" y="11430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Sv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066680" y="1447920"/>
              <a:ext cx="1447920" cy="9144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31240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91320" y="17524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15080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286000" y="1371600"/>
              <a:ext cx="1447920" cy="1234800"/>
              <a:chOff x="2286000" y="1371600"/>
              <a:chExt cx="1447920" cy="1234800"/>
            </a:xfrm>
          </p:grpSpPr>
          <p:sp>
            <p:nvSpPr>
              <p:cNvPr id="51" name=""/>
              <p:cNvSpPr/>
              <p:nvPr/>
            </p:nvSpPr>
            <p:spPr>
              <a:xfrm>
                <a:off x="2286000" y="1783080"/>
                <a:ext cx="1447920" cy="82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362320" y="1920240"/>
                <a:ext cx="129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oolSv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3200400" y="1371600"/>
                <a:ext cx="171360" cy="412560"/>
                <a:chOff x="3200400" y="1371600"/>
                <a:chExt cx="171360" cy="412560"/>
              </a:xfrm>
            </p:grpSpPr>
            <p:sp>
              <p:nvSpPr>
                <p:cNvPr id="54" name=""/>
                <p:cNvSpPr/>
                <p:nvPr/>
              </p:nvSpPr>
              <p:spPr>
                <a:xfrm rot="5400000">
                  <a:off x="32090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2860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2514600" y="1371600"/>
                <a:ext cx="171360" cy="412560"/>
                <a:chOff x="2514600" y="1371600"/>
                <a:chExt cx="171360" cy="412560"/>
              </a:xfrm>
            </p:grpSpPr>
            <p:sp>
              <p:nvSpPr>
                <p:cNvPr id="57" name=""/>
                <p:cNvSpPr/>
                <p:nvPr/>
              </p:nvSpPr>
              <p:spPr>
                <a:xfrm rot="5400000">
                  <a:off x="25232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6002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2286000" y="2606760"/>
              <a:ext cx="1447920" cy="1782000"/>
              <a:chOff x="2286000" y="2606760"/>
              <a:chExt cx="1447920" cy="17820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2286000" y="3155040"/>
                <a:ext cx="1447920" cy="1233720"/>
                <a:chOff x="2286000" y="3155040"/>
                <a:chExt cx="1447920" cy="12337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286000" y="3566160"/>
                  <a:ext cx="1447920" cy="822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2895840" y="3155040"/>
                  <a:ext cx="171360" cy="412200"/>
                  <a:chOff x="2895840" y="3155040"/>
                  <a:chExt cx="171360" cy="41220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5400000">
                    <a:off x="2904480" y="3146400"/>
                    <a:ext cx="154080" cy="171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81520" y="3309120"/>
                    <a:ext cx="0" cy="25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2362320" y="3703320"/>
                  <a:ext cx="129528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ToolFact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&lt; T 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2971800" y="2606760"/>
                <a:ext cx="0" cy="54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010280" y="3292560"/>
              <a:ext cx="181080" cy="342360"/>
              <a:chOff x="7010280" y="3292560"/>
              <a:chExt cx="181080" cy="342360"/>
            </a:xfrm>
          </p:grpSpPr>
          <p:sp>
            <p:nvSpPr>
              <p:cNvPr id="68" name=""/>
              <p:cNvSpPr/>
              <p:nvPr/>
            </p:nvSpPr>
            <p:spPr>
              <a:xfrm>
                <a:off x="7010280" y="3292560"/>
                <a:ext cx="181080" cy="1425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100640" y="3435120"/>
                <a:ext cx="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400800" y="2468520"/>
              <a:ext cx="1447920" cy="82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120" y="26067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629400" y="2057400"/>
              <a:ext cx="171360" cy="412560"/>
              <a:chOff x="6629400" y="2057400"/>
              <a:chExt cx="171360" cy="41256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66380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150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105520" y="4046400"/>
              <a:ext cx="1676160" cy="822600"/>
              <a:chOff x="5105520" y="4046400"/>
              <a:chExt cx="1676160" cy="822600"/>
            </a:xfrm>
          </p:grpSpPr>
          <p:sp>
            <p:nvSpPr>
              <p:cNvPr id="76" name=""/>
              <p:cNvSpPr/>
              <p:nvPr/>
            </p:nvSpPr>
            <p:spPr>
              <a:xfrm>
                <a:off x="5181480" y="4046400"/>
                <a:ext cx="1447560" cy="82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05520" y="4320360"/>
                <a:ext cx="1676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7315200" y="2057400"/>
              <a:ext cx="171360" cy="412560"/>
              <a:chOff x="7315200" y="2057400"/>
              <a:chExt cx="171360" cy="412560"/>
            </a:xfrm>
          </p:grpSpPr>
          <p:sp>
            <p:nvSpPr>
              <p:cNvPr id="79" name=""/>
              <p:cNvSpPr/>
              <p:nvPr/>
            </p:nvSpPr>
            <p:spPr>
              <a:xfrm rot="5400000">
                <a:off x="73238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008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V="1">
              <a:off x="5867280" y="36352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366552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3978360"/>
              <a:ext cx="1447560" cy="547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4880" y="2125800"/>
              <a:ext cx="268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2057400"/>
              <a:ext cx="212760" cy="14292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534520" y="366552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3665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7:18:22Z</dcterms:created>
  <dc:creator>gcorti</dc:creator>
  <dc:description/>
  <dc:language>en-US</dc:language>
  <cp:lastModifiedBy>Marco Cattaneo</cp:lastModifiedBy>
  <dcterms:modified xsi:type="dcterms:W3CDTF">2000-07-25T12:26:04Z</dcterms:modified>
  <cp:revision>4</cp:revision>
  <dc:subject/>
  <dc:title>No Slide Title</dc:title>
</cp:coreProperties>
</file>