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218-CF2D-4820-8136-67320CDB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34A-1620-457E-B963-23137E43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C77-EE32-4BA6-9D82-5CF2D29D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628-C4DA-4C30-8E55-D18240DD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C80-2E23-4A82-AE03-1A66AF47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2AC-859C-4EE1-8132-1E684681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FBF-C977-47BE-ABD8-9AFBC5D9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EF3-1DDC-4CEA-8E5D-0801C5B9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39840"/>
            <a:ext cx="495612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A8B-C2CA-454A-8216-7DEA8046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ED6-F10A-41AE-A2CD-D6F7C171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9A1-BB04-46A9-9C31-541CCEC4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B1F-7E67-447A-BB0A-6E5CAAE9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 fontScale="88000"/>
          </a:bodyPr>
          <a:p>
            <a:pPr marL="185400" indent="-18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3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400" indent="-123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6472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470040"/>
            <a:ext cx="121428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470040"/>
            <a:ext cx="184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470040"/>
            <a:ext cx="121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fld id="{FBE04B85-7686-420D-9A60-601CE91AEC4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28600"/>
            <a:ext cx="5715000" cy="354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6440" y="229320"/>
            <a:ext cx="1881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Gaudi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160" y="49320"/>
            <a:ext cx="2057400" cy="838080"/>
            <a:chOff x="38160" y="49320"/>
            <a:chExt cx="2057400" cy="838080"/>
          </a:xfrm>
        </p:grpSpPr>
        <p:sp>
          <p:nvSpPr>
            <p:cNvPr id="44" name=""/>
            <p:cNvSpPr/>
            <p:nvPr/>
          </p:nvSpPr>
          <p:spPr>
            <a:xfrm>
              <a:off x="38160" y="49320"/>
              <a:ext cx="2057400" cy="8380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1400" y="331560"/>
              <a:ext cx="89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7640" y="529920"/>
              <a:ext cx="144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800" y="320400"/>
              <a:ext cx="193680" cy="156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800" y="58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800" y="7412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691920"/>
              <a:ext cx="156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120" y="10296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800" y="91800"/>
              <a:ext cx="193680" cy="156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640" y="34920"/>
            <a:ext cx="575784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76320"/>
            <a:ext cx="18288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22200"/>
            <a:ext cx="3498840" cy="2543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1752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9800" y="26668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1752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2743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864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066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419720" y="3200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28640" y="12193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895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828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133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523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066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28640" y="2514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752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752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752480"/>
            <a:ext cx="1371600" cy="195588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90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3623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6098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3048120"/>
            <a:ext cx="914400" cy="399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505320"/>
            <a:ext cx="2782800" cy="22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4479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7621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907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2895480"/>
            <a:ext cx="64764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0200" y="182880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64800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971800"/>
            <a:ext cx="6476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2057400"/>
            <a:ext cx="84744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1600"/>
            <a:ext cx="84780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52680"/>
            <a:ext cx="64800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295280"/>
            <a:ext cx="720720" cy="47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99072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1280" y="1295280"/>
            <a:ext cx="1747800" cy="260352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82880" y="139680"/>
            <a:ext cx="1003320" cy="8892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4340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286000"/>
            <a:ext cx="72072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1-19T17:25:25Z</dcterms:modified>
  <cp:revision>36</cp:revision>
  <dc:subject/>
  <dc:title>No Slide Title</dc:title>
</cp:coreProperties>
</file>