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572000" cy="2667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8BAC-5B6E-4012-9F5C-7BACDAFDE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236160"/>
            <a:ext cx="3886200" cy="4446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ctr">
            <a:noAutofit/>
          </a:bodyPr>
          <a:p>
            <a:pPr indent="0" algn="ctr"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769680"/>
            <a:ext cx="3886200" cy="763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1605600"/>
            <a:ext cx="3886200" cy="763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E741-40A3-4333-A036-727E66393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236160"/>
            <a:ext cx="3886200" cy="4446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ctr">
            <a:noAutofit/>
          </a:bodyPr>
          <a:p>
            <a:pPr indent="0" algn="ctr"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769680"/>
            <a:ext cx="1896120" cy="763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333880" y="769680"/>
            <a:ext cx="1896120" cy="763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1605600"/>
            <a:ext cx="1896120" cy="763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333880" y="1605600"/>
            <a:ext cx="1896120" cy="763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F7DA-4023-40E9-B553-456859CBA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236160"/>
            <a:ext cx="3886200" cy="4446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ctr">
            <a:noAutofit/>
          </a:bodyPr>
          <a:p>
            <a:pPr indent="0" algn="ctr"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769680"/>
            <a:ext cx="1251000" cy="763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656720" y="769680"/>
            <a:ext cx="1251000" cy="763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970720" y="769680"/>
            <a:ext cx="1251000" cy="763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1605600"/>
            <a:ext cx="1251000" cy="763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656720" y="1605600"/>
            <a:ext cx="1251000" cy="763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970720" y="1605600"/>
            <a:ext cx="1251000" cy="763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DE7E-DB1E-4FA9-A475-95B97D327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236160"/>
            <a:ext cx="3886200" cy="4446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ctr">
            <a:noAutofit/>
          </a:bodyPr>
          <a:p>
            <a:pPr indent="0" algn="ctr"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769680"/>
            <a:ext cx="38862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19DF-C3F1-4FF2-8486-9D759B0FA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236160"/>
            <a:ext cx="3886200" cy="4446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ctr">
            <a:noAutofit/>
          </a:bodyPr>
          <a:p>
            <a:pPr indent="0" algn="ctr"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769680"/>
            <a:ext cx="3886200" cy="1600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CCBB-1DD3-4438-8DF9-0233E5DBB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236160"/>
            <a:ext cx="3886200" cy="4446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ctr">
            <a:noAutofit/>
          </a:bodyPr>
          <a:p>
            <a:pPr indent="0" algn="ctr"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769680"/>
            <a:ext cx="1896120" cy="1600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333880" y="769680"/>
            <a:ext cx="1896120" cy="1600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79E3-938D-456C-90AC-D680E2EE3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236160"/>
            <a:ext cx="3886200" cy="4446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ctr">
            <a:noAutofit/>
          </a:bodyPr>
          <a:p>
            <a:pPr indent="0" algn="ctr"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8396-90AA-436F-AF01-3C595FD5D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236160"/>
            <a:ext cx="3886200" cy="20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74"/>
              </a:spcBef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F957-D7AF-421C-8280-0423D7557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236160"/>
            <a:ext cx="3886200" cy="4446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ctr">
            <a:noAutofit/>
          </a:bodyPr>
          <a:p>
            <a:pPr indent="0" algn="ctr"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769680"/>
            <a:ext cx="1896120" cy="763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333880" y="769680"/>
            <a:ext cx="1896120" cy="1600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1605600"/>
            <a:ext cx="1896120" cy="763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9728-2477-455B-A570-28668DCBF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236160"/>
            <a:ext cx="3886200" cy="4446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ctr">
            <a:noAutofit/>
          </a:bodyPr>
          <a:p>
            <a:pPr indent="0" algn="ctr"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769680"/>
            <a:ext cx="1896120" cy="1600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333880" y="769680"/>
            <a:ext cx="1896120" cy="763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333880" y="1605600"/>
            <a:ext cx="1896120" cy="763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7498-ED48-47F7-AEA7-59618669A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236160"/>
            <a:ext cx="3886200" cy="4446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ctr">
            <a:noAutofit/>
          </a:bodyPr>
          <a:p>
            <a:pPr indent="0" algn="ctr"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769680"/>
            <a:ext cx="1896120" cy="763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333880" y="769680"/>
            <a:ext cx="1896120" cy="763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1605600"/>
            <a:ext cx="3886200" cy="763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DB89-5FDA-4708-B124-AC1022C7E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236160"/>
            <a:ext cx="3886200" cy="4446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ctr">
            <a:noAutofit/>
          </a:bodyPr>
          <a:p>
            <a:pPr indent="0" algn="ctr"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769680"/>
            <a:ext cx="3886200" cy="1600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 fontScale="82000"/>
          </a:bodyPr>
          <a:p>
            <a:pPr marL="127440" indent="-127440"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275760" indent="-106560"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2" marL="424440" indent="-84600"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3" marL="593640" indent="-84600"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4" marL="762480" indent="-84600">
              <a:spcBef>
                <a:spcPts val="374"/>
              </a:spcBef>
              <a:buClr>
                <a:srgbClr val="000000"/>
              </a:buClr>
              <a:buFont typeface="Times New Roman"/>
              <a:buChar char="»"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5" marL="762480" indent="-84600">
              <a:spcBef>
                <a:spcPts val="374"/>
              </a:spcBef>
              <a:buClr>
                <a:srgbClr val="000000"/>
              </a:buClr>
              <a:buFont typeface="Times New Roman"/>
              <a:buChar char="»"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6" marL="762480" indent="-84600">
              <a:spcBef>
                <a:spcPts val="374"/>
              </a:spcBef>
              <a:buClr>
                <a:srgbClr val="000000"/>
              </a:buClr>
              <a:buFont typeface="Times New Roman"/>
              <a:buChar char="»"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2430360"/>
            <a:ext cx="952200" cy="1764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Autofit/>
          </a:bodyPr>
          <a:lstStyle>
            <a:lvl1pPr indent="0"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  <a:defRPr b="0" lang="en-US" sz="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562040" y="2430360"/>
            <a:ext cx="1447920" cy="1764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Autofit/>
          </a:bodyPr>
          <a:lstStyle>
            <a:lvl1pPr indent="0" algn="ctr"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  <a:defRPr b="0" lang="en-US" sz="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76720" y="2430360"/>
            <a:ext cx="952560" cy="1764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Autofit/>
          </a:bodyPr>
          <a:lstStyle>
            <a:lvl1pPr indent="0" algn="r"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  <a:defRPr b="0" lang="en-US" sz="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fld id="{7906666C-88A0-49E9-BE43-DCE27474E26C}" type="slidenum"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33720" y="146052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965160"/>
            <a:ext cx="1371600" cy="800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71280"/>
            <a:ext cx="1371600" cy="6098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17640" y="146880"/>
            <a:ext cx="826920" cy="4590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i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 St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47640" y="2071800"/>
            <a:ext cx="550800" cy="500040"/>
          </a:xfrm>
          <a:prstGeom prst="can">
            <a:avLst>
              <a:gd name="adj" fmla="val 10578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409760" y="2076480"/>
            <a:ext cx="571320" cy="495360"/>
          </a:xfrm>
          <a:prstGeom prst="can">
            <a:avLst>
              <a:gd name="adj" fmla="val 10578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52280" y="146052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2280" y="1650960"/>
            <a:ext cx="304920" cy="30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52280" y="180504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" name=""/>
          <p:cNvCxnSpPr>
            <a:stCxn id="51" idx="2"/>
            <a:endCxn id="47" idx="7"/>
          </p:cNvCxnSpPr>
          <p:nvPr/>
        </p:nvCxnSpPr>
        <p:spPr>
          <a:xfrm flipH="1">
            <a:off x="412560" y="1460520"/>
            <a:ext cx="273600" cy="45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" name=""/>
          <p:cNvCxnSpPr>
            <a:stCxn id="51" idx="2"/>
            <a:endCxn id="48" idx="7"/>
          </p:cNvCxnSpPr>
          <p:nvPr/>
        </p:nvCxnSpPr>
        <p:spPr>
          <a:xfrm flipH="1">
            <a:off x="412560" y="1460520"/>
            <a:ext cx="273600" cy="235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3" name=""/>
          <p:cNvCxnSpPr>
            <a:stCxn id="51" idx="2"/>
            <a:endCxn id="49" idx="7"/>
          </p:cNvCxnSpPr>
          <p:nvPr/>
        </p:nvCxnSpPr>
        <p:spPr>
          <a:xfrm flipH="1">
            <a:off x="412560" y="1460520"/>
            <a:ext cx="273600" cy="389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1562040" y="546120"/>
            <a:ext cx="266760" cy="1563840"/>
          </a:xfrm>
          <a:prstGeom prst="upDownArrow">
            <a:avLst>
              <a:gd name="adj1" fmla="val 50000"/>
              <a:gd name="adj2" fmla="val 7686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447920" y="123192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133720" y="1650960"/>
            <a:ext cx="304560" cy="30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5" idx="6"/>
            <a:endCxn id="58" idx="1"/>
          </p:cNvCxnSpPr>
          <p:nvPr/>
        </p:nvCxnSpPr>
        <p:spPr>
          <a:xfrm>
            <a:off x="1905120" y="1460520"/>
            <a:ext cx="273600" cy="427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9" name=""/>
          <p:cNvCxnSpPr>
            <a:stCxn id="55" idx="6"/>
            <a:endCxn id="41" idx="1"/>
          </p:cNvCxnSpPr>
          <p:nvPr/>
        </p:nvCxnSpPr>
        <p:spPr>
          <a:xfrm>
            <a:off x="1905120" y="1460520"/>
            <a:ext cx="273600" cy="45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0" name=""/>
          <p:cNvCxnSpPr>
            <a:stCxn id="55" idx="6"/>
            <a:endCxn id="56" idx="1"/>
          </p:cNvCxnSpPr>
          <p:nvPr/>
        </p:nvCxnSpPr>
        <p:spPr>
          <a:xfrm>
            <a:off x="1905120" y="1460520"/>
            <a:ext cx="273600" cy="235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8" name=""/>
          <p:cNvSpPr/>
          <p:nvPr/>
        </p:nvSpPr>
        <p:spPr>
          <a:xfrm>
            <a:off x="2133720" y="1843200"/>
            <a:ext cx="30456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787480" y="143352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787480" y="181620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127680" y="1447920"/>
            <a:ext cx="121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DBC conver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31280" y="1832040"/>
            <a:ext cx="120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OT conver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711520" y="1397160"/>
            <a:ext cx="1676160" cy="761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76160" y="546120"/>
            <a:ext cx="266760" cy="1563840"/>
          </a:xfrm>
          <a:prstGeom prst="upDownArrow">
            <a:avLst>
              <a:gd name="adj1" fmla="val 50000"/>
              <a:gd name="adj2" fmla="val 7686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123192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13800" y="985680"/>
            <a:ext cx="1342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sistency 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920" y="34920"/>
            <a:ext cx="4498920" cy="2595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20T13:05:56Z</dcterms:created>
  <dc:creator>Roger the Rabbit</dc:creator>
  <dc:description/>
  <dc:language>en-US</dc:language>
  <cp:lastModifiedBy>Marco Cattaneo</cp:lastModifiedBy>
  <cp:lastPrinted>1999-05-20T13:43:05Z</cp:lastPrinted>
  <dcterms:modified xsi:type="dcterms:W3CDTF">2001-01-12T17:17:06Z</dcterms:modified>
  <cp:revision>4</cp:revision>
  <dc:subject/>
  <dc:title>No Slide Title</dc:title>
</cp:coreProperties>
</file>