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87788" cy="201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FF9-B515-4496-B959-33EDFF28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826-2D1E-4FB2-ADD2-C4C6F0C4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D61-FD96-44C7-80B1-9769DA6D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0832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468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60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0832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468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5B3-44E0-4F2B-9EB8-562F1EBF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AAFB-8540-43D6-9DA9-F64E8954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422-A655-4565-8715-9C6C0D29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001-C322-49E1-AF13-F9703272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9E0-4075-4E03-99EF-EDD53FD1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" y="178920"/>
            <a:ext cx="330228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5CE-19C4-4577-85FC-2454CB4C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E42-7F42-4ACB-A709-059E6837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807-96B9-4144-8B17-14886063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324-A205-43B3-8E88-BB7C3B25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 fontScale="72000"/>
          </a:bodyPr>
          <a:p>
            <a:pPr marL="99360" indent="-9936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640" indent="-8208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3322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46620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5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6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160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26960" y="1839600"/>
            <a:ext cx="123156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8424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fld id="{53659CE7-0A32-4613-B2A4-899C63A4BFC2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0" y="17640"/>
            <a:ext cx="3809880" cy="1981080"/>
            <a:chOff x="34920" y="17640"/>
            <a:chExt cx="3809880" cy="1981080"/>
          </a:xfrm>
        </p:grpSpPr>
        <p:pic>
          <p:nvPicPr>
            <p:cNvPr id="42" name="folder" descr=""/>
            <p:cNvPicPr/>
            <p:nvPr/>
          </p:nvPicPr>
          <p:blipFill>
            <a:blip r:embed="rId1"/>
            <a:stretch/>
          </p:blipFill>
          <p:spPr>
            <a:xfrm>
              <a:off x="2625840" y="779400"/>
              <a:ext cx="42840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folder" descr=""/>
            <p:cNvPicPr/>
            <p:nvPr/>
          </p:nvPicPr>
          <p:blipFill>
            <a:blip r:embed="rId2"/>
            <a:stretch/>
          </p:blipFill>
          <p:spPr>
            <a:xfrm>
              <a:off x="2168640" y="4748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97240" y="779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97240" y="932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67440" y="55080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28960" y="8557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yTra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folder" descr=""/>
            <p:cNvPicPr/>
            <p:nvPr/>
          </p:nvPicPr>
          <p:blipFill>
            <a:blip r:embed="rId3"/>
            <a:stretch/>
          </p:blipFill>
          <p:spPr>
            <a:xfrm>
              <a:off x="2625840" y="11606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397240" y="1312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folder" descr=""/>
            <p:cNvPicPr/>
            <p:nvPr/>
          </p:nvPicPr>
          <p:blipFill>
            <a:blip r:embed="rId4"/>
            <a:stretch/>
          </p:blipFill>
          <p:spPr>
            <a:xfrm>
              <a:off x="2625840" y="154152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97240" y="1693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2840" y="246240"/>
              <a:ext cx="609480" cy="228600"/>
            </a:xfrm>
            <a:prstGeom prst="wedgeRoundRectCallout">
              <a:avLst>
                <a:gd name="adj1" fmla="val 84375"/>
                <a:gd name="adj2" fmla="val 132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1240" y="627120"/>
              <a:ext cx="1981080" cy="228600"/>
            </a:xfrm>
            <a:prstGeom prst="wedgeRoundRectCallout">
              <a:avLst>
                <a:gd name="adj1" fmla="val 84375"/>
                <a:gd name="adj2" fmla="val 107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ObjectVector&lt;MyTrack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20" y="17640"/>
              <a:ext cx="380988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09:27:26Z</dcterms:created>
  <dc:creator>ALEPH-LHCB</dc:creator>
  <dc:description/>
  <dc:language>en-US</dc:language>
  <cp:lastModifiedBy>ALEPH-LHCB</cp:lastModifiedBy>
  <dcterms:modified xsi:type="dcterms:W3CDTF">2001-01-16T09:57:49Z</dcterms:modified>
  <cp:revision>1</cp:revision>
  <dc:subject/>
  <dc:title>PowerPoint Presentation</dc:title>
</cp:coreProperties>
</file>