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37C-9F98-4EAD-91E4-9C2F6D36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C9D-416F-496F-9CFE-B7837523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E0C-4D68-4E7C-ADBD-A8AB8BD3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CBF-F152-426D-BF79-08B3A6AB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09C-3EFD-4659-8DB5-830A3CB5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419-B781-4EAF-8463-580C9E03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00B-ED00-4C08-BF73-D8AB9137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0D3-110E-4716-BF69-438D20C1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45600"/>
            <a:ext cx="4956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F4C-644C-4F6C-B124-2E63A52B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91B-E16A-44B7-A3D9-EE5C8128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38B-277D-4C76-AF5D-4EDDCD91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933-2BCA-4B2F-8203-B476760F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90000"/>
          </a:bodyPr>
          <a:p>
            <a:pPr marL="19116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360" indent="-159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20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9136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540240"/>
            <a:ext cx="121428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540240"/>
            <a:ext cx="184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540240"/>
            <a:ext cx="121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88A8529F-8B25-41BE-B496-76333AF9AB8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5600" y="77760"/>
            <a:ext cx="617400" cy="429840"/>
            <a:chOff x="2595600" y="77760"/>
            <a:chExt cx="617400" cy="429840"/>
          </a:xfrm>
        </p:grpSpPr>
        <p:sp>
          <p:nvSpPr>
            <p:cNvPr id="42" name=""/>
            <p:cNvSpPr/>
            <p:nvPr/>
          </p:nvSpPr>
          <p:spPr>
            <a:xfrm>
              <a:off x="2595600" y="77760"/>
              <a:ext cx="615960" cy="428400"/>
            </a:xfrm>
            <a:custGeom>
              <a:avLst/>
              <a:gdLst/>
              <a:ahLst/>
              <a:rect l="l" t="t" r="r" b="b"/>
              <a:pathLst>
                <a:path w="931" h="585">
                  <a:moveTo>
                    <a:pt x="0" y="585"/>
                  </a:moveTo>
                  <a:lnTo>
                    <a:pt x="931" y="585"/>
                  </a:lnTo>
                  <a:lnTo>
                    <a:pt x="931" y="84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4"/>
                  </a:lnTo>
                  <a:lnTo>
                    <a:pt x="0" y="8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5600" y="13932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98560" y="2142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27040" y="936720"/>
            <a:ext cx="615960" cy="430200"/>
            <a:chOff x="1427040" y="936720"/>
            <a:chExt cx="615960" cy="430200"/>
          </a:xfrm>
        </p:grpSpPr>
        <p:sp>
          <p:nvSpPr>
            <p:cNvPr id="46" name=""/>
            <p:cNvSpPr/>
            <p:nvPr/>
          </p:nvSpPr>
          <p:spPr>
            <a:xfrm>
              <a:off x="1427040" y="936720"/>
              <a:ext cx="61452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7040" y="998280"/>
              <a:ext cx="6159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5600" y="936720"/>
            <a:ext cx="617400" cy="430200"/>
            <a:chOff x="2595600" y="936720"/>
            <a:chExt cx="617400" cy="430200"/>
          </a:xfrm>
        </p:grpSpPr>
        <p:sp>
          <p:nvSpPr>
            <p:cNvPr id="50" name=""/>
            <p:cNvSpPr/>
            <p:nvPr/>
          </p:nvSpPr>
          <p:spPr>
            <a:xfrm>
              <a:off x="259560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560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0" y="1073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89440" y="936720"/>
            <a:ext cx="617400" cy="430200"/>
            <a:chOff x="3889440" y="936720"/>
            <a:chExt cx="617400" cy="430200"/>
          </a:xfrm>
        </p:grpSpPr>
        <p:sp>
          <p:nvSpPr>
            <p:cNvPr id="54" name=""/>
            <p:cNvSpPr/>
            <p:nvPr/>
          </p:nvSpPr>
          <p:spPr>
            <a:xfrm>
              <a:off x="388944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944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2020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03400" y="506520"/>
            <a:ext cx="180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33040" y="752400"/>
            <a:ext cx="240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7120" y="75240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3400" y="1366920"/>
            <a:ext cx="18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7240" y="1795320"/>
            <a:ext cx="474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9440" y="1979640"/>
            <a:ext cx="617400" cy="429840"/>
            <a:chOff x="379440" y="1979640"/>
            <a:chExt cx="617400" cy="429840"/>
          </a:xfrm>
        </p:grpSpPr>
        <p:sp>
          <p:nvSpPr>
            <p:cNvPr id="65" name=""/>
            <p:cNvSpPr/>
            <p:nvPr/>
          </p:nvSpPr>
          <p:spPr>
            <a:xfrm>
              <a:off x="37944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44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280" y="2116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724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7440" y="1979640"/>
            <a:ext cx="617760" cy="429840"/>
            <a:chOff x="1117440" y="1979640"/>
            <a:chExt cx="617760" cy="429840"/>
          </a:xfrm>
        </p:grpSpPr>
        <p:sp>
          <p:nvSpPr>
            <p:cNvPr id="70" name=""/>
            <p:cNvSpPr/>
            <p:nvPr/>
          </p:nvSpPr>
          <p:spPr>
            <a:xfrm>
              <a:off x="11174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5520" y="2116080"/>
              <a:ext cx="20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2704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5600" y="1979640"/>
            <a:ext cx="617400" cy="429840"/>
            <a:chOff x="2595600" y="1979640"/>
            <a:chExt cx="617400" cy="429840"/>
          </a:xfrm>
        </p:grpSpPr>
        <p:sp>
          <p:nvSpPr>
            <p:cNvPr id="75" name=""/>
            <p:cNvSpPr/>
            <p:nvPr/>
          </p:nvSpPr>
          <p:spPr>
            <a:xfrm>
              <a:off x="259560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560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8120" y="2116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034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35400" y="1974960"/>
            <a:ext cx="617400" cy="501120"/>
            <a:chOff x="3335400" y="1974960"/>
            <a:chExt cx="617400" cy="501120"/>
          </a:xfrm>
        </p:grpSpPr>
        <p:sp>
          <p:nvSpPr>
            <p:cNvPr id="80" name=""/>
            <p:cNvSpPr/>
            <p:nvPr/>
          </p:nvSpPr>
          <p:spPr>
            <a:xfrm>
              <a:off x="3335400" y="1974960"/>
              <a:ext cx="615960" cy="42804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5400" y="2036160"/>
              <a:ext cx="617400" cy="36792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8800" y="2111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6432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5200" y="1979640"/>
            <a:ext cx="615960" cy="428760"/>
          </a:xfrm>
          <a:custGeom>
            <a:avLst/>
            <a:gdLst/>
            <a:ahLst/>
            <a:rect l="l" t="t" r="r" b="b"/>
            <a:pathLst>
              <a:path w="931" h="584">
                <a:moveTo>
                  <a:pt x="0" y="584"/>
                </a:moveTo>
                <a:lnTo>
                  <a:pt x="931" y="584"/>
                </a:lnTo>
                <a:lnTo>
                  <a:pt x="931" y="83"/>
                </a:lnTo>
                <a:lnTo>
                  <a:pt x="838" y="0"/>
                </a:lnTo>
                <a:lnTo>
                  <a:pt x="559" y="0"/>
                </a:lnTo>
                <a:lnTo>
                  <a:pt x="466" y="83"/>
                </a:lnTo>
                <a:lnTo>
                  <a:pt x="0" y="83"/>
                </a:lnTo>
                <a:lnTo>
                  <a:pt x="0" y="584"/>
                </a:lnTo>
                <a:close/>
              </a:path>
            </a:pathLst>
          </a:custGeom>
          <a:solidFill>
            <a:srgbClr val="b0d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5200" y="2041560"/>
            <a:ext cx="617400" cy="368280"/>
          </a:xfrm>
          <a:prstGeom prst="rect">
            <a:avLst/>
          </a:prstGeom>
          <a:solidFill>
            <a:srgbClr val="b0d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1560" y="2057400"/>
            <a:ext cx="5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952d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0480" y="213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30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22800" y="1979640"/>
            <a:ext cx="615960" cy="591840"/>
            <a:chOff x="5122800" y="1979640"/>
            <a:chExt cx="615960" cy="591840"/>
          </a:xfrm>
        </p:grpSpPr>
        <p:sp>
          <p:nvSpPr>
            <p:cNvPr id="90" name=""/>
            <p:cNvSpPr/>
            <p:nvPr/>
          </p:nvSpPr>
          <p:spPr>
            <a:xfrm>
              <a:off x="5122800" y="1979640"/>
              <a:ext cx="614520" cy="42912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2800" y="2041200"/>
              <a:ext cx="615960" cy="36864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9520" y="202932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5800" y="220716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2916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57240" y="1979640"/>
            <a:ext cx="617760" cy="429840"/>
            <a:chOff x="1857240" y="1979640"/>
            <a:chExt cx="617760" cy="429840"/>
          </a:xfrm>
        </p:grpSpPr>
        <p:sp>
          <p:nvSpPr>
            <p:cNvPr id="96" name=""/>
            <p:cNvSpPr/>
            <p:nvPr/>
          </p:nvSpPr>
          <p:spPr>
            <a:xfrm>
              <a:off x="18572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572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9840" y="21160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4920"/>
            <a:ext cx="1650960" cy="1471320"/>
          </a:xfrm>
          <a:custGeom>
            <a:avLst/>
            <a:gdLst/>
            <a:ahLst/>
            <a:rect l="l" t="t" r="r" b="b"/>
            <a:pathLst>
              <a:path w="2497" h="2005">
                <a:moveTo>
                  <a:pt x="1178" y="0"/>
                </a:moveTo>
                <a:lnTo>
                  <a:pt x="1125" y="2"/>
                </a:lnTo>
                <a:lnTo>
                  <a:pt x="1075" y="5"/>
                </a:lnTo>
                <a:lnTo>
                  <a:pt x="1030" y="9"/>
                </a:lnTo>
                <a:lnTo>
                  <a:pt x="991" y="16"/>
                </a:lnTo>
                <a:lnTo>
                  <a:pt x="974" y="21"/>
                </a:lnTo>
                <a:lnTo>
                  <a:pt x="958" y="25"/>
                </a:lnTo>
                <a:lnTo>
                  <a:pt x="945" y="30"/>
                </a:lnTo>
                <a:lnTo>
                  <a:pt x="935" y="33"/>
                </a:lnTo>
                <a:lnTo>
                  <a:pt x="925" y="38"/>
                </a:lnTo>
                <a:lnTo>
                  <a:pt x="919" y="44"/>
                </a:lnTo>
                <a:lnTo>
                  <a:pt x="916" y="51"/>
                </a:lnTo>
                <a:lnTo>
                  <a:pt x="914" y="56"/>
                </a:lnTo>
                <a:lnTo>
                  <a:pt x="914" y="195"/>
                </a:lnTo>
                <a:lnTo>
                  <a:pt x="914" y="278"/>
                </a:lnTo>
                <a:lnTo>
                  <a:pt x="916" y="284"/>
                </a:lnTo>
                <a:lnTo>
                  <a:pt x="919" y="291"/>
                </a:lnTo>
                <a:lnTo>
                  <a:pt x="925" y="296"/>
                </a:lnTo>
                <a:lnTo>
                  <a:pt x="935" y="301"/>
                </a:lnTo>
                <a:lnTo>
                  <a:pt x="945" y="304"/>
                </a:lnTo>
                <a:lnTo>
                  <a:pt x="958" y="310"/>
                </a:lnTo>
                <a:lnTo>
                  <a:pt x="974" y="315"/>
                </a:lnTo>
                <a:lnTo>
                  <a:pt x="991" y="318"/>
                </a:lnTo>
                <a:lnTo>
                  <a:pt x="1030" y="325"/>
                </a:lnTo>
                <a:lnTo>
                  <a:pt x="1075" y="331"/>
                </a:lnTo>
                <a:lnTo>
                  <a:pt x="1125" y="332"/>
                </a:lnTo>
                <a:lnTo>
                  <a:pt x="1178" y="334"/>
                </a:lnTo>
                <a:lnTo>
                  <a:pt x="0" y="2005"/>
                </a:lnTo>
                <a:lnTo>
                  <a:pt x="1573" y="334"/>
                </a:lnTo>
                <a:lnTo>
                  <a:pt x="2233" y="334"/>
                </a:lnTo>
                <a:lnTo>
                  <a:pt x="2285" y="332"/>
                </a:lnTo>
                <a:lnTo>
                  <a:pt x="2336" y="331"/>
                </a:lnTo>
                <a:lnTo>
                  <a:pt x="2381" y="325"/>
                </a:lnTo>
                <a:lnTo>
                  <a:pt x="2419" y="318"/>
                </a:lnTo>
                <a:lnTo>
                  <a:pt x="2437" y="315"/>
                </a:lnTo>
                <a:lnTo>
                  <a:pt x="2452" y="310"/>
                </a:lnTo>
                <a:lnTo>
                  <a:pt x="2466" y="304"/>
                </a:lnTo>
                <a:lnTo>
                  <a:pt x="2476" y="301"/>
                </a:lnTo>
                <a:lnTo>
                  <a:pt x="2485" y="296"/>
                </a:lnTo>
                <a:lnTo>
                  <a:pt x="2491" y="291"/>
                </a:lnTo>
                <a:lnTo>
                  <a:pt x="2495" y="284"/>
                </a:lnTo>
                <a:lnTo>
                  <a:pt x="2497" y="278"/>
                </a:lnTo>
                <a:lnTo>
                  <a:pt x="2497" y="195"/>
                </a:lnTo>
                <a:lnTo>
                  <a:pt x="2497" y="56"/>
                </a:lnTo>
                <a:lnTo>
                  <a:pt x="2495" y="51"/>
                </a:lnTo>
                <a:lnTo>
                  <a:pt x="2491" y="44"/>
                </a:lnTo>
                <a:lnTo>
                  <a:pt x="2485" y="38"/>
                </a:lnTo>
                <a:lnTo>
                  <a:pt x="2476" y="33"/>
                </a:lnTo>
                <a:lnTo>
                  <a:pt x="2466" y="30"/>
                </a:lnTo>
                <a:lnTo>
                  <a:pt x="2452" y="25"/>
                </a:lnTo>
                <a:lnTo>
                  <a:pt x="2437" y="21"/>
                </a:lnTo>
                <a:lnTo>
                  <a:pt x="2419" y="16"/>
                </a:lnTo>
                <a:lnTo>
                  <a:pt x="2381" y="9"/>
                </a:lnTo>
                <a:lnTo>
                  <a:pt x="2336" y="5"/>
                </a:lnTo>
                <a:lnTo>
                  <a:pt x="2285" y="2"/>
                </a:lnTo>
                <a:lnTo>
                  <a:pt x="2233" y="0"/>
                </a:lnTo>
                <a:lnTo>
                  <a:pt x="1573" y="0"/>
                </a:lnTo>
                <a:lnTo>
                  <a:pt x="1178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0" y="3319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$PACKA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876240"/>
            <a:ext cx="185760" cy="550800"/>
          </a:xfrm>
          <a:custGeom>
            <a:avLst/>
            <a:gdLst/>
            <a:ahLst/>
            <a:rect l="l" t="t" r="r" b="b"/>
            <a:pathLst>
              <a:path w="280" h="752">
                <a:moveTo>
                  <a:pt x="280" y="0"/>
                </a:moveTo>
                <a:lnTo>
                  <a:pt x="251" y="2"/>
                </a:lnTo>
                <a:lnTo>
                  <a:pt x="225" y="6"/>
                </a:lnTo>
                <a:lnTo>
                  <a:pt x="202" y="11"/>
                </a:lnTo>
                <a:lnTo>
                  <a:pt x="181" y="20"/>
                </a:lnTo>
                <a:lnTo>
                  <a:pt x="163" y="28"/>
                </a:lnTo>
                <a:lnTo>
                  <a:pt x="152" y="39"/>
                </a:lnTo>
                <a:lnTo>
                  <a:pt x="142" y="51"/>
                </a:lnTo>
                <a:lnTo>
                  <a:pt x="140" y="63"/>
                </a:lnTo>
                <a:lnTo>
                  <a:pt x="140" y="313"/>
                </a:lnTo>
                <a:lnTo>
                  <a:pt x="138" y="326"/>
                </a:lnTo>
                <a:lnTo>
                  <a:pt x="128" y="338"/>
                </a:lnTo>
                <a:lnTo>
                  <a:pt x="117" y="348"/>
                </a:lnTo>
                <a:lnTo>
                  <a:pt x="99" y="359"/>
                </a:lnTo>
                <a:lnTo>
                  <a:pt x="78" y="366"/>
                </a:lnTo>
                <a:lnTo>
                  <a:pt x="55" y="371"/>
                </a:lnTo>
                <a:lnTo>
                  <a:pt x="29" y="374"/>
                </a:lnTo>
                <a:lnTo>
                  <a:pt x="0" y="376"/>
                </a:lnTo>
                <a:lnTo>
                  <a:pt x="29" y="378"/>
                </a:lnTo>
                <a:lnTo>
                  <a:pt x="55" y="381"/>
                </a:lnTo>
                <a:lnTo>
                  <a:pt x="78" y="386"/>
                </a:lnTo>
                <a:lnTo>
                  <a:pt x="99" y="395"/>
                </a:lnTo>
                <a:lnTo>
                  <a:pt x="117" y="404"/>
                </a:lnTo>
                <a:lnTo>
                  <a:pt x="128" y="414"/>
                </a:lnTo>
                <a:lnTo>
                  <a:pt x="138" y="426"/>
                </a:lnTo>
                <a:lnTo>
                  <a:pt x="140" y="439"/>
                </a:lnTo>
                <a:lnTo>
                  <a:pt x="140" y="689"/>
                </a:lnTo>
                <a:lnTo>
                  <a:pt x="142" y="701"/>
                </a:lnTo>
                <a:lnTo>
                  <a:pt x="152" y="713"/>
                </a:lnTo>
                <a:lnTo>
                  <a:pt x="163" y="724"/>
                </a:lnTo>
                <a:lnTo>
                  <a:pt x="181" y="734"/>
                </a:lnTo>
                <a:lnTo>
                  <a:pt x="202" y="741"/>
                </a:lnTo>
                <a:lnTo>
                  <a:pt x="225" y="746"/>
                </a:lnTo>
                <a:lnTo>
                  <a:pt x="251" y="750"/>
                </a:lnTo>
                <a:lnTo>
                  <a:pt x="280" y="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977760"/>
            <a:ext cx="652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200" y="99216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680" y="116352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2592360"/>
            <a:ext cx="2401920" cy="182520"/>
          </a:xfrm>
          <a:custGeom>
            <a:avLst/>
            <a:gdLst/>
            <a:ahLst/>
            <a:rect l="l" t="t" r="r" b="b"/>
            <a:pathLst>
              <a:path w="3632" h="251">
                <a:moveTo>
                  <a:pt x="0" y="0"/>
                </a:moveTo>
                <a:lnTo>
                  <a:pt x="2" y="12"/>
                </a:lnTo>
                <a:lnTo>
                  <a:pt x="6" y="26"/>
                </a:lnTo>
                <a:lnTo>
                  <a:pt x="14" y="39"/>
                </a:lnTo>
                <a:lnTo>
                  <a:pt x="24" y="49"/>
                </a:lnTo>
                <a:lnTo>
                  <a:pt x="37" y="59"/>
                </a:lnTo>
                <a:lnTo>
                  <a:pt x="53" y="70"/>
                </a:lnTo>
                <a:lnTo>
                  <a:pt x="70" y="80"/>
                </a:lnTo>
                <a:lnTo>
                  <a:pt x="90" y="89"/>
                </a:lnTo>
                <a:lnTo>
                  <a:pt x="111" y="98"/>
                </a:lnTo>
                <a:lnTo>
                  <a:pt x="134" y="105"/>
                </a:lnTo>
                <a:lnTo>
                  <a:pt x="185" y="115"/>
                </a:lnTo>
                <a:lnTo>
                  <a:pt x="243" y="124"/>
                </a:lnTo>
                <a:lnTo>
                  <a:pt x="303" y="126"/>
                </a:lnTo>
                <a:lnTo>
                  <a:pt x="1514" y="126"/>
                </a:lnTo>
                <a:lnTo>
                  <a:pt x="1574" y="127"/>
                </a:lnTo>
                <a:lnTo>
                  <a:pt x="1632" y="136"/>
                </a:lnTo>
                <a:lnTo>
                  <a:pt x="1682" y="146"/>
                </a:lnTo>
                <a:lnTo>
                  <a:pt x="1706" y="153"/>
                </a:lnTo>
                <a:lnTo>
                  <a:pt x="1727" y="162"/>
                </a:lnTo>
                <a:lnTo>
                  <a:pt x="1747" y="171"/>
                </a:lnTo>
                <a:lnTo>
                  <a:pt x="1764" y="181"/>
                </a:lnTo>
                <a:lnTo>
                  <a:pt x="1780" y="192"/>
                </a:lnTo>
                <a:lnTo>
                  <a:pt x="1793" y="202"/>
                </a:lnTo>
                <a:lnTo>
                  <a:pt x="1803" y="214"/>
                </a:lnTo>
                <a:lnTo>
                  <a:pt x="1811" y="225"/>
                </a:lnTo>
                <a:lnTo>
                  <a:pt x="1814" y="239"/>
                </a:lnTo>
                <a:lnTo>
                  <a:pt x="1816" y="251"/>
                </a:lnTo>
                <a:lnTo>
                  <a:pt x="1818" y="239"/>
                </a:lnTo>
                <a:lnTo>
                  <a:pt x="1822" y="225"/>
                </a:lnTo>
                <a:lnTo>
                  <a:pt x="1830" y="214"/>
                </a:lnTo>
                <a:lnTo>
                  <a:pt x="1840" y="202"/>
                </a:lnTo>
                <a:lnTo>
                  <a:pt x="1853" y="192"/>
                </a:lnTo>
                <a:lnTo>
                  <a:pt x="1869" y="181"/>
                </a:lnTo>
                <a:lnTo>
                  <a:pt x="1886" y="171"/>
                </a:lnTo>
                <a:lnTo>
                  <a:pt x="1906" y="162"/>
                </a:lnTo>
                <a:lnTo>
                  <a:pt x="1927" y="153"/>
                </a:lnTo>
                <a:lnTo>
                  <a:pt x="1950" y="146"/>
                </a:lnTo>
                <a:lnTo>
                  <a:pt x="2001" y="136"/>
                </a:lnTo>
                <a:lnTo>
                  <a:pt x="2059" y="127"/>
                </a:lnTo>
                <a:lnTo>
                  <a:pt x="2119" y="126"/>
                </a:lnTo>
                <a:lnTo>
                  <a:pt x="3330" y="126"/>
                </a:lnTo>
                <a:lnTo>
                  <a:pt x="3390" y="124"/>
                </a:lnTo>
                <a:lnTo>
                  <a:pt x="3448" y="115"/>
                </a:lnTo>
                <a:lnTo>
                  <a:pt x="3499" y="105"/>
                </a:lnTo>
                <a:lnTo>
                  <a:pt x="3522" y="98"/>
                </a:lnTo>
                <a:lnTo>
                  <a:pt x="3543" y="89"/>
                </a:lnTo>
                <a:lnTo>
                  <a:pt x="3563" y="80"/>
                </a:lnTo>
                <a:lnTo>
                  <a:pt x="3580" y="70"/>
                </a:lnTo>
                <a:lnTo>
                  <a:pt x="3596" y="59"/>
                </a:lnTo>
                <a:lnTo>
                  <a:pt x="3609" y="49"/>
                </a:lnTo>
                <a:lnTo>
                  <a:pt x="3619" y="39"/>
                </a:lnTo>
                <a:lnTo>
                  <a:pt x="3627" y="26"/>
                </a:lnTo>
                <a:lnTo>
                  <a:pt x="3631" y="12"/>
                </a:lnTo>
                <a:lnTo>
                  <a:pt x="3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13280" y="2755800"/>
            <a:ext cx="68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2760" y="277164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n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2395440"/>
            <a:ext cx="1601640" cy="1306440"/>
          </a:xfrm>
          <a:custGeom>
            <a:avLst/>
            <a:gdLst/>
            <a:ahLst/>
            <a:rect l="l" t="t" r="r" b="b"/>
            <a:pathLst>
              <a:path w="2422" h="1778">
                <a:moveTo>
                  <a:pt x="404" y="659"/>
                </a:moveTo>
                <a:lnTo>
                  <a:pt x="363" y="660"/>
                </a:lnTo>
                <a:lnTo>
                  <a:pt x="323" y="662"/>
                </a:lnTo>
                <a:lnTo>
                  <a:pt x="284" y="667"/>
                </a:lnTo>
                <a:lnTo>
                  <a:pt x="247" y="672"/>
                </a:lnTo>
                <a:lnTo>
                  <a:pt x="212" y="681"/>
                </a:lnTo>
                <a:lnTo>
                  <a:pt x="179" y="690"/>
                </a:lnTo>
                <a:lnTo>
                  <a:pt x="148" y="700"/>
                </a:lnTo>
                <a:lnTo>
                  <a:pt x="119" y="712"/>
                </a:lnTo>
                <a:lnTo>
                  <a:pt x="92" y="726"/>
                </a:lnTo>
                <a:lnTo>
                  <a:pt x="70" y="740"/>
                </a:lnTo>
                <a:lnTo>
                  <a:pt x="49" y="756"/>
                </a:lnTo>
                <a:lnTo>
                  <a:pt x="31" y="772"/>
                </a:lnTo>
                <a:lnTo>
                  <a:pt x="18" y="789"/>
                </a:lnTo>
                <a:lnTo>
                  <a:pt x="8" y="806"/>
                </a:lnTo>
                <a:lnTo>
                  <a:pt x="2" y="825"/>
                </a:lnTo>
                <a:lnTo>
                  <a:pt x="0" y="845"/>
                </a:lnTo>
                <a:lnTo>
                  <a:pt x="0" y="1125"/>
                </a:lnTo>
                <a:lnTo>
                  <a:pt x="0" y="1592"/>
                </a:lnTo>
                <a:lnTo>
                  <a:pt x="2" y="1611"/>
                </a:lnTo>
                <a:lnTo>
                  <a:pt x="8" y="1631"/>
                </a:lnTo>
                <a:lnTo>
                  <a:pt x="18" y="1648"/>
                </a:lnTo>
                <a:lnTo>
                  <a:pt x="31" y="1665"/>
                </a:lnTo>
                <a:lnTo>
                  <a:pt x="49" y="1681"/>
                </a:lnTo>
                <a:lnTo>
                  <a:pt x="70" y="1697"/>
                </a:lnTo>
                <a:lnTo>
                  <a:pt x="92" y="1711"/>
                </a:lnTo>
                <a:lnTo>
                  <a:pt x="119" y="1724"/>
                </a:lnTo>
                <a:lnTo>
                  <a:pt x="148" y="1737"/>
                </a:lnTo>
                <a:lnTo>
                  <a:pt x="179" y="1747"/>
                </a:lnTo>
                <a:lnTo>
                  <a:pt x="212" y="1756"/>
                </a:lnTo>
                <a:lnTo>
                  <a:pt x="247" y="1764"/>
                </a:lnTo>
                <a:lnTo>
                  <a:pt x="284" y="1770"/>
                </a:lnTo>
                <a:lnTo>
                  <a:pt x="323" y="1775"/>
                </a:lnTo>
                <a:lnTo>
                  <a:pt x="363" y="1777"/>
                </a:lnTo>
                <a:lnTo>
                  <a:pt x="404" y="1778"/>
                </a:lnTo>
                <a:lnTo>
                  <a:pt x="1413" y="1778"/>
                </a:lnTo>
                <a:lnTo>
                  <a:pt x="2018" y="1778"/>
                </a:lnTo>
                <a:lnTo>
                  <a:pt x="2059" y="1777"/>
                </a:lnTo>
                <a:lnTo>
                  <a:pt x="2100" y="1775"/>
                </a:lnTo>
                <a:lnTo>
                  <a:pt x="2139" y="1770"/>
                </a:lnTo>
                <a:lnTo>
                  <a:pt x="2176" y="1764"/>
                </a:lnTo>
                <a:lnTo>
                  <a:pt x="2210" y="1756"/>
                </a:lnTo>
                <a:lnTo>
                  <a:pt x="2243" y="1747"/>
                </a:lnTo>
                <a:lnTo>
                  <a:pt x="2274" y="1737"/>
                </a:lnTo>
                <a:lnTo>
                  <a:pt x="2304" y="1724"/>
                </a:lnTo>
                <a:lnTo>
                  <a:pt x="2331" y="1711"/>
                </a:lnTo>
                <a:lnTo>
                  <a:pt x="2354" y="1697"/>
                </a:lnTo>
                <a:lnTo>
                  <a:pt x="2373" y="1681"/>
                </a:lnTo>
                <a:lnTo>
                  <a:pt x="2391" y="1665"/>
                </a:lnTo>
                <a:lnTo>
                  <a:pt x="2404" y="1648"/>
                </a:lnTo>
                <a:lnTo>
                  <a:pt x="2414" y="1631"/>
                </a:lnTo>
                <a:lnTo>
                  <a:pt x="2420" y="1611"/>
                </a:lnTo>
                <a:lnTo>
                  <a:pt x="2422" y="1592"/>
                </a:lnTo>
                <a:lnTo>
                  <a:pt x="2422" y="1125"/>
                </a:lnTo>
                <a:lnTo>
                  <a:pt x="2422" y="845"/>
                </a:lnTo>
                <a:lnTo>
                  <a:pt x="2420" y="825"/>
                </a:lnTo>
                <a:lnTo>
                  <a:pt x="2414" y="806"/>
                </a:lnTo>
                <a:lnTo>
                  <a:pt x="2404" y="789"/>
                </a:lnTo>
                <a:lnTo>
                  <a:pt x="2391" y="772"/>
                </a:lnTo>
                <a:lnTo>
                  <a:pt x="2373" y="756"/>
                </a:lnTo>
                <a:lnTo>
                  <a:pt x="2354" y="740"/>
                </a:lnTo>
                <a:lnTo>
                  <a:pt x="2331" y="726"/>
                </a:lnTo>
                <a:lnTo>
                  <a:pt x="2304" y="712"/>
                </a:lnTo>
                <a:lnTo>
                  <a:pt x="2274" y="700"/>
                </a:lnTo>
                <a:lnTo>
                  <a:pt x="2243" y="690"/>
                </a:lnTo>
                <a:lnTo>
                  <a:pt x="2210" y="681"/>
                </a:lnTo>
                <a:lnTo>
                  <a:pt x="2176" y="672"/>
                </a:lnTo>
                <a:lnTo>
                  <a:pt x="2139" y="667"/>
                </a:lnTo>
                <a:lnTo>
                  <a:pt x="2100" y="662"/>
                </a:lnTo>
                <a:lnTo>
                  <a:pt x="2059" y="660"/>
                </a:lnTo>
                <a:lnTo>
                  <a:pt x="2018" y="659"/>
                </a:lnTo>
                <a:lnTo>
                  <a:pt x="1884" y="0"/>
                </a:lnTo>
                <a:lnTo>
                  <a:pt x="1413" y="659"/>
                </a:lnTo>
                <a:lnTo>
                  <a:pt x="404" y="659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2925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nal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160" y="309564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iles and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960" y="326700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3640" y="3267000"/>
            <a:ext cx="89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200" y="34383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2411280"/>
            <a:ext cx="1971720" cy="1111320"/>
          </a:xfrm>
          <a:custGeom>
            <a:avLst/>
            <a:gdLst/>
            <a:ahLst/>
            <a:rect l="l" t="t" r="r" b="b"/>
            <a:pathLst>
              <a:path w="2980" h="1513">
                <a:moveTo>
                  <a:pt x="496" y="680"/>
                </a:moveTo>
                <a:lnTo>
                  <a:pt x="397" y="684"/>
                </a:lnTo>
                <a:lnTo>
                  <a:pt x="349" y="687"/>
                </a:lnTo>
                <a:lnTo>
                  <a:pt x="304" y="691"/>
                </a:lnTo>
                <a:lnTo>
                  <a:pt x="260" y="698"/>
                </a:lnTo>
                <a:lnTo>
                  <a:pt x="219" y="705"/>
                </a:lnTo>
                <a:lnTo>
                  <a:pt x="180" y="712"/>
                </a:lnTo>
                <a:lnTo>
                  <a:pt x="145" y="722"/>
                </a:lnTo>
                <a:lnTo>
                  <a:pt x="114" y="731"/>
                </a:lnTo>
                <a:lnTo>
                  <a:pt x="85" y="741"/>
                </a:lnTo>
                <a:lnTo>
                  <a:pt x="60" y="753"/>
                </a:lnTo>
                <a:lnTo>
                  <a:pt x="38" y="765"/>
                </a:lnTo>
                <a:lnTo>
                  <a:pt x="23" y="778"/>
                </a:lnTo>
                <a:lnTo>
                  <a:pt x="9" y="792"/>
                </a:lnTo>
                <a:lnTo>
                  <a:pt x="2" y="805"/>
                </a:lnTo>
                <a:lnTo>
                  <a:pt x="0" y="819"/>
                </a:lnTo>
                <a:lnTo>
                  <a:pt x="0" y="1028"/>
                </a:lnTo>
                <a:lnTo>
                  <a:pt x="0" y="1374"/>
                </a:lnTo>
                <a:lnTo>
                  <a:pt x="2" y="1388"/>
                </a:lnTo>
                <a:lnTo>
                  <a:pt x="9" y="1402"/>
                </a:lnTo>
                <a:lnTo>
                  <a:pt x="23" y="1416"/>
                </a:lnTo>
                <a:lnTo>
                  <a:pt x="38" y="1428"/>
                </a:lnTo>
                <a:lnTo>
                  <a:pt x="60" y="1440"/>
                </a:lnTo>
                <a:lnTo>
                  <a:pt x="85" y="1452"/>
                </a:lnTo>
                <a:lnTo>
                  <a:pt x="114" y="1463"/>
                </a:lnTo>
                <a:lnTo>
                  <a:pt x="145" y="1473"/>
                </a:lnTo>
                <a:lnTo>
                  <a:pt x="180" y="1482"/>
                </a:lnTo>
                <a:lnTo>
                  <a:pt x="219" y="1489"/>
                </a:lnTo>
                <a:lnTo>
                  <a:pt x="260" y="1496"/>
                </a:lnTo>
                <a:lnTo>
                  <a:pt x="304" y="1503"/>
                </a:lnTo>
                <a:lnTo>
                  <a:pt x="349" y="1506"/>
                </a:lnTo>
                <a:lnTo>
                  <a:pt x="397" y="1510"/>
                </a:lnTo>
                <a:lnTo>
                  <a:pt x="496" y="1513"/>
                </a:lnTo>
                <a:lnTo>
                  <a:pt x="1241" y="1513"/>
                </a:lnTo>
                <a:lnTo>
                  <a:pt x="2483" y="1513"/>
                </a:lnTo>
                <a:lnTo>
                  <a:pt x="2584" y="1510"/>
                </a:lnTo>
                <a:lnTo>
                  <a:pt x="2631" y="1506"/>
                </a:lnTo>
                <a:lnTo>
                  <a:pt x="2677" y="1503"/>
                </a:lnTo>
                <a:lnTo>
                  <a:pt x="2720" y="1496"/>
                </a:lnTo>
                <a:lnTo>
                  <a:pt x="2761" y="1489"/>
                </a:lnTo>
                <a:lnTo>
                  <a:pt x="2799" y="1482"/>
                </a:lnTo>
                <a:lnTo>
                  <a:pt x="2834" y="1473"/>
                </a:lnTo>
                <a:lnTo>
                  <a:pt x="2865" y="1463"/>
                </a:lnTo>
                <a:lnTo>
                  <a:pt x="2894" y="1452"/>
                </a:lnTo>
                <a:lnTo>
                  <a:pt x="2920" y="1440"/>
                </a:lnTo>
                <a:lnTo>
                  <a:pt x="2941" y="1428"/>
                </a:lnTo>
                <a:lnTo>
                  <a:pt x="2957" y="1416"/>
                </a:lnTo>
                <a:lnTo>
                  <a:pt x="2970" y="1402"/>
                </a:lnTo>
                <a:lnTo>
                  <a:pt x="2978" y="1388"/>
                </a:lnTo>
                <a:lnTo>
                  <a:pt x="2980" y="1374"/>
                </a:lnTo>
                <a:lnTo>
                  <a:pt x="2980" y="1028"/>
                </a:lnTo>
                <a:lnTo>
                  <a:pt x="2980" y="819"/>
                </a:lnTo>
                <a:lnTo>
                  <a:pt x="2978" y="805"/>
                </a:lnTo>
                <a:lnTo>
                  <a:pt x="2970" y="792"/>
                </a:lnTo>
                <a:lnTo>
                  <a:pt x="2957" y="778"/>
                </a:lnTo>
                <a:lnTo>
                  <a:pt x="2941" y="765"/>
                </a:lnTo>
                <a:lnTo>
                  <a:pt x="2920" y="753"/>
                </a:lnTo>
                <a:lnTo>
                  <a:pt x="2894" y="741"/>
                </a:lnTo>
                <a:lnTo>
                  <a:pt x="2865" y="731"/>
                </a:lnTo>
                <a:lnTo>
                  <a:pt x="2834" y="722"/>
                </a:lnTo>
                <a:lnTo>
                  <a:pt x="2799" y="712"/>
                </a:lnTo>
                <a:lnTo>
                  <a:pt x="2761" y="705"/>
                </a:lnTo>
                <a:lnTo>
                  <a:pt x="2720" y="698"/>
                </a:lnTo>
                <a:lnTo>
                  <a:pt x="2677" y="691"/>
                </a:lnTo>
                <a:lnTo>
                  <a:pt x="2631" y="687"/>
                </a:lnTo>
                <a:lnTo>
                  <a:pt x="2584" y="684"/>
                </a:lnTo>
                <a:lnTo>
                  <a:pt x="2483" y="680"/>
                </a:lnTo>
                <a:lnTo>
                  <a:pt x="1241" y="680"/>
                </a:lnTo>
                <a:lnTo>
                  <a:pt x="229" y="0"/>
                </a:lnTo>
                <a:lnTo>
                  <a:pt x="496" y="68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294948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xternal includ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480" y="315108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include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31510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ac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3480" y="31510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980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372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.h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3265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 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1160" y="197964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4600" y="2031840"/>
            <a:ext cx="33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89320" y="2006640"/>
            <a:ext cx="6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gcc2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8960" y="2057400"/>
            <a:ext cx="57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Win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840" y="0"/>
            <a:ext cx="5715000" cy="38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0:54:13Z</dcterms:created>
  <dc:creator>Marco Cattaneo</dc:creator>
  <dc:description/>
  <dc:language>en-US</dc:language>
  <cp:lastModifiedBy>cattaneo</cp:lastModifiedBy>
  <dcterms:modified xsi:type="dcterms:W3CDTF">2001-12-14T13:52:34Z</dcterms:modified>
  <cp:revision>2</cp:revision>
  <dc:subject/>
  <dc:title>No Slide Title</dc:title>
</cp:coreProperties>
</file>