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ABF-586E-447F-B9DC-E940AA9A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8F2-230E-4651-8B68-13648709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D65-EB27-4159-B761-50E7FBEF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ED5-DE80-4285-91B6-90740E72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52A-A13A-4FEA-B6E2-3EF2EDDB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347-ED0A-4EE4-8533-83EEB9F3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524-4E31-4ABC-8DEE-F17F1ADE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08A-129F-42B7-9851-B02F5DC9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39840"/>
            <a:ext cx="495612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41A-DF68-4662-A081-09CF3CDA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9BA-7A4C-4F2C-8F79-7DF50A20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BE4-AA0C-43A9-AA4A-170D7F6C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312-1A10-4995-90FC-05FA520F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 fontScale="88000"/>
          </a:bodyPr>
          <a:p>
            <a:pPr marL="185400" indent="-18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3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400" indent="-123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6472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470040"/>
            <a:ext cx="121428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470040"/>
            <a:ext cx="184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470040"/>
            <a:ext cx="121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fld id="{4E4CBBDE-F37E-4A06-887B-A046D6EA31C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28600"/>
            <a:ext cx="5715000" cy="354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6440" y="229320"/>
            <a:ext cx="1881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Gaudi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160" y="49320"/>
            <a:ext cx="2057400" cy="838080"/>
            <a:chOff x="38160" y="49320"/>
            <a:chExt cx="2057400" cy="838080"/>
          </a:xfrm>
        </p:grpSpPr>
        <p:sp>
          <p:nvSpPr>
            <p:cNvPr id="44" name=""/>
            <p:cNvSpPr/>
            <p:nvPr/>
          </p:nvSpPr>
          <p:spPr>
            <a:xfrm>
              <a:off x="38160" y="49320"/>
              <a:ext cx="2057400" cy="8380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1400" y="3315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7640" y="52992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800" y="320400"/>
              <a:ext cx="193680" cy="156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800" y="58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800" y="7412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691920"/>
              <a:ext cx="156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120" y="10296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800" y="91800"/>
              <a:ext cx="193680" cy="156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640" y="34920"/>
            <a:ext cx="57578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76320"/>
            <a:ext cx="18288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22200"/>
            <a:ext cx="3498840" cy="2543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1752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9800" y="26668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1752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864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19720" y="3200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28640" y="1219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895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28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066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28640" y="2514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752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752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52480"/>
            <a:ext cx="1371600" cy="195588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90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3623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6098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048120"/>
            <a:ext cx="914400" cy="399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05320"/>
            <a:ext cx="2782800" cy="22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4479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7621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907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895480"/>
            <a:ext cx="64764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82880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64800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971800"/>
            <a:ext cx="6476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057400"/>
            <a:ext cx="8474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84780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64800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295280"/>
            <a:ext cx="720720" cy="47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99072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1280" y="1295280"/>
            <a:ext cx="1747800" cy="260352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2880" y="139680"/>
            <a:ext cx="1003320" cy="8892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72072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1-19T17:25:25Z</dcterms:modified>
  <cp:revision>36</cp:revision>
  <dc:subject/>
  <dc:title>No Slide Title</dc:title>
</cp:coreProperties>
</file>