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572000" cy="2667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C82F-756F-4C58-A53F-FD302C554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769680"/>
            <a:ext cx="388620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1605600"/>
            <a:ext cx="388620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8578-AE6B-454F-8338-F107B0058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769680"/>
            <a:ext cx="189612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333880" y="769680"/>
            <a:ext cx="189612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1605600"/>
            <a:ext cx="189612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333880" y="1605600"/>
            <a:ext cx="189612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A600-E42C-4454-99D9-45A0D63EF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769680"/>
            <a:ext cx="125100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656720" y="769680"/>
            <a:ext cx="125100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970720" y="769680"/>
            <a:ext cx="125100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1605600"/>
            <a:ext cx="125100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656720" y="1605600"/>
            <a:ext cx="125100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970720" y="1605600"/>
            <a:ext cx="125100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BF5A-5EE0-410C-9AFE-27F8007F0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769680"/>
            <a:ext cx="38862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8EFC-A636-4CB7-A1EA-079C65090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769680"/>
            <a:ext cx="3886200" cy="1600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E28F-D6C8-41EA-A483-F2AA0A1F7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769680"/>
            <a:ext cx="1896120" cy="1600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333880" y="769680"/>
            <a:ext cx="1896120" cy="1600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B3D4-CB5C-4BD0-8C3F-F331829E6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47C7-4444-4A7B-B8A9-810A0697C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236160"/>
            <a:ext cx="3886200" cy="20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B742-6ADC-47B8-AE34-CF3EC14C4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769680"/>
            <a:ext cx="189612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333880" y="769680"/>
            <a:ext cx="1896120" cy="1600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1605600"/>
            <a:ext cx="189612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8147-EE97-4F4E-8BC2-253E95A03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769680"/>
            <a:ext cx="1896120" cy="1600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333880" y="769680"/>
            <a:ext cx="189612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333880" y="1605600"/>
            <a:ext cx="189612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A7FA-3072-49F7-B0D8-BA36A8C5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769680"/>
            <a:ext cx="189612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333880" y="769680"/>
            <a:ext cx="189612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1605600"/>
            <a:ext cx="388620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CD29-8689-4207-83AF-4D3A1B7CB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769680"/>
            <a:ext cx="3886200" cy="1600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 fontScale="82000"/>
          </a:bodyPr>
          <a:p>
            <a:pPr marL="127440" indent="-12744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275760" indent="-10656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424440" indent="-8460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3" marL="593640" indent="-8460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4" marL="762480" indent="-84600">
              <a:spcBef>
                <a:spcPts val="374"/>
              </a:spcBef>
              <a:buClr>
                <a:srgbClr val="000000"/>
              </a:buClr>
              <a:buFont typeface="Times New Roman"/>
              <a:buChar char="»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5" marL="762480" indent="-84600">
              <a:spcBef>
                <a:spcPts val="374"/>
              </a:spcBef>
              <a:buClr>
                <a:srgbClr val="000000"/>
              </a:buClr>
              <a:buFont typeface="Times New Roman"/>
              <a:buChar char="»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6" marL="762480" indent="-84600">
              <a:spcBef>
                <a:spcPts val="374"/>
              </a:spcBef>
              <a:buClr>
                <a:srgbClr val="000000"/>
              </a:buClr>
              <a:buFont typeface="Times New Roman"/>
              <a:buChar char="»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2430360"/>
            <a:ext cx="952200" cy="1764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Autofit/>
          </a:bodyPr>
          <a:lstStyle>
            <a:lvl1pPr indent="0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  <a:defRPr b="0" lang="en-US" sz="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562040" y="2430360"/>
            <a:ext cx="1447920" cy="1764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Autofit/>
          </a:bodyPr>
          <a:lstStyle>
            <a:lvl1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  <a:defRPr b="0" lang="en-US" sz="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76720" y="2430360"/>
            <a:ext cx="952560" cy="1764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Autofit/>
          </a:bodyPr>
          <a:lstStyle>
            <a:lvl1pPr indent="0" algn="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  <a:defRPr b="0" lang="en-US" sz="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fld id="{5ED589B0-C1BC-4EAB-A8DD-E0E58CA4CED3}" type="slidenum"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33720" y="146052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965160"/>
            <a:ext cx="1371600" cy="800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71280"/>
            <a:ext cx="1371600" cy="6098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17640" y="146880"/>
            <a:ext cx="826920" cy="459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i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St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47640" y="2071800"/>
            <a:ext cx="550800" cy="500040"/>
          </a:xfrm>
          <a:prstGeom prst="can">
            <a:avLst>
              <a:gd name="adj" fmla="val 1057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09760" y="2076480"/>
            <a:ext cx="571320" cy="495360"/>
          </a:xfrm>
          <a:prstGeom prst="can">
            <a:avLst>
              <a:gd name="adj" fmla="val 1057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280" y="146052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1650960"/>
            <a:ext cx="304920" cy="30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180504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" name=""/>
          <p:cNvCxnSpPr>
            <a:stCxn id="51" idx="2"/>
            <a:endCxn id="47" idx="7"/>
          </p:cNvCxnSpPr>
          <p:nvPr/>
        </p:nvCxnSpPr>
        <p:spPr>
          <a:xfrm flipH="1">
            <a:off x="412560" y="1460520"/>
            <a:ext cx="273600" cy="45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" name=""/>
          <p:cNvCxnSpPr>
            <a:stCxn id="51" idx="2"/>
            <a:endCxn id="48" idx="7"/>
          </p:cNvCxnSpPr>
          <p:nvPr/>
        </p:nvCxnSpPr>
        <p:spPr>
          <a:xfrm flipH="1">
            <a:off x="412560" y="1460520"/>
            <a:ext cx="273600" cy="235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" name=""/>
          <p:cNvCxnSpPr>
            <a:stCxn id="51" idx="2"/>
            <a:endCxn id="49" idx="7"/>
          </p:cNvCxnSpPr>
          <p:nvPr/>
        </p:nvCxnSpPr>
        <p:spPr>
          <a:xfrm flipH="1">
            <a:off x="412560" y="1460520"/>
            <a:ext cx="273600" cy="389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1562040" y="546120"/>
            <a:ext cx="266760" cy="1563840"/>
          </a:xfrm>
          <a:prstGeom prst="upDownArrow">
            <a:avLst>
              <a:gd name="adj1" fmla="val 50000"/>
              <a:gd name="adj2" fmla="val 7686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12319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33720" y="1650960"/>
            <a:ext cx="304560" cy="30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5" idx="6"/>
            <a:endCxn id="58" idx="1"/>
          </p:cNvCxnSpPr>
          <p:nvPr/>
        </p:nvCxnSpPr>
        <p:spPr>
          <a:xfrm>
            <a:off x="1905120" y="1460520"/>
            <a:ext cx="273600" cy="427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" name=""/>
          <p:cNvCxnSpPr>
            <a:stCxn id="55" idx="6"/>
            <a:endCxn id="41" idx="1"/>
          </p:cNvCxnSpPr>
          <p:nvPr/>
        </p:nvCxnSpPr>
        <p:spPr>
          <a:xfrm>
            <a:off x="1905120" y="1460520"/>
            <a:ext cx="273600" cy="45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" name=""/>
          <p:cNvCxnSpPr>
            <a:stCxn id="55" idx="6"/>
            <a:endCxn id="56" idx="1"/>
          </p:cNvCxnSpPr>
          <p:nvPr/>
        </p:nvCxnSpPr>
        <p:spPr>
          <a:xfrm>
            <a:off x="1905120" y="1460520"/>
            <a:ext cx="273600" cy="235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8" name=""/>
          <p:cNvSpPr/>
          <p:nvPr/>
        </p:nvSpPr>
        <p:spPr>
          <a:xfrm>
            <a:off x="2133720" y="184320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787480" y="143352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787480" y="181620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27680" y="1447920"/>
            <a:ext cx="121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DBC conver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31280" y="1832040"/>
            <a:ext cx="120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 conver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711520" y="1397160"/>
            <a:ext cx="1676160" cy="761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76160" y="546120"/>
            <a:ext cx="266760" cy="1563840"/>
          </a:xfrm>
          <a:prstGeom prst="upDownArrow">
            <a:avLst>
              <a:gd name="adj1" fmla="val 50000"/>
              <a:gd name="adj2" fmla="val 7686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12319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13800" y="985680"/>
            <a:ext cx="134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istency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920" y="34920"/>
            <a:ext cx="4498920" cy="2595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20T13:05:56Z</dcterms:created>
  <dc:creator>Roger the Rabbit</dc:creator>
  <dc:description/>
  <dc:language>en-US</dc:language>
  <cp:lastModifiedBy>Marco Cattaneo</cp:lastModifiedBy>
  <cp:lastPrinted>1999-05-20T13:43:05Z</cp:lastPrinted>
  <dcterms:modified xsi:type="dcterms:W3CDTF">2001-01-12T17:17:06Z</dcterms:modified>
  <cp:revision>4</cp:revision>
  <dc:subject/>
  <dc:title>No Slide Title</dc:title>
</cp:coreProperties>
</file>