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715E-A494-421C-B57D-7E14161A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85E-68B8-4EE0-AB1E-F3438300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609-F440-47AD-AFD4-B449187D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05C-2D39-4830-95B3-0E0AC618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666-2399-4FAA-8058-174ECF54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0D5-79A9-4527-BF78-09F299AE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EC4-6F86-4A8A-8CF9-4AB91037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925-43A7-42B1-B2B0-B7467642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929-4E20-445D-95D2-59E51C04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E14-4E4D-4219-AC72-FB822672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250-425E-40B4-AC9D-F2F406F4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7DA-2E18-4929-BB26-30F806E2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1ECD-2D09-4798-B741-D29FE7267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66688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29160" y="1859040"/>
            <a:ext cx="1414440" cy="82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1880" y="19969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50920" y="1447920"/>
            <a:ext cx="168120" cy="412200"/>
            <a:chOff x="3850920" y="1447920"/>
            <a:chExt cx="168120" cy="412200"/>
          </a:xfrm>
        </p:grpSpPr>
        <p:sp>
          <p:nvSpPr>
            <p:cNvPr id="45" name=""/>
            <p:cNvSpPr/>
            <p:nvPr/>
          </p:nvSpPr>
          <p:spPr>
            <a:xfrm rot="5400000">
              <a:off x="385776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516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373640" y="144792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20880" y="1447920"/>
            <a:ext cx="168120" cy="412200"/>
            <a:chOff x="4520880" y="1447920"/>
            <a:chExt cx="168120" cy="412200"/>
          </a:xfrm>
        </p:grpSpPr>
        <p:sp>
          <p:nvSpPr>
            <p:cNvPr id="49" name=""/>
            <p:cNvSpPr/>
            <p:nvPr/>
          </p:nvSpPr>
          <p:spPr>
            <a:xfrm rot="5400000">
              <a:off x="452772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00600" y="3581280"/>
            <a:ext cx="1638360" cy="822600"/>
            <a:chOff x="4800600" y="3581280"/>
            <a:chExt cx="1638360" cy="822600"/>
          </a:xfrm>
        </p:grpSpPr>
        <p:sp>
          <p:nvSpPr>
            <p:cNvPr id="52" name=""/>
            <p:cNvSpPr/>
            <p:nvPr/>
          </p:nvSpPr>
          <p:spPr>
            <a:xfrm>
              <a:off x="4875120" y="3581280"/>
              <a:ext cx="1414800" cy="82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0600" y="385524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943600" y="411480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ub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715000" y="5157720"/>
            <a:ext cx="1652760" cy="709560"/>
            <a:chOff x="5715000" y="5157720"/>
            <a:chExt cx="1652760" cy="709560"/>
          </a:xfrm>
        </p:grpSpPr>
        <p:sp>
          <p:nvSpPr>
            <p:cNvPr id="56" name=""/>
            <p:cNvSpPr/>
            <p:nvPr/>
          </p:nvSpPr>
          <p:spPr>
            <a:xfrm>
              <a:off x="5789880" y="5157720"/>
              <a:ext cx="142740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15000" y="5397840"/>
              <a:ext cx="16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86400" y="441972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312408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44792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324840" y="3886200"/>
            <a:ext cx="448920" cy="154080"/>
            <a:chOff x="6324840" y="3886200"/>
            <a:chExt cx="448920" cy="154080"/>
          </a:xfrm>
        </p:grpSpPr>
        <p:sp>
          <p:nvSpPr>
            <p:cNvPr id="63" name=""/>
            <p:cNvSpPr/>
            <p:nvPr/>
          </p:nvSpPr>
          <p:spPr>
            <a:xfrm rot="10800000">
              <a:off x="66060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324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90800" y="5181480"/>
            <a:ext cx="1562400" cy="685800"/>
            <a:chOff x="3790800" y="5181480"/>
            <a:chExt cx="1562400" cy="685800"/>
          </a:xfrm>
        </p:grpSpPr>
        <p:sp>
          <p:nvSpPr>
            <p:cNvPr id="66" name=""/>
            <p:cNvSpPr/>
            <p:nvPr/>
          </p:nvSpPr>
          <p:spPr>
            <a:xfrm>
              <a:off x="3861720" y="5181480"/>
              <a:ext cx="134928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0800" y="5413680"/>
              <a:ext cx="15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81080" y="3886200"/>
            <a:ext cx="448920" cy="154080"/>
            <a:chOff x="1981080" y="3886200"/>
            <a:chExt cx="448920" cy="154080"/>
          </a:xfrm>
        </p:grpSpPr>
        <p:sp>
          <p:nvSpPr>
            <p:cNvPr id="71" name=""/>
            <p:cNvSpPr/>
            <p:nvPr/>
          </p:nvSpPr>
          <p:spPr>
            <a:xfrm>
              <a:off x="19810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8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3124080"/>
            <a:ext cx="1638360" cy="1233360"/>
            <a:chOff x="2362320" y="3124080"/>
            <a:chExt cx="1638360" cy="1233360"/>
          </a:xfrm>
        </p:grpSpPr>
        <p:grpSp>
          <p:nvGrpSpPr>
            <p:cNvPr id="74" name=""/>
            <p:cNvGrpSpPr/>
            <p:nvPr/>
          </p:nvGrpSpPr>
          <p:grpSpPr>
            <a:xfrm>
              <a:off x="2362320" y="3535200"/>
              <a:ext cx="1638360" cy="822240"/>
              <a:chOff x="2362320" y="3535200"/>
              <a:chExt cx="1638360" cy="822240"/>
            </a:xfrm>
          </p:grpSpPr>
          <p:sp>
            <p:nvSpPr>
              <p:cNvPr id="75" name=""/>
              <p:cNvSpPr/>
              <p:nvPr/>
            </p:nvSpPr>
            <p:spPr>
              <a:xfrm>
                <a:off x="2436840" y="3535200"/>
                <a:ext cx="1414800" cy="82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62320" y="3808800"/>
                <a:ext cx="16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V="1">
              <a:off x="3124440" y="31240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90720" y="41450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ConreteToo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23880" y="3886200"/>
            <a:ext cx="448920" cy="154080"/>
            <a:chOff x="1523880" y="3886200"/>
            <a:chExt cx="448920" cy="154080"/>
          </a:xfrm>
        </p:grpSpPr>
        <p:sp>
          <p:nvSpPr>
            <p:cNvPr id="80" name=""/>
            <p:cNvSpPr/>
            <p:nvPr/>
          </p:nvSpPr>
          <p:spPr>
            <a:xfrm>
              <a:off x="15238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16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16256400">
            <a:off x="666720" y="32745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782040" y="3886200"/>
            <a:ext cx="448920" cy="154080"/>
            <a:chOff x="6782040" y="3886200"/>
            <a:chExt cx="448920" cy="154080"/>
          </a:xfrm>
        </p:grpSpPr>
        <p:sp>
          <p:nvSpPr>
            <p:cNvPr id="84" name=""/>
            <p:cNvSpPr/>
            <p:nvPr/>
          </p:nvSpPr>
          <p:spPr>
            <a:xfrm rot="10800000">
              <a:off x="70632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7820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5720" y="358128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0:00:55Z</dcterms:created>
  <dc:creator>gcorti</dc:creator>
  <dc:description/>
  <dc:language>en-US</dc:language>
  <cp:lastModifiedBy>gcorti2</cp:lastModifiedBy>
  <dcterms:modified xsi:type="dcterms:W3CDTF">2001-12-19T10:16:13Z</dcterms:modified>
  <cp:revision>4</cp:revision>
  <dc:subject/>
  <dc:title>No Slide Title</dc:title>
</cp:coreProperties>
</file>