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487A-3482-45E3-ADB7-774DECE2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2164-0B78-4605-8420-A0C4E910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CE6-712B-4776-AF67-BCD02F52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84B-C9DA-4694-BDC2-3FDAA9E0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FF0-166F-4FCF-A9EF-36C2C46D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551-54D8-46A8-A5B0-1509E728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96B-99B2-4A12-A7A0-FDB99BBD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DA9-DF7B-4B07-934F-9E43CE0C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4122-966D-46D9-BB4E-67A1175E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A6C-AE33-4136-B5FD-8C59FEF7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1C0-207A-4C86-8F97-95D64783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3A55-1BAF-41CF-B93E-B3CCBCCA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7E57-84DF-459F-887F-DDE1FD9E6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362320"/>
            <a:ext cx="16765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62920" y="2057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52280" y="1143000"/>
            <a:ext cx="8382240" cy="3726000"/>
            <a:chOff x="152280" y="1143000"/>
            <a:chExt cx="8382240" cy="3726000"/>
          </a:xfrm>
        </p:grpSpPr>
        <p:sp>
          <p:nvSpPr>
            <p:cNvPr id="44" name=""/>
            <p:cNvSpPr/>
            <p:nvPr/>
          </p:nvSpPr>
          <p:spPr>
            <a:xfrm>
              <a:off x="152280" y="26668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47920" y="11430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Sv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066680" y="1447920"/>
              <a:ext cx="1447920" cy="9144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31240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Fa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91320" y="17524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15080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286000" y="1371600"/>
              <a:ext cx="1447920" cy="1234800"/>
              <a:chOff x="2286000" y="1371600"/>
              <a:chExt cx="1447920" cy="1234800"/>
            </a:xfrm>
          </p:grpSpPr>
          <p:sp>
            <p:nvSpPr>
              <p:cNvPr id="51" name=""/>
              <p:cNvSpPr/>
              <p:nvPr/>
            </p:nvSpPr>
            <p:spPr>
              <a:xfrm>
                <a:off x="2286000" y="1783080"/>
                <a:ext cx="1447920" cy="82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362320" y="1920240"/>
                <a:ext cx="129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oolSv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3200400" y="1371600"/>
                <a:ext cx="171360" cy="412560"/>
                <a:chOff x="3200400" y="1371600"/>
                <a:chExt cx="171360" cy="412560"/>
              </a:xfrm>
            </p:grpSpPr>
            <p:sp>
              <p:nvSpPr>
                <p:cNvPr id="54" name=""/>
                <p:cNvSpPr/>
                <p:nvPr/>
              </p:nvSpPr>
              <p:spPr>
                <a:xfrm rot="5400000">
                  <a:off x="32090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2860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2514600" y="1371600"/>
                <a:ext cx="171360" cy="412560"/>
                <a:chOff x="2514600" y="1371600"/>
                <a:chExt cx="171360" cy="412560"/>
              </a:xfrm>
            </p:grpSpPr>
            <p:sp>
              <p:nvSpPr>
                <p:cNvPr id="57" name=""/>
                <p:cNvSpPr/>
                <p:nvPr/>
              </p:nvSpPr>
              <p:spPr>
                <a:xfrm rot="5400000">
                  <a:off x="25232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6002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" name=""/>
            <p:cNvGrpSpPr/>
            <p:nvPr/>
          </p:nvGrpSpPr>
          <p:grpSpPr>
            <a:xfrm>
              <a:off x="2286000" y="2606760"/>
              <a:ext cx="1447920" cy="1782000"/>
              <a:chOff x="2286000" y="2606760"/>
              <a:chExt cx="1447920" cy="17820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2286000" y="3155040"/>
                <a:ext cx="1447920" cy="1233720"/>
                <a:chOff x="2286000" y="3155040"/>
                <a:chExt cx="1447920" cy="12337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2286000" y="3566160"/>
                  <a:ext cx="1447920" cy="822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2895840" y="3155040"/>
                  <a:ext cx="171360" cy="412200"/>
                  <a:chOff x="2895840" y="3155040"/>
                  <a:chExt cx="171360" cy="41220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5400000">
                    <a:off x="2904480" y="3146400"/>
                    <a:ext cx="154080" cy="1713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981520" y="3309120"/>
                    <a:ext cx="0" cy="258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2362320" y="3703320"/>
                  <a:ext cx="129528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ToolFact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&lt; T 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2971800" y="2606760"/>
                <a:ext cx="0" cy="54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010280" y="3292560"/>
              <a:ext cx="181080" cy="342360"/>
              <a:chOff x="7010280" y="3292560"/>
              <a:chExt cx="181080" cy="342360"/>
            </a:xfrm>
          </p:grpSpPr>
          <p:sp>
            <p:nvSpPr>
              <p:cNvPr id="68" name=""/>
              <p:cNvSpPr/>
              <p:nvPr/>
            </p:nvSpPr>
            <p:spPr>
              <a:xfrm>
                <a:off x="7010280" y="3292560"/>
                <a:ext cx="181080" cy="1425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100640" y="3435120"/>
                <a:ext cx="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400800" y="2468520"/>
              <a:ext cx="1447920" cy="82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77120" y="26067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629400" y="2057400"/>
              <a:ext cx="171360" cy="412560"/>
              <a:chOff x="6629400" y="2057400"/>
              <a:chExt cx="171360" cy="41256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66380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150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5105520" y="4046400"/>
              <a:ext cx="1676160" cy="822600"/>
              <a:chOff x="5105520" y="4046400"/>
              <a:chExt cx="1676160" cy="822600"/>
            </a:xfrm>
          </p:grpSpPr>
          <p:sp>
            <p:nvSpPr>
              <p:cNvPr id="76" name=""/>
              <p:cNvSpPr/>
              <p:nvPr/>
            </p:nvSpPr>
            <p:spPr>
              <a:xfrm>
                <a:off x="5181480" y="4046400"/>
                <a:ext cx="1447560" cy="82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05520" y="4320360"/>
                <a:ext cx="1676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7315200" y="2057400"/>
              <a:ext cx="171360" cy="412560"/>
              <a:chOff x="7315200" y="2057400"/>
              <a:chExt cx="171360" cy="412560"/>
            </a:xfrm>
          </p:grpSpPr>
          <p:sp>
            <p:nvSpPr>
              <p:cNvPr id="79" name=""/>
              <p:cNvSpPr/>
              <p:nvPr/>
            </p:nvSpPr>
            <p:spPr>
              <a:xfrm rot="5400000">
                <a:off x="73238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4008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flipV="1">
              <a:off x="5867280" y="36352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3665520"/>
              <a:ext cx="19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33920" y="3978360"/>
              <a:ext cx="1447560" cy="547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4880" y="2125800"/>
              <a:ext cx="268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920" y="2057400"/>
              <a:ext cx="212760" cy="14292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534520" y="366552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3665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7:18:22Z</dcterms:created>
  <dc:creator>gcorti</dc:creator>
  <dc:description/>
  <dc:language>en-US</dc:language>
  <cp:lastModifiedBy>Marco Cattaneo</cp:lastModifiedBy>
  <dcterms:modified xsi:type="dcterms:W3CDTF">2000-07-25T12:26:04Z</dcterms:modified>
  <cp:revision>4</cp:revision>
  <dc:subject/>
  <dc:title>No Slide Title</dc:title>
</cp:coreProperties>
</file>