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5F40-1906-425C-86D8-7B58F6E46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AB5E-F0A7-427D-90DB-6F2E1311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E0E1-036D-4C12-95C9-497CB4440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C163-2099-4630-A116-40483DF7D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2625-CBA4-4AC2-BCA1-4E6B54D3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EE5B-CFA0-41B9-9E99-27DD6941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9E82-8932-40C6-BB43-918C330F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819B-745D-46CB-8270-8DBF20EB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ABB0-81FE-4E02-B818-CF4C9D9B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6C18-D852-431C-9D1F-1E39D973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E20F-4973-46E7-B5FB-A69B9A5E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C57C-C663-4C5C-8541-DCFB886A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81E4-DC5D-4C58-AC06-872A80302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362320"/>
            <a:ext cx="167652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62920" y="20574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Prope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52280" y="1143000"/>
            <a:ext cx="8382240" cy="3726000"/>
            <a:chOff x="152280" y="1143000"/>
            <a:chExt cx="8382240" cy="3726000"/>
          </a:xfrm>
        </p:grpSpPr>
        <p:sp>
          <p:nvSpPr>
            <p:cNvPr id="44" name=""/>
            <p:cNvSpPr/>
            <p:nvPr/>
          </p:nvSpPr>
          <p:spPr>
            <a:xfrm>
              <a:off x="152280" y="266688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oncreteAlgorith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47920" y="114300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ToolSv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1066680" y="1447920"/>
              <a:ext cx="1447920" cy="9144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895480" y="312408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ToolFact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791320" y="175248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AlgTo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71800" y="150804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Serv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2286000" y="1371600"/>
              <a:ext cx="1447920" cy="1234800"/>
              <a:chOff x="2286000" y="1371600"/>
              <a:chExt cx="1447920" cy="1234800"/>
            </a:xfrm>
          </p:grpSpPr>
          <p:sp>
            <p:nvSpPr>
              <p:cNvPr id="51" name=""/>
              <p:cNvSpPr/>
              <p:nvPr/>
            </p:nvSpPr>
            <p:spPr>
              <a:xfrm>
                <a:off x="2286000" y="1783080"/>
                <a:ext cx="1447920" cy="823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362320" y="1920240"/>
                <a:ext cx="129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ToolSv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" name=""/>
              <p:cNvGrpSpPr/>
              <p:nvPr/>
            </p:nvGrpSpPr>
            <p:grpSpPr>
              <a:xfrm>
                <a:off x="3200400" y="1371600"/>
                <a:ext cx="171360" cy="412560"/>
                <a:chOff x="3200400" y="1371600"/>
                <a:chExt cx="171360" cy="412560"/>
              </a:xfrm>
            </p:grpSpPr>
            <p:sp>
              <p:nvSpPr>
                <p:cNvPr id="54" name=""/>
                <p:cNvSpPr/>
                <p:nvPr/>
              </p:nvSpPr>
              <p:spPr>
                <a:xfrm rot="5400000">
                  <a:off x="3209040" y="1362960"/>
                  <a:ext cx="154080" cy="1713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3286080" y="1525680"/>
                  <a:ext cx="0" cy="25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2514600" y="1371600"/>
                <a:ext cx="171360" cy="412560"/>
                <a:chOff x="2514600" y="1371600"/>
                <a:chExt cx="171360" cy="412560"/>
              </a:xfrm>
            </p:grpSpPr>
            <p:sp>
              <p:nvSpPr>
                <p:cNvPr id="57" name=""/>
                <p:cNvSpPr/>
                <p:nvPr/>
              </p:nvSpPr>
              <p:spPr>
                <a:xfrm rot="5400000">
                  <a:off x="2523240" y="1362960"/>
                  <a:ext cx="154080" cy="1713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2600280" y="1525680"/>
                  <a:ext cx="0" cy="25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" name=""/>
            <p:cNvGrpSpPr/>
            <p:nvPr/>
          </p:nvGrpSpPr>
          <p:grpSpPr>
            <a:xfrm>
              <a:off x="2286000" y="2606760"/>
              <a:ext cx="1447920" cy="1782000"/>
              <a:chOff x="2286000" y="2606760"/>
              <a:chExt cx="1447920" cy="17820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2286000" y="3155040"/>
                <a:ext cx="1447920" cy="1233720"/>
                <a:chOff x="2286000" y="3155040"/>
                <a:chExt cx="1447920" cy="12337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2286000" y="3566160"/>
                  <a:ext cx="1447920" cy="8226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" name=""/>
                <p:cNvGrpSpPr/>
                <p:nvPr/>
              </p:nvGrpSpPr>
              <p:grpSpPr>
                <a:xfrm>
                  <a:off x="2895840" y="3155040"/>
                  <a:ext cx="171360" cy="412200"/>
                  <a:chOff x="2895840" y="3155040"/>
                  <a:chExt cx="171360" cy="41220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 rot="5400000">
                    <a:off x="2904480" y="3146400"/>
                    <a:ext cx="154080" cy="1713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981520" y="3309120"/>
                    <a:ext cx="0" cy="258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" name=""/>
                <p:cNvSpPr/>
                <p:nvPr/>
              </p:nvSpPr>
              <p:spPr>
                <a:xfrm>
                  <a:off x="2362320" y="3703320"/>
                  <a:ext cx="1295280" cy="63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ToolFactor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&lt; T 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2971800" y="2606760"/>
                <a:ext cx="0" cy="548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7010280" y="3292560"/>
              <a:ext cx="181080" cy="342360"/>
              <a:chOff x="7010280" y="3292560"/>
              <a:chExt cx="181080" cy="342360"/>
            </a:xfrm>
          </p:grpSpPr>
          <p:sp>
            <p:nvSpPr>
              <p:cNvPr id="68" name=""/>
              <p:cNvSpPr/>
              <p:nvPr/>
            </p:nvSpPr>
            <p:spPr>
              <a:xfrm>
                <a:off x="7010280" y="3292560"/>
                <a:ext cx="181080" cy="14256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100640" y="3435120"/>
                <a:ext cx="0" cy="19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6400800" y="2468520"/>
              <a:ext cx="1447920" cy="82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477120" y="260676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AlgTo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6629400" y="2057400"/>
              <a:ext cx="171360" cy="412560"/>
              <a:chOff x="6629400" y="2057400"/>
              <a:chExt cx="171360" cy="41256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6638040" y="2048760"/>
                <a:ext cx="154080" cy="1713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715080" y="2211480"/>
                <a:ext cx="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5105520" y="4046400"/>
              <a:ext cx="1676160" cy="822600"/>
              <a:chOff x="5105520" y="4046400"/>
              <a:chExt cx="1676160" cy="822600"/>
            </a:xfrm>
          </p:grpSpPr>
          <p:sp>
            <p:nvSpPr>
              <p:cNvPr id="76" name=""/>
              <p:cNvSpPr/>
              <p:nvPr/>
            </p:nvSpPr>
            <p:spPr>
              <a:xfrm>
                <a:off x="5181480" y="4046400"/>
                <a:ext cx="1447560" cy="822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105520" y="4320360"/>
                <a:ext cx="1676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ConcreteToo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7315200" y="2057400"/>
              <a:ext cx="171360" cy="412560"/>
              <a:chOff x="7315200" y="2057400"/>
              <a:chExt cx="171360" cy="412560"/>
            </a:xfrm>
          </p:grpSpPr>
          <p:sp>
            <p:nvSpPr>
              <p:cNvPr id="79" name=""/>
              <p:cNvSpPr/>
              <p:nvPr/>
            </p:nvSpPr>
            <p:spPr>
              <a:xfrm rot="5400000">
                <a:off x="7323840" y="2048760"/>
                <a:ext cx="154080" cy="1713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400880" y="2211480"/>
                <a:ext cx="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 flipV="1">
              <a:off x="5867280" y="3635280"/>
              <a:ext cx="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629400" y="3665520"/>
              <a:ext cx="190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33920" y="3978360"/>
              <a:ext cx="1447560" cy="5475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44880" y="2125800"/>
              <a:ext cx="268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33920" y="2057400"/>
              <a:ext cx="212760" cy="14292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8534520" y="3665520"/>
              <a:ext cx="0" cy="411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67280" y="36655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0T17:18:22Z</dcterms:created>
  <dc:creator>gcorti</dc:creator>
  <dc:description/>
  <dc:language>en-US</dc:language>
  <cp:lastModifiedBy>Marco Cattaneo</cp:lastModifiedBy>
  <dcterms:modified xsi:type="dcterms:W3CDTF">2000-07-25T12:26:04Z</dcterms:modified>
  <cp:revision>4</cp:revision>
  <dc:subject/>
  <dc:title>No Slide Title</dc:title>
</cp:coreProperties>
</file>