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526088" cy="36179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0796-7150-44BF-B1CC-418A81C4E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46958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360" y="2180160"/>
            <a:ext cx="46958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A94A-D5DF-4504-9B3F-0DFE822B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4360" y="218016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20600" y="218016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7641-4D1F-4E7B-B07D-186359D33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01960" y="104580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89560" y="104580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4360" y="218016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01960" y="218016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89560" y="218016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C5DE-8254-461B-980B-7D6760B92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4360" y="1045800"/>
            <a:ext cx="4695840" cy="21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1AC9-6943-4418-96A6-62523841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469584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6D38-7E88-4777-A364-88F1E036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7F90-7B20-468F-9BE8-425B297C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3DF0-F6ED-48F8-9A1D-FD3DA50F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4360" y="322200"/>
            <a:ext cx="469584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460A-6E4C-4296-B20B-EE152A02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4360" y="218016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DE78-6713-498C-BCD2-EC319ED1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20600" y="218016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228C-DFFA-418D-8FC0-0781D8BB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360" y="2180160"/>
            <a:ext cx="46958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BBF9-A0D8-4E5D-947B-15CED0D6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4360" y="1045800"/>
            <a:ext cx="469584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 fontScale="88000"/>
          </a:bodyPr>
          <a:p>
            <a:pPr marL="176040" indent="-17604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79800" indent="-14508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585360" indent="-11736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3" marL="820080" indent="-11736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1053360" indent="-115920">
              <a:spcBef>
                <a:spcPts val="476"/>
              </a:spcBef>
              <a:buClr>
                <a:srgbClr val="000000"/>
              </a:buClr>
              <a:buFont typeface="Times New Roman"/>
              <a:buChar char="»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5" marL="1053360" indent="-115920">
              <a:spcBef>
                <a:spcPts val="476"/>
              </a:spcBef>
              <a:buClr>
                <a:srgbClr val="000000"/>
              </a:buClr>
              <a:buFont typeface="Times New Roman"/>
              <a:buChar char="»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6" marL="1053360" indent="-115920">
              <a:spcBef>
                <a:spcPts val="476"/>
              </a:spcBef>
              <a:buClr>
                <a:srgbClr val="000000"/>
              </a:buClr>
              <a:buFont typeface="Times New Roman"/>
              <a:buChar char="»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14000" y="3297240"/>
            <a:ext cx="1150920" cy="24120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Autofit/>
          </a:bodyPr>
          <a:lstStyle>
            <a:lvl1pPr indent="0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87480" y="3297240"/>
            <a:ext cx="1749600" cy="24120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Autofit/>
          </a:bodyPr>
          <a:lstStyle>
            <a:lvl1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958920" y="3297240"/>
            <a:ext cx="1150920" cy="24120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Autofit/>
          </a:bodyPr>
          <a:lstStyle>
            <a:lvl1pPr indent="0" algn="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fld id="{C43024B6-9E87-4A3C-A0FC-0BA50629CEDD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42840" y="3257640"/>
            <a:ext cx="3621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39600" y="133920"/>
            <a:ext cx="1828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LHCb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640" y="30240"/>
            <a:ext cx="5473440" cy="354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05000" y="3040200"/>
            <a:ext cx="868320" cy="3618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mlEd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applicatio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19480" y="649440"/>
            <a:ext cx="687240" cy="452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cbC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63840" y="1228680"/>
            <a:ext cx="615960" cy="303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87560" y="1228680"/>
            <a:ext cx="615960" cy="303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ANT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19480" y="2098800"/>
            <a:ext cx="434880" cy="50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0520" y="2967120"/>
            <a:ext cx="689040" cy="45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mlDD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databas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7440" y="141120"/>
            <a:ext cx="3260880" cy="290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applica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39880" y="1084320"/>
            <a:ext cx="0" cy="123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725040" y="2387520"/>
            <a:ext cx="435240" cy="5796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39880" y="431640"/>
            <a:ext cx="0" cy="21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11160" y="2532240"/>
            <a:ext cx="9432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60640" y="2316240"/>
            <a:ext cx="687240" cy="45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tDe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11160" y="1663560"/>
            <a:ext cx="797040" cy="45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HCb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data model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32040" y="1873080"/>
            <a:ext cx="2719440" cy="1686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10800" y="1848240"/>
            <a:ext cx="1035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omic Sans MS"/>
              </a:rPr>
              <a:t>Gaudi</a:t>
            </a:r>
            <a:r>
              <a:rPr b="0" lang="en-US" sz="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Comic Sans MS"/>
              </a:rPr>
              <a:t>Frame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733840" y="1787400"/>
            <a:ext cx="1068120" cy="398520"/>
            <a:chOff x="2733840" y="1787400"/>
            <a:chExt cx="1068120" cy="398520"/>
          </a:xfrm>
        </p:grpSpPr>
        <p:sp>
          <p:nvSpPr>
            <p:cNvPr id="60" name=""/>
            <p:cNvSpPr/>
            <p:nvPr/>
          </p:nvSpPr>
          <p:spPr>
            <a:xfrm>
              <a:off x="2733840" y="1787400"/>
              <a:ext cx="978840" cy="39852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51280" y="1922400"/>
              <a:ext cx="491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xternal packag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0480" y="2017440"/>
              <a:ext cx="797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Gaudi Package dependency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80640" y="1916280"/>
              <a:ext cx="91800" cy="745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80640" y="204084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780640" y="211644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40120" y="2093040"/>
              <a:ext cx="861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xternal Package dependency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950200" y="1813680"/>
              <a:ext cx="427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Gaudi packag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80640" y="1807560"/>
              <a:ext cx="91800" cy="74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724120" y="1781280"/>
            <a:ext cx="2738520" cy="177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64080" y="1800360"/>
            <a:ext cx="869760" cy="18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Example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application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32160" y="2346480"/>
            <a:ext cx="1663560" cy="12096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346640" y="2598840"/>
            <a:ext cx="2174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65280" y="3009960"/>
            <a:ext cx="457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Comic Sans MS"/>
              </a:rPr>
              <a:t>GaudiSy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27720" y="3359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38640" y="3359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911760" y="3105000"/>
            <a:ext cx="217440" cy="1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346640" y="2598840"/>
            <a:ext cx="32688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563720" y="3070080"/>
            <a:ext cx="1810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6280" y="3070080"/>
            <a:ext cx="3618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83000" y="2271600"/>
            <a:ext cx="144720" cy="1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73520" y="2271600"/>
            <a:ext cx="0" cy="1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18240" y="3287880"/>
            <a:ext cx="398160" cy="18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346280" y="2344680"/>
            <a:ext cx="94284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00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89480" y="2344680"/>
            <a:ext cx="0" cy="1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86000" y="2924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68560" y="292428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59080" y="3141720"/>
            <a:ext cx="25416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22720" y="3324240"/>
            <a:ext cx="2905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14720" y="3468600"/>
            <a:ext cx="39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7280" y="2635200"/>
            <a:ext cx="0" cy="7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59080" y="2779560"/>
            <a:ext cx="144360" cy="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49640" y="2489040"/>
            <a:ext cx="25380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3760" y="2852640"/>
            <a:ext cx="21744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54600" y="2271600"/>
            <a:ext cx="289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346280" y="2960640"/>
            <a:ext cx="290520" cy="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38640" y="25988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84480" y="2598840"/>
            <a:ext cx="144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0680" y="2598840"/>
            <a:ext cx="3254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18240" y="2598840"/>
            <a:ext cx="652320" cy="930240"/>
          </a:xfrm>
          <a:custGeom>
            <a:avLst/>
            <a:gdLst/>
            <a:ahLst/>
            <a:rect l="l" t="t" r="r" b="b"/>
            <a:pathLst>
              <a:path w="896" h="1088">
                <a:moveTo>
                  <a:pt x="768" y="0"/>
                </a:moveTo>
                <a:cubicBezTo>
                  <a:pt x="832" y="368"/>
                  <a:pt x="896" y="736"/>
                  <a:pt x="768" y="912"/>
                </a:cubicBezTo>
                <a:cubicBezTo>
                  <a:pt x="640" y="1088"/>
                  <a:pt x="128" y="1032"/>
                  <a:pt x="0" y="10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346640" y="2635200"/>
            <a:ext cx="689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27720" y="2054160"/>
            <a:ext cx="344160" cy="2286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RootD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21200" y="2887560"/>
            <a:ext cx="342720" cy="227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Kerne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foundation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83000" y="3214800"/>
            <a:ext cx="290520" cy="150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HT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92480" y="3214800"/>
            <a:ext cx="29052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CLHEP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49600" y="3214800"/>
            <a:ext cx="434880" cy="1904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Policy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configuration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13240" y="3432240"/>
            <a:ext cx="1323720" cy="106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ExternalLibs</a:t>
            </a:r>
            <a:r>
              <a:rPr b="1" lang="en-US" sz="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configuration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43680" y="2452680"/>
            <a:ext cx="29016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ROO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8400" y="2127240"/>
            <a:ext cx="344520" cy="227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RootHis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Cn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51120" y="2235240"/>
            <a:ext cx="29052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ODB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65560" y="2054160"/>
            <a:ext cx="344520" cy="2286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ODBCD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35680" y="3141720"/>
            <a:ext cx="30780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CernLi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18040" y="2635200"/>
            <a:ext cx="34452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HbookCn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32200" y="2706840"/>
            <a:ext cx="344520" cy="2268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Pyth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scripting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05280" y="2997360"/>
            <a:ext cx="30780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Pyth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32200" y="3178080"/>
            <a:ext cx="309600" cy="152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Boos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03440" y="2743200"/>
            <a:ext cx="403560" cy="227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Introspecti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data description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24200" y="2417760"/>
            <a:ext cx="40320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ObjDes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data description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7280" y="3359160"/>
            <a:ext cx="30780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Xerce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65560" y="2381400"/>
            <a:ext cx="36684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Au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monitoring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40160" y="2381400"/>
            <a:ext cx="36684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Alg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algorithm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3760" y="2381400"/>
            <a:ext cx="36648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Tool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tool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27720" y="2381400"/>
            <a:ext cx="34272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D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041640" y="2235240"/>
            <a:ext cx="1123920" cy="10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81280" y="2381400"/>
            <a:ext cx="831960" cy="1238040"/>
          </a:xfrm>
          <a:custGeom>
            <a:avLst/>
            <a:gdLst/>
            <a:ahLst/>
            <a:rect l="l" t="t" r="r" b="b"/>
            <a:pathLst>
              <a:path w="1008" h="1688">
                <a:moveTo>
                  <a:pt x="144" y="0"/>
                </a:moveTo>
                <a:cubicBezTo>
                  <a:pt x="72" y="596"/>
                  <a:pt x="0" y="1192"/>
                  <a:pt x="144" y="1440"/>
                </a:cubicBezTo>
                <a:cubicBezTo>
                  <a:pt x="288" y="1688"/>
                  <a:pt x="648" y="1588"/>
                  <a:pt x="1008" y="1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86360" y="1830240"/>
            <a:ext cx="477720" cy="42840"/>
          </a:xfrm>
          <a:custGeom>
            <a:avLst/>
            <a:gdLst/>
            <a:ahLst/>
            <a:rect l="l" t="t" r="r" b="b"/>
            <a:pathLst>
              <a:path w="632" h="56">
                <a:moveTo>
                  <a:pt x="632" y="8"/>
                </a:moveTo>
                <a:cubicBezTo>
                  <a:pt x="420" y="4"/>
                  <a:pt x="208" y="0"/>
                  <a:pt x="104" y="8"/>
                </a:cubicBezTo>
                <a:cubicBezTo>
                  <a:pt x="0" y="16"/>
                  <a:pt x="24" y="48"/>
                  <a:pt x="8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73520" y="3214800"/>
            <a:ext cx="289080" cy="150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AI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781520" y="3070080"/>
            <a:ext cx="36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37160" y="2852640"/>
            <a:ext cx="34272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Sv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service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45160" y="3359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54360" y="10843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080" y="2025720"/>
            <a:ext cx="615960" cy="303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BJ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4880" y="1735200"/>
            <a:ext cx="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4880" y="431640"/>
            <a:ext cx="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84240" y="1084320"/>
            <a:ext cx="73080" cy="57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319480" y="1084320"/>
            <a:ext cx="71280" cy="57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78080" y="10843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73320" y="3257640"/>
            <a:ext cx="5810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1040" y="431640"/>
            <a:ext cx="723960" cy="188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31920" y="649440"/>
            <a:ext cx="689040" cy="452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i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service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25400" y="1735200"/>
            <a:ext cx="50652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63840" y="431640"/>
            <a:ext cx="0" cy="21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60880" y="431640"/>
            <a:ext cx="579240" cy="144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080" y="1301760"/>
            <a:ext cx="689040" cy="45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t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01680" y="431640"/>
            <a:ext cx="0" cy="123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18:16:55Z</dcterms:created>
  <dc:creator>Marco Cattaneo</dc:creator>
  <dc:description/>
  <dc:language>en-US</dc:language>
  <cp:lastModifiedBy>cattaneo</cp:lastModifiedBy>
  <cp:lastPrinted>2000-11-07T10:26:31Z</cp:lastPrinted>
  <dcterms:modified xsi:type="dcterms:W3CDTF">2001-12-13T12:17:32Z</dcterms:modified>
  <cp:revision>34</cp:revision>
  <dc:subject/>
  <dc:title>No Slide Title</dc:title>
</cp:coreProperties>
</file>