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790E-6AC0-4F6E-AA9D-55F5A218B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63B2-1BBE-42E1-B138-0622944F5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F886-6773-486D-A79D-CD798B212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EB85-4739-443C-98D0-3086883D7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705E-D362-4268-ACF8-D5C14BE7B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1253-3BE2-4320-ACEF-03D6368F4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38B9-731A-407E-B643-7BE816ECC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A13F-0CF8-4390-BD02-E523373F1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73D2-E39C-43E7-B7A8-1F7715898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E543-53AB-4EF2-9ADF-C961DBB68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1193-39DC-4504-B130-180D20242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7DB3-598F-4EAF-AC91-CC405B0C8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E7F1B-5BE8-413A-B08C-DB6F792290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191120" y="2666880"/>
            <a:ext cx="176040" cy="14292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629160" y="1859040"/>
            <a:ext cx="1414440" cy="823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701880" y="1996920"/>
            <a:ext cx="126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lgTo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3850920" y="1447920"/>
            <a:ext cx="168120" cy="412200"/>
            <a:chOff x="3850920" y="1447920"/>
            <a:chExt cx="168120" cy="412200"/>
          </a:xfrm>
        </p:grpSpPr>
        <p:sp>
          <p:nvSpPr>
            <p:cNvPr id="45" name=""/>
            <p:cNvSpPr/>
            <p:nvPr/>
          </p:nvSpPr>
          <p:spPr>
            <a:xfrm rot="5400000">
              <a:off x="3857760" y="1440720"/>
              <a:ext cx="154080" cy="168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935160" y="1602000"/>
              <a:ext cx="0" cy="25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4373640" y="1447920"/>
            <a:ext cx="156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Prope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4520880" y="1447920"/>
            <a:ext cx="168120" cy="412200"/>
            <a:chOff x="4520880" y="1447920"/>
            <a:chExt cx="168120" cy="412200"/>
          </a:xfrm>
        </p:grpSpPr>
        <p:sp>
          <p:nvSpPr>
            <p:cNvPr id="49" name=""/>
            <p:cNvSpPr/>
            <p:nvPr/>
          </p:nvSpPr>
          <p:spPr>
            <a:xfrm rot="5400000">
              <a:off x="4527720" y="1440720"/>
              <a:ext cx="154080" cy="168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605120" y="1602000"/>
              <a:ext cx="0" cy="25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4800600" y="3581280"/>
            <a:ext cx="1638360" cy="822600"/>
            <a:chOff x="4800600" y="3581280"/>
            <a:chExt cx="1638360" cy="822600"/>
          </a:xfrm>
        </p:grpSpPr>
        <p:sp>
          <p:nvSpPr>
            <p:cNvPr id="52" name=""/>
            <p:cNvSpPr/>
            <p:nvPr/>
          </p:nvSpPr>
          <p:spPr>
            <a:xfrm>
              <a:off x="4875120" y="3581280"/>
              <a:ext cx="1414800" cy="822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800600" y="3855240"/>
              <a:ext cx="1638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SubToo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5943600" y="4114800"/>
            <a:ext cx="15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SubTo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5715000" y="5157720"/>
            <a:ext cx="1652760" cy="709560"/>
            <a:chOff x="5715000" y="5157720"/>
            <a:chExt cx="1652760" cy="709560"/>
          </a:xfrm>
        </p:grpSpPr>
        <p:sp>
          <p:nvSpPr>
            <p:cNvPr id="56" name=""/>
            <p:cNvSpPr/>
            <p:nvPr/>
          </p:nvSpPr>
          <p:spPr>
            <a:xfrm>
              <a:off x="5789880" y="5157720"/>
              <a:ext cx="1427400" cy="709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715000" y="5397840"/>
              <a:ext cx="1652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ConcreteTool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5486400" y="4419720"/>
            <a:ext cx="176040" cy="14292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5562720" y="3124080"/>
            <a:ext cx="0" cy="48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3124080"/>
            <a:ext cx="2438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666880" y="1447920"/>
            <a:ext cx="15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AlgTo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6324840" y="3886200"/>
            <a:ext cx="448920" cy="154080"/>
            <a:chOff x="6324840" y="3886200"/>
            <a:chExt cx="448920" cy="154080"/>
          </a:xfrm>
        </p:grpSpPr>
        <p:sp>
          <p:nvSpPr>
            <p:cNvPr id="63" name=""/>
            <p:cNvSpPr/>
            <p:nvPr/>
          </p:nvSpPr>
          <p:spPr>
            <a:xfrm rot="10800000">
              <a:off x="6606000" y="3886200"/>
              <a:ext cx="167760" cy="154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6324840" y="3963240"/>
              <a:ext cx="281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3790800" y="5181480"/>
            <a:ext cx="1562400" cy="685800"/>
            <a:chOff x="3790800" y="5181480"/>
            <a:chExt cx="1562400" cy="685800"/>
          </a:xfrm>
        </p:grpSpPr>
        <p:sp>
          <p:nvSpPr>
            <p:cNvPr id="66" name=""/>
            <p:cNvSpPr/>
            <p:nvPr/>
          </p:nvSpPr>
          <p:spPr>
            <a:xfrm>
              <a:off x="3861720" y="5181480"/>
              <a:ext cx="1349280" cy="685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790800" y="5413680"/>
              <a:ext cx="1562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ConcreteTool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4572000" y="480060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553080" y="4800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1981080" y="3886200"/>
            <a:ext cx="448920" cy="154080"/>
            <a:chOff x="1981080" y="3886200"/>
            <a:chExt cx="448920" cy="154080"/>
          </a:xfrm>
        </p:grpSpPr>
        <p:sp>
          <p:nvSpPr>
            <p:cNvPr id="71" name=""/>
            <p:cNvSpPr/>
            <p:nvPr/>
          </p:nvSpPr>
          <p:spPr>
            <a:xfrm>
              <a:off x="1981080" y="3886200"/>
              <a:ext cx="167760" cy="154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148840" y="3963240"/>
              <a:ext cx="281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2362320" y="3124080"/>
            <a:ext cx="1638360" cy="1233360"/>
            <a:chOff x="2362320" y="3124080"/>
            <a:chExt cx="1638360" cy="1233360"/>
          </a:xfrm>
        </p:grpSpPr>
        <p:grpSp>
          <p:nvGrpSpPr>
            <p:cNvPr id="74" name=""/>
            <p:cNvGrpSpPr/>
            <p:nvPr/>
          </p:nvGrpSpPr>
          <p:grpSpPr>
            <a:xfrm>
              <a:off x="2362320" y="3535200"/>
              <a:ext cx="1638360" cy="822240"/>
              <a:chOff x="2362320" y="3535200"/>
              <a:chExt cx="1638360" cy="822240"/>
            </a:xfrm>
          </p:grpSpPr>
          <p:sp>
            <p:nvSpPr>
              <p:cNvPr id="75" name=""/>
              <p:cNvSpPr/>
              <p:nvPr/>
            </p:nvSpPr>
            <p:spPr>
              <a:xfrm>
                <a:off x="2436840" y="3535200"/>
                <a:ext cx="1414800" cy="8222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2362320" y="3808800"/>
                <a:ext cx="1638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mic Sans MS"/>
                  </a:rPr>
                  <a:t>ConcreteTool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 flipV="1">
              <a:off x="3124440" y="3124080"/>
              <a:ext cx="0" cy="411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990720" y="4145040"/>
            <a:ext cx="156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ConreteTool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1523880" y="3886200"/>
            <a:ext cx="448920" cy="154080"/>
            <a:chOff x="1523880" y="3886200"/>
            <a:chExt cx="448920" cy="154080"/>
          </a:xfrm>
        </p:grpSpPr>
        <p:sp>
          <p:nvSpPr>
            <p:cNvPr id="80" name=""/>
            <p:cNvSpPr/>
            <p:nvPr/>
          </p:nvSpPr>
          <p:spPr>
            <a:xfrm>
              <a:off x="1523880" y="3886200"/>
              <a:ext cx="167760" cy="154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691640" y="3963240"/>
              <a:ext cx="281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" name=""/>
          <p:cNvSpPr/>
          <p:nvPr/>
        </p:nvSpPr>
        <p:spPr>
          <a:xfrm rot="16256400">
            <a:off x="666720" y="3274560"/>
            <a:ext cx="15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AlgTo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6782040" y="3886200"/>
            <a:ext cx="448920" cy="154080"/>
            <a:chOff x="6782040" y="3886200"/>
            <a:chExt cx="448920" cy="154080"/>
          </a:xfrm>
        </p:grpSpPr>
        <p:sp>
          <p:nvSpPr>
            <p:cNvPr id="84" name=""/>
            <p:cNvSpPr/>
            <p:nvPr/>
          </p:nvSpPr>
          <p:spPr>
            <a:xfrm rot="10800000">
              <a:off x="7063200" y="3886200"/>
              <a:ext cx="167760" cy="154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6782040" y="3963240"/>
              <a:ext cx="281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6705720" y="3581280"/>
            <a:ext cx="156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AlgTo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267080" y="2819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62720" y="4572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72000" y="4800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20T10:00:55Z</dcterms:created>
  <dc:creator>gcorti</dc:creator>
  <dc:description/>
  <dc:language>en-US</dc:language>
  <cp:lastModifiedBy>gcorti2</cp:lastModifiedBy>
  <dcterms:modified xsi:type="dcterms:W3CDTF">2001-12-19T10:16:13Z</dcterms:modified>
  <cp:revision>4</cp:revision>
  <dc:subject/>
  <dc:title>No Slide Title</dc:title>
</cp:coreProperties>
</file>