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8395-891C-443F-A48D-E4DAB16F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1A7F-ABA9-46B4-BCEA-3E742396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C0B9-5A8B-41C8-8792-2C870ABE8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A0C6-2E26-4D33-9C4C-2527FE21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FA99-A811-45D9-AF64-43858BDA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6331-740E-4771-ACE8-A3092EDF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EFA4-49CC-4136-8B3E-7AF4AA25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4988-B941-4495-82CA-FA48C651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5477-F476-4D44-83F3-190D3205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B561-160B-41E3-BE8D-2DF83521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A22E-A4B6-4FF4-850B-B58BB02A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618E-2976-4B8A-A899-3D76CD44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6430-33A5-4C69-A517-E949AFB17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362320"/>
            <a:ext cx="16765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62920" y="20574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Prope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52280" y="1143000"/>
            <a:ext cx="8382240" cy="3726000"/>
            <a:chOff x="152280" y="1143000"/>
            <a:chExt cx="8382240" cy="3726000"/>
          </a:xfrm>
        </p:grpSpPr>
        <p:sp>
          <p:nvSpPr>
            <p:cNvPr id="44" name=""/>
            <p:cNvSpPr/>
            <p:nvPr/>
          </p:nvSpPr>
          <p:spPr>
            <a:xfrm>
              <a:off x="152280" y="26668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oncreteAlgorith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47920" y="114300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ToolSv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1066680" y="1447920"/>
              <a:ext cx="1447920" cy="9144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95480" y="312408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ToolFac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91320" y="175248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AlgT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71800" y="150804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Serv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2286000" y="1371600"/>
              <a:ext cx="1447920" cy="1234800"/>
              <a:chOff x="2286000" y="1371600"/>
              <a:chExt cx="1447920" cy="1234800"/>
            </a:xfrm>
          </p:grpSpPr>
          <p:sp>
            <p:nvSpPr>
              <p:cNvPr id="51" name=""/>
              <p:cNvSpPr/>
              <p:nvPr/>
            </p:nvSpPr>
            <p:spPr>
              <a:xfrm>
                <a:off x="2286000" y="1783080"/>
                <a:ext cx="1447920" cy="823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362320" y="1920240"/>
                <a:ext cx="129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ToolSv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" name=""/>
              <p:cNvGrpSpPr/>
              <p:nvPr/>
            </p:nvGrpSpPr>
            <p:grpSpPr>
              <a:xfrm>
                <a:off x="3200400" y="1371600"/>
                <a:ext cx="171360" cy="412560"/>
                <a:chOff x="3200400" y="1371600"/>
                <a:chExt cx="171360" cy="412560"/>
              </a:xfrm>
            </p:grpSpPr>
            <p:sp>
              <p:nvSpPr>
                <p:cNvPr id="54" name=""/>
                <p:cNvSpPr/>
                <p:nvPr/>
              </p:nvSpPr>
              <p:spPr>
                <a:xfrm rot="5400000">
                  <a:off x="3209040" y="1362960"/>
                  <a:ext cx="154080" cy="1713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3286080" y="1525680"/>
                  <a:ext cx="0" cy="25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2514600" y="1371600"/>
                <a:ext cx="171360" cy="412560"/>
                <a:chOff x="2514600" y="1371600"/>
                <a:chExt cx="171360" cy="412560"/>
              </a:xfrm>
            </p:grpSpPr>
            <p:sp>
              <p:nvSpPr>
                <p:cNvPr id="57" name=""/>
                <p:cNvSpPr/>
                <p:nvPr/>
              </p:nvSpPr>
              <p:spPr>
                <a:xfrm rot="5400000">
                  <a:off x="2523240" y="1362960"/>
                  <a:ext cx="154080" cy="1713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2600280" y="1525680"/>
                  <a:ext cx="0" cy="25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" name=""/>
            <p:cNvGrpSpPr/>
            <p:nvPr/>
          </p:nvGrpSpPr>
          <p:grpSpPr>
            <a:xfrm>
              <a:off x="2286000" y="2606760"/>
              <a:ext cx="1447920" cy="1782000"/>
              <a:chOff x="2286000" y="2606760"/>
              <a:chExt cx="1447920" cy="17820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2286000" y="3155040"/>
                <a:ext cx="1447920" cy="1233720"/>
                <a:chOff x="2286000" y="3155040"/>
                <a:chExt cx="1447920" cy="12337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2286000" y="3566160"/>
                  <a:ext cx="1447920" cy="8226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" name=""/>
                <p:cNvGrpSpPr/>
                <p:nvPr/>
              </p:nvGrpSpPr>
              <p:grpSpPr>
                <a:xfrm>
                  <a:off x="2895840" y="3155040"/>
                  <a:ext cx="171360" cy="412200"/>
                  <a:chOff x="2895840" y="3155040"/>
                  <a:chExt cx="171360" cy="41220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5400000">
                    <a:off x="2904480" y="3146400"/>
                    <a:ext cx="154080" cy="1713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981520" y="3309120"/>
                    <a:ext cx="0" cy="258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" name=""/>
                <p:cNvSpPr/>
                <p:nvPr/>
              </p:nvSpPr>
              <p:spPr>
                <a:xfrm>
                  <a:off x="2362320" y="3703320"/>
                  <a:ext cx="1295280" cy="6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ToolFactor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&lt; T 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2971800" y="2606760"/>
                <a:ext cx="0" cy="54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7010280" y="3292560"/>
              <a:ext cx="181080" cy="342360"/>
              <a:chOff x="7010280" y="3292560"/>
              <a:chExt cx="181080" cy="342360"/>
            </a:xfrm>
          </p:grpSpPr>
          <p:sp>
            <p:nvSpPr>
              <p:cNvPr id="68" name=""/>
              <p:cNvSpPr/>
              <p:nvPr/>
            </p:nvSpPr>
            <p:spPr>
              <a:xfrm>
                <a:off x="7010280" y="3292560"/>
                <a:ext cx="181080" cy="14256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100640" y="3435120"/>
                <a:ext cx="0" cy="19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6400800" y="2468520"/>
              <a:ext cx="1447920" cy="82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77120" y="260676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lgT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6629400" y="2057400"/>
              <a:ext cx="171360" cy="412560"/>
              <a:chOff x="6629400" y="2057400"/>
              <a:chExt cx="171360" cy="41256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6638040" y="2048760"/>
                <a:ext cx="154080" cy="171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715080" y="221148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5105520" y="4046400"/>
              <a:ext cx="1676160" cy="822600"/>
              <a:chOff x="5105520" y="4046400"/>
              <a:chExt cx="1676160" cy="822600"/>
            </a:xfrm>
          </p:grpSpPr>
          <p:sp>
            <p:nvSpPr>
              <p:cNvPr id="76" name=""/>
              <p:cNvSpPr/>
              <p:nvPr/>
            </p:nvSpPr>
            <p:spPr>
              <a:xfrm>
                <a:off x="5181480" y="4046400"/>
                <a:ext cx="1447560" cy="82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105520" y="4320360"/>
                <a:ext cx="1676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ConcreteToo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7315200" y="2057400"/>
              <a:ext cx="171360" cy="412560"/>
              <a:chOff x="7315200" y="2057400"/>
              <a:chExt cx="171360" cy="412560"/>
            </a:xfrm>
          </p:grpSpPr>
          <p:sp>
            <p:nvSpPr>
              <p:cNvPr id="79" name=""/>
              <p:cNvSpPr/>
              <p:nvPr/>
            </p:nvSpPr>
            <p:spPr>
              <a:xfrm rot="5400000">
                <a:off x="7323840" y="2048760"/>
                <a:ext cx="154080" cy="171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400880" y="221148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 flipV="1">
              <a:off x="5867280" y="3635280"/>
              <a:ext cx="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29400" y="3665520"/>
              <a:ext cx="190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33920" y="3978360"/>
              <a:ext cx="1447560" cy="547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44880" y="2125800"/>
              <a:ext cx="268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33920" y="2057400"/>
              <a:ext cx="212760" cy="14292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8534520" y="3665520"/>
              <a:ext cx="0" cy="411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67280" y="36655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0T17:18:22Z</dcterms:created>
  <dc:creator>gcorti</dc:creator>
  <dc:description/>
  <dc:language>en-US</dc:language>
  <cp:lastModifiedBy>Marco Cattaneo</cp:lastModifiedBy>
  <dcterms:modified xsi:type="dcterms:W3CDTF">2000-07-25T12:26:04Z</dcterms:modified>
  <cp:revision>4</cp:revision>
  <dc:subject/>
  <dc:title>No Slide Title</dc:title>
</cp:coreProperties>
</file>