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191000" cy="25923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1645-728A-4695-BFB5-108DF5BB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35625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4280" y="1561320"/>
            <a:ext cx="35625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114E-DDB9-4530-AFAC-0CCAD0B8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428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020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77DB-6720-4177-9D04-DA0B5B84B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18840" y="7477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23760" y="7477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4280" y="15613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18840" y="15613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23760" y="15613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D809-2220-441F-BB13-69B760433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4280" y="747720"/>
            <a:ext cx="356256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B18A-6AE6-40F9-A52C-E0A26270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356256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2A7F-184B-43C4-882C-25CA9BE2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B5E7-0A3A-4CB5-8DCE-BCC73833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BDCC-A6C5-467B-B0A4-2BB04218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4280" y="230040"/>
            <a:ext cx="356256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3BDF-718F-43AF-9BA4-20F1620D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428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1006-107C-4B32-AA19-5FFF9ADE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020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B5C2-7A18-45A6-B405-EE42ACF4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4280" y="1561320"/>
            <a:ext cx="35625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EC74-ECA2-408B-B8BC-D7013E57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4280" y="747720"/>
            <a:ext cx="356256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 fontScale="80000"/>
          </a:bodyPr>
          <a:p>
            <a:pPr marL="132120" indent="-13212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400" indent="-10800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439200" indent="-8784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614520" indent="-8748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790920" indent="-8856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5" marL="790920" indent="-8856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6" marL="790920" indent="-8856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3920" y="2360160"/>
            <a:ext cx="873000" cy="1746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Autofit/>
          </a:bodyPr>
          <a:lstStyle>
            <a:lvl1pPr indent="0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2080" y="2360160"/>
            <a:ext cx="1326960" cy="1746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Autofit/>
          </a:bodyPr>
          <a:lstStyle>
            <a:lvl1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03480" y="2360160"/>
            <a:ext cx="873360" cy="1746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Autofit/>
          </a:bodyPr>
          <a:lstStyle>
            <a:lvl1pPr indent="0" algn="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fld id="{D31930C5-91C1-42E0-ABBB-3CB5FAEBFE8B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1280" y="34920"/>
            <a:ext cx="4050000" cy="2523960"/>
            <a:chOff x="71280" y="34920"/>
            <a:chExt cx="4050000" cy="2523960"/>
          </a:xfrm>
        </p:grpSpPr>
        <p:sp>
          <p:nvSpPr>
            <p:cNvPr id="42" name=""/>
            <p:cNvSpPr/>
            <p:nvPr/>
          </p:nvSpPr>
          <p:spPr>
            <a:xfrm>
              <a:off x="71280" y="34920"/>
              <a:ext cx="4050000" cy="252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457360" y="523800"/>
              <a:ext cx="1451160" cy="166212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671920" y="992160"/>
              <a:ext cx="1014120" cy="49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ConcreteAlgorith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41200" y="820800"/>
              <a:ext cx="1150920" cy="2286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EventData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 flipV="1">
              <a:off x="1862280" y="309600"/>
              <a:ext cx="799920" cy="68256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36760" y="779400"/>
              <a:ext cx="83016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DataProvider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 flipV="1">
              <a:off x="2150640" y="949320"/>
              <a:ext cx="520920" cy="169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36760" y="1162080"/>
              <a:ext cx="8301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DataProvider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2158560" y="1263600"/>
              <a:ext cx="513000" cy="6984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36760" y="1503360"/>
              <a:ext cx="70308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Histogram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2151000" y="1460520"/>
              <a:ext cx="511200" cy="214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36760" y="1900080"/>
              <a:ext cx="61920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Message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29000" y="74520"/>
              <a:ext cx="1440" cy="611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429000" y="779040"/>
              <a:ext cx="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86160" y="693720"/>
              <a:ext cx="856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63840" y="788760"/>
              <a:ext cx="459000" cy="1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Proper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06760" y="1884240"/>
              <a:ext cx="458640" cy="22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06760" y="1884240"/>
              <a:ext cx="45864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57440" y="1936800"/>
              <a:ext cx="40500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Object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97160" y="1884240"/>
              <a:ext cx="459000" cy="22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197160" y="1884240"/>
              <a:ext cx="45900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47840" y="1936800"/>
              <a:ext cx="3938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Object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809800" y="1487520"/>
              <a:ext cx="19044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63880" y="1452600"/>
              <a:ext cx="792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65" y="0"/>
                  </a:moveTo>
                  <a:lnTo>
                    <a:pt x="0" y="27"/>
                  </a:lnTo>
                  <a:lnTo>
                    <a:pt x="24" y="80"/>
                  </a:lnTo>
                  <a:lnTo>
                    <a:pt x="90" y="53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63880" y="1452600"/>
              <a:ext cx="792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65" y="0"/>
                  </a:moveTo>
                  <a:lnTo>
                    <a:pt x="0" y="27"/>
                  </a:lnTo>
                  <a:lnTo>
                    <a:pt x="24" y="80"/>
                  </a:lnTo>
                  <a:lnTo>
                    <a:pt x="90" y="53"/>
                  </a:lnTo>
                  <a:lnTo>
                    <a:pt x="6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3255840" y="1487520"/>
              <a:ext cx="19368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11560" y="1452600"/>
              <a:ext cx="810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24" y="0"/>
                  </a:moveTo>
                  <a:lnTo>
                    <a:pt x="0" y="53"/>
                  </a:lnTo>
                  <a:lnTo>
                    <a:pt x="65" y="80"/>
                  </a:lnTo>
                  <a:lnTo>
                    <a:pt x="90" y="2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11560" y="1452600"/>
              <a:ext cx="810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24" y="0"/>
                  </a:moveTo>
                  <a:lnTo>
                    <a:pt x="0" y="53"/>
                  </a:lnTo>
                  <a:lnTo>
                    <a:pt x="65" y="80"/>
                  </a:lnTo>
                  <a:lnTo>
                    <a:pt x="90" y="27"/>
                  </a:lnTo>
                  <a:lnTo>
                    <a:pt x="2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19520" y="74520"/>
              <a:ext cx="1440" cy="611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59040" y="790560"/>
              <a:ext cx="51588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Algorith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2819520" y="780480"/>
              <a:ext cx="0" cy="21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74880" y="693720"/>
              <a:ext cx="85680" cy="87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75040" y="907920"/>
              <a:ext cx="83880" cy="84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1200" y="1204920"/>
              <a:ext cx="1150920" cy="2268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DetectorData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75040" y="1290600"/>
              <a:ext cx="838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1200" y="1546200"/>
              <a:ext cx="1150920" cy="2271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Histogram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75040" y="1630440"/>
              <a:ext cx="83880" cy="87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1200" y="1928880"/>
              <a:ext cx="1150920" cy="2268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Message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75040" y="2014560"/>
              <a:ext cx="838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1200" y="2270160"/>
              <a:ext cx="1150920" cy="2268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ParticleProperty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47920" y="2406600"/>
              <a:ext cx="98568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ParticleProperty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92120" y="94932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92120" y="133344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92120" y="167472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92120" y="205740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92120" y="235584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75040" y="2313000"/>
              <a:ext cx="838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158560" y="1503360"/>
              <a:ext cx="546120" cy="511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4040" y="182520"/>
              <a:ext cx="1152720" cy="22716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ApplicationMg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63840" y="57240"/>
              <a:ext cx="57924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SvcLocat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36760" y="268200"/>
              <a:ext cx="33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76240" y="225360"/>
              <a:ext cx="86040" cy="84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2158920" y="1503360"/>
              <a:ext cx="641520" cy="809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8:40:50Z</dcterms:created>
  <dc:creator>Marco Cattaneo</dc:creator>
  <dc:description/>
  <dc:language>en-US</dc:language>
  <cp:lastModifiedBy>cattaneo</cp:lastModifiedBy>
  <dcterms:modified xsi:type="dcterms:W3CDTF">2001-11-30T12:33:27Z</dcterms:modified>
  <cp:revision>8</cp:revision>
  <dc:subject/>
  <dc:title>No Slide Title</dc:title>
</cp:coreProperties>
</file>