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87788" cy="2019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E33-2119-40FA-B57E-016CF067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595A-1728-4549-A160-722F47A4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40C-E51D-496B-9377-2279D917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0832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468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160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0832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2468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8A4-54A7-4FBB-ADD5-27F5C91F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B1D-0ADF-4B12-B31D-9A7906A8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C457-B381-4B26-ACBB-5D09F514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7F4-B14C-4E9E-A88A-69492C64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398-8FB7-4744-B229-F19D0EC3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" y="178920"/>
            <a:ext cx="3302280" cy="15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4CC-34FD-40BA-B0AD-87CA6169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007-B549-4554-B326-78360E26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BF4-402E-43D5-BD7C-05F1B2BC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F1B-6D9F-432A-BCCA-538C8871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 fontScale="72000"/>
          </a:bodyPr>
          <a:p>
            <a:pPr marL="99360" indent="-9936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640" indent="-8208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3322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46620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5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6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9160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26960" y="1839600"/>
            <a:ext cx="123156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8424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fld id="{3B060882-2B2A-4248-B7FA-5DB776B5141D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920" y="17640"/>
            <a:ext cx="3809880" cy="1981080"/>
            <a:chOff x="34920" y="17640"/>
            <a:chExt cx="3809880" cy="1981080"/>
          </a:xfrm>
        </p:grpSpPr>
        <p:pic>
          <p:nvPicPr>
            <p:cNvPr id="42" name="folder" descr=""/>
            <p:cNvPicPr/>
            <p:nvPr/>
          </p:nvPicPr>
          <p:blipFill>
            <a:blip r:embed="rId1"/>
            <a:stretch/>
          </p:blipFill>
          <p:spPr>
            <a:xfrm>
              <a:off x="2625840" y="779400"/>
              <a:ext cx="42840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folder" descr=""/>
            <p:cNvPicPr/>
            <p:nvPr/>
          </p:nvPicPr>
          <p:blipFill>
            <a:blip r:embed="rId2"/>
            <a:stretch/>
          </p:blipFill>
          <p:spPr>
            <a:xfrm>
              <a:off x="2168640" y="4748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97240" y="779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97240" y="932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67440" y="55080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28960" y="8557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MyTra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folder" descr=""/>
            <p:cNvPicPr/>
            <p:nvPr/>
          </p:nvPicPr>
          <p:blipFill>
            <a:blip r:embed="rId3"/>
            <a:stretch/>
          </p:blipFill>
          <p:spPr>
            <a:xfrm>
              <a:off x="2625840" y="11606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397240" y="1312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folder" descr=""/>
            <p:cNvPicPr/>
            <p:nvPr/>
          </p:nvPicPr>
          <p:blipFill>
            <a:blip r:embed="rId4"/>
            <a:stretch/>
          </p:blipFill>
          <p:spPr>
            <a:xfrm>
              <a:off x="2625840" y="154152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397240" y="1693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2840" y="246240"/>
              <a:ext cx="609480" cy="228600"/>
            </a:xfrm>
            <a:prstGeom prst="wedgeRoundRectCallout">
              <a:avLst>
                <a:gd name="adj1" fmla="val 84375"/>
                <a:gd name="adj2" fmla="val 132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1240" y="627120"/>
              <a:ext cx="1981080" cy="228600"/>
            </a:xfrm>
            <a:prstGeom prst="wedgeRoundRectCallout">
              <a:avLst>
                <a:gd name="adj1" fmla="val 84375"/>
                <a:gd name="adj2" fmla="val 107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ObjectVector&lt;MyTrack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20" y="17640"/>
              <a:ext cx="380988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09:27:26Z</dcterms:created>
  <dc:creator>ALEPH-LHCB</dc:creator>
  <dc:description/>
  <dc:language>en-US</dc:language>
  <cp:lastModifiedBy>ALEPH-LHCB</cp:lastModifiedBy>
  <dcterms:modified xsi:type="dcterms:W3CDTF">2001-01-16T09:57:49Z</dcterms:modified>
  <cp:revision>1</cp:revision>
  <dc:subject/>
  <dc:title>PowerPoint Presentation</dc:title>
</cp:coreProperties>
</file>