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779-76BD-4BA8-BE54-90B18723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D74-AA0C-4DF3-BF24-29B15AAF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E86-6C7B-4A84-BC06-BF2719E8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341-9E3A-4DC4-9630-E59CD326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194-3875-4ADA-98A9-C58DFE93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E61-D575-4C30-B79F-A875535D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ECF-65D2-44F7-8EB4-EAAD10BF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72B-B9BB-4E85-B1C5-F4C0B9A6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36160"/>
            <a:ext cx="38862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376-D8A9-49AE-A1B9-3AA9FC92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0CA-755C-4F88-A5BC-518E764A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A7C-23DE-4AE2-9F0A-7D0342C1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823-4C88-46E6-862E-1331F490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 fontScale="82000"/>
          </a:bodyPr>
          <a:p>
            <a:pPr marL="127440" indent="-1274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75760" indent="-10656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244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5936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430360"/>
            <a:ext cx="95220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430360"/>
            <a:ext cx="144792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430360"/>
            <a:ext cx="95256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fld id="{AFFF0108-B4AF-41D4-9E22-6BBA8D5C207D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60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65160"/>
            <a:ext cx="1371600" cy="80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1280"/>
            <a:ext cx="1371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146880"/>
            <a:ext cx="826920" cy="45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2071800"/>
            <a:ext cx="550800" cy="50004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9760" y="2076480"/>
            <a:ext cx="571320" cy="49536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60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50960"/>
            <a:ext cx="30492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51" idx="2"/>
            <a:endCxn id="47" idx="7"/>
          </p:cNvCxnSpPr>
          <p:nvPr/>
        </p:nvCxnSpPr>
        <p:spPr>
          <a:xfrm flipH="1">
            <a:off x="41256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51" idx="2"/>
            <a:endCxn id="48" idx="7"/>
          </p:cNvCxnSpPr>
          <p:nvPr/>
        </p:nvCxnSpPr>
        <p:spPr>
          <a:xfrm flipH="1">
            <a:off x="41256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1" idx="2"/>
            <a:endCxn id="49" idx="7"/>
          </p:cNvCxnSpPr>
          <p:nvPr/>
        </p:nvCxnSpPr>
        <p:spPr>
          <a:xfrm flipH="1">
            <a:off x="412560" y="1460520"/>
            <a:ext cx="2736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156204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650960"/>
            <a:ext cx="30456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  <a:endCxn id="58" idx="1"/>
          </p:cNvCxnSpPr>
          <p:nvPr/>
        </p:nvCxnSpPr>
        <p:spPr>
          <a:xfrm>
            <a:off x="1905120" y="1460520"/>
            <a:ext cx="273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5" idx="6"/>
            <a:endCxn id="41" idx="1"/>
          </p:cNvCxnSpPr>
          <p:nvPr/>
        </p:nvCxnSpPr>
        <p:spPr>
          <a:xfrm>
            <a:off x="190512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6"/>
            <a:endCxn id="56" idx="1"/>
          </p:cNvCxnSpPr>
          <p:nvPr/>
        </p:nvCxnSpPr>
        <p:spPr>
          <a:xfrm>
            <a:off x="190512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184320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7480" y="1433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7480" y="181620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7680" y="1447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18320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1520" y="1397160"/>
            <a:ext cx="16761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616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800" y="985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34920"/>
            <a:ext cx="449892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3:05:56Z</dcterms:created>
  <dc:creator>Roger the Rabbit</dc:creator>
  <dc:description/>
  <dc:language>en-US</dc:language>
  <cp:lastModifiedBy>Marco Cattaneo</cp:lastModifiedBy>
  <cp:lastPrinted>1999-05-20T13:43:05Z</cp:lastPrinted>
  <dcterms:modified xsi:type="dcterms:W3CDTF">2001-01-12T17:17:06Z</dcterms:modified>
  <cp:revision>4</cp:revision>
  <dc:subject/>
  <dc:title>No Slide Title</dc:title>
</cp:coreProperties>
</file>