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180013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F79CD-466A-47C4-AAF1-6509E4996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8440" y="456840"/>
            <a:ext cx="4403880" cy="85716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ctr">
            <a:noAutofit/>
          </a:bodyPr>
          <a:p>
            <a:pPr indent="0" algn="ctr"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8440" y="1486080"/>
            <a:ext cx="4403880" cy="147168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8440" y="3097800"/>
            <a:ext cx="4403880" cy="147168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31E24-5B02-4F3D-8771-C9E711B53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8440" y="456840"/>
            <a:ext cx="4403880" cy="85716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ctr">
            <a:noAutofit/>
          </a:bodyPr>
          <a:p>
            <a:pPr indent="0" algn="ctr"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8440" y="1486080"/>
            <a:ext cx="2148840" cy="147168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645280" y="1486080"/>
            <a:ext cx="2148840" cy="147168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8440" y="3097800"/>
            <a:ext cx="2148840" cy="147168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645280" y="3097800"/>
            <a:ext cx="2148840" cy="147168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BD2F2-BAF2-4BA0-AB90-281EEB9F4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8440" y="456840"/>
            <a:ext cx="4403880" cy="85716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ctr">
            <a:noAutofit/>
          </a:bodyPr>
          <a:p>
            <a:pPr indent="0" algn="ctr"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8440" y="1486080"/>
            <a:ext cx="1417680" cy="147168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877400" y="1486080"/>
            <a:ext cx="1417680" cy="147168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366360" y="1486080"/>
            <a:ext cx="1417680" cy="147168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8440" y="3097800"/>
            <a:ext cx="1417680" cy="147168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877400" y="3097800"/>
            <a:ext cx="1417680" cy="147168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366360" y="3097800"/>
            <a:ext cx="1417680" cy="147168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DFAFE-A412-4F99-998B-3CE333E04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8440" y="456840"/>
            <a:ext cx="4403880" cy="85716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ctr">
            <a:noAutofit/>
          </a:bodyPr>
          <a:p>
            <a:pPr indent="0" algn="ctr"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8440" y="1486080"/>
            <a:ext cx="440388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E248C-48B0-4217-A150-FFBD3E436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8440" y="456840"/>
            <a:ext cx="4403880" cy="85716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ctr">
            <a:noAutofit/>
          </a:bodyPr>
          <a:p>
            <a:pPr indent="0" algn="ctr"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8440" y="1486080"/>
            <a:ext cx="4403880" cy="308592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4EAE6-4016-4BA0-B4A1-D0EAAEA2B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8440" y="456840"/>
            <a:ext cx="4403880" cy="85716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ctr">
            <a:noAutofit/>
          </a:bodyPr>
          <a:p>
            <a:pPr indent="0" algn="ctr"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8440" y="1486080"/>
            <a:ext cx="2148840" cy="308592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645280" y="1486080"/>
            <a:ext cx="2148840" cy="308592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71519-2D51-4620-9D3F-7740DF454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8440" y="456840"/>
            <a:ext cx="4403880" cy="85716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ctr">
            <a:noAutofit/>
          </a:bodyPr>
          <a:p>
            <a:pPr indent="0" algn="ctr"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F4086-01B8-442E-9165-2B046068C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8440" y="456840"/>
            <a:ext cx="440388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8352E-8F7F-4873-96B4-D369F64B0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8440" y="456840"/>
            <a:ext cx="4403880" cy="85716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ctr">
            <a:noAutofit/>
          </a:bodyPr>
          <a:p>
            <a:pPr indent="0" algn="ctr"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8440" y="1486080"/>
            <a:ext cx="2148840" cy="147168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645280" y="1486080"/>
            <a:ext cx="2148840" cy="308592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8440" y="3097800"/>
            <a:ext cx="2148840" cy="147168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DEE18-563A-4EA9-8815-A30666305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8440" y="456840"/>
            <a:ext cx="4403880" cy="85716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ctr">
            <a:noAutofit/>
          </a:bodyPr>
          <a:p>
            <a:pPr indent="0" algn="ctr"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8440" y="1486080"/>
            <a:ext cx="2148840" cy="308592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645280" y="1486080"/>
            <a:ext cx="2148840" cy="147168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645280" y="3097800"/>
            <a:ext cx="2148840" cy="147168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A2C7A-0E09-4309-B4E6-5CF2C261D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8440" y="456840"/>
            <a:ext cx="4403880" cy="85716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ctr">
            <a:noAutofit/>
          </a:bodyPr>
          <a:p>
            <a:pPr indent="0" algn="ctr"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8440" y="1486080"/>
            <a:ext cx="2148840" cy="147168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645280" y="1486080"/>
            <a:ext cx="2148840" cy="147168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8440" y="3097800"/>
            <a:ext cx="4403880" cy="147168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590B7-CD7C-48C7-BBD9-DC31D44A3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8440" y="456840"/>
            <a:ext cx="4403880" cy="85716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ctr">
            <a:noAutofit/>
          </a:bodyPr>
          <a:p>
            <a:pPr indent="0" algn="ctr"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8440" y="1486080"/>
            <a:ext cx="4403880" cy="308592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t">
            <a:normAutofit fontScale="96000"/>
          </a:bodyPr>
          <a:p>
            <a:pPr marL="234360" indent="-234360"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509040" indent="-195120">
              <a:spcBef>
                <a:spcPts val="575"/>
              </a:spcBef>
              <a:buClr>
                <a:srgbClr val="000000"/>
              </a:buClr>
              <a:buFont typeface="Times New Roman"/>
              <a:buChar char="–"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783360" indent="-156960"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3" marL="1097280" indent="-156600">
              <a:spcBef>
                <a:spcPts val="575"/>
              </a:spcBef>
              <a:buClr>
                <a:srgbClr val="000000"/>
              </a:buClr>
              <a:buFont typeface="Times New Roman"/>
              <a:buChar char="–"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4" marL="1410840" indent="-156600">
              <a:spcBef>
                <a:spcPts val="575"/>
              </a:spcBef>
              <a:buClr>
                <a:srgbClr val="000000"/>
              </a:buClr>
              <a:buFont typeface="Times New Roman"/>
              <a:buChar char="»"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5" marL="1410840" indent="-156600">
              <a:spcBef>
                <a:spcPts val="575"/>
              </a:spcBef>
              <a:buClr>
                <a:srgbClr val="000000"/>
              </a:buClr>
              <a:buFont typeface="Times New Roman"/>
              <a:buChar char="»"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6" marL="1410840" indent="-156600">
              <a:spcBef>
                <a:spcPts val="575"/>
              </a:spcBef>
              <a:buClr>
                <a:srgbClr val="000000"/>
              </a:buClr>
              <a:buFont typeface="Times New Roman"/>
              <a:buChar char="»"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8440" y="4686480"/>
            <a:ext cx="1079640" cy="34272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t">
            <a:noAutofit/>
          </a:bodyPr>
          <a:lstStyle>
            <a:lvl1pPr indent="0"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769760" y="4686480"/>
            <a:ext cx="1641240" cy="34272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t">
            <a:noAutofit/>
          </a:bodyPr>
          <a:lstStyle>
            <a:lvl1pPr indent="0" algn="ctr"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712680" y="4686480"/>
            <a:ext cx="1079640" cy="34272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t">
            <a:noAutofit/>
          </a:bodyPr>
          <a:lstStyle>
            <a:lvl1pPr indent="0" algn="r"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fld id="{F1D6D444-5315-4ED9-BF88-3A586331814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255600" y="17640"/>
            <a:ext cx="4705200" cy="5095800"/>
            <a:chOff x="255600" y="17640"/>
            <a:chExt cx="4705200" cy="5095800"/>
          </a:xfrm>
        </p:grpSpPr>
        <p:sp>
          <p:nvSpPr>
            <p:cNvPr id="42" name=""/>
            <p:cNvSpPr/>
            <p:nvPr/>
          </p:nvSpPr>
          <p:spPr>
            <a:xfrm>
              <a:off x="3703680" y="855720"/>
              <a:ext cx="1162080" cy="304920"/>
            </a:xfrm>
            <a:prstGeom prst="foldedCorner">
              <a:avLst>
                <a:gd name="adj" fmla="val 2065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audiMain.cp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703680" y="1617840"/>
              <a:ext cx="1162080" cy="342720"/>
            </a:xfrm>
            <a:prstGeom prst="foldedCorner">
              <a:avLst>
                <a:gd name="adj" fmla="val 2065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HelloWorld.cp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703680" y="1236600"/>
              <a:ext cx="1162080" cy="324000"/>
            </a:xfrm>
            <a:prstGeom prst="foldedCorner">
              <a:avLst>
                <a:gd name="adj" fmla="val 2065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HelloWorld.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779480" y="912960"/>
              <a:ext cx="1371600" cy="228600"/>
            </a:xfrm>
            <a:prstGeom prst="foldedCorner">
              <a:avLst>
                <a:gd name="adj" fmla="val 2065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makefile/proj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538440" y="2171880"/>
              <a:ext cx="1343160" cy="228600"/>
            </a:xfrm>
            <a:prstGeom prst="foldedCorner">
              <a:avLst>
                <a:gd name="adj" fmla="val 2065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audi Librar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836720" y="2558880"/>
              <a:ext cx="1523880" cy="228600"/>
            </a:xfrm>
            <a:prstGeom prst="foldedCorner">
              <a:avLst>
                <a:gd name="adj" fmla="val 2065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Application executabl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027160" y="1389240"/>
              <a:ext cx="1143000" cy="609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make/Nmak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" name=""/>
            <p:cNvCxnSpPr>
              <a:stCxn id="42" idx="1"/>
              <a:endCxn id="48" idx="7"/>
            </p:cNvCxnSpPr>
            <p:nvPr/>
          </p:nvCxnSpPr>
          <p:spPr>
            <a:xfrm flipH="1">
              <a:off x="3002760" y="1008360"/>
              <a:ext cx="701280" cy="470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0" name=""/>
            <p:cNvSpPr/>
            <p:nvPr/>
          </p:nvSpPr>
          <p:spPr>
            <a:xfrm>
              <a:off x="3921120" y="2714760"/>
              <a:ext cx="831960" cy="1033200"/>
            </a:xfrm>
            <a:prstGeom prst="foldedCorner">
              <a:avLst>
                <a:gd name="adj" fmla="val 2065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Job option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0560" y="303120"/>
              <a:ext cx="320760" cy="2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3036960" y="1888920"/>
              <a:ext cx="487440" cy="401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3122640" y="1351080"/>
              <a:ext cx="581040" cy="22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3171600" y="1722600"/>
              <a:ext cx="531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5" name=""/>
            <p:cNvCxnSpPr>
              <a:stCxn id="48" idx="4"/>
              <a:endCxn id="47" idx="0"/>
            </p:cNvCxnSpPr>
            <p:nvPr/>
          </p:nvCxnSpPr>
          <p:spPr>
            <a:xfrm>
              <a:off x="2598840" y="1998720"/>
              <a:ext cx="360" cy="560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grpSp>
          <p:nvGrpSpPr>
            <p:cNvPr id="56" name=""/>
            <p:cNvGrpSpPr/>
            <p:nvPr/>
          </p:nvGrpSpPr>
          <p:grpSpPr>
            <a:xfrm>
              <a:off x="1152360" y="3040200"/>
              <a:ext cx="2400480" cy="2004840"/>
              <a:chOff x="1152360" y="3040200"/>
              <a:chExt cx="2400480" cy="2004840"/>
            </a:xfrm>
          </p:grpSpPr>
          <p:sp>
            <p:nvSpPr>
              <p:cNvPr id="57" name=""/>
              <p:cNvSpPr/>
              <p:nvPr/>
            </p:nvSpPr>
            <p:spPr>
              <a:xfrm>
                <a:off x="1152360" y="3040200"/>
                <a:ext cx="2400480" cy="20048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8" name=""/>
              <p:cNvGrpSpPr/>
              <p:nvPr/>
            </p:nvGrpSpPr>
            <p:grpSpPr>
              <a:xfrm>
                <a:off x="1795320" y="3672000"/>
                <a:ext cx="1396800" cy="1014120"/>
                <a:chOff x="1795320" y="3672000"/>
                <a:chExt cx="1396800" cy="1014120"/>
              </a:xfrm>
            </p:grpSpPr>
            <p:sp>
              <p:nvSpPr>
                <p:cNvPr id="59" name=""/>
                <p:cNvSpPr/>
                <p:nvPr/>
              </p:nvSpPr>
              <p:spPr>
                <a:xfrm>
                  <a:off x="1795320" y="3672000"/>
                  <a:ext cx="1396800" cy="1014120"/>
                </a:xfrm>
                <a:prstGeom prst="rect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" name=""/>
                <p:cNvSpPr/>
                <p:nvPr/>
              </p:nvSpPr>
              <p:spPr>
                <a:xfrm>
                  <a:off x="2178000" y="3830760"/>
                  <a:ext cx="841320" cy="4824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jo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" name=""/>
                <p:cNvSpPr/>
                <p:nvPr/>
              </p:nvSpPr>
              <p:spPr>
                <a:xfrm>
                  <a:off x="1877760" y="4371840"/>
                  <a:ext cx="9763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Environment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2" name=""/>
              <p:cNvSpPr/>
              <p:nvPr/>
            </p:nvSpPr>
            <p:spPr>
              <a:xfrm>
                <a:off x="1200600" y="3097440"/>
                <a:ext cx="13924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Batch machin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63" name=""/>
            <p:cNvCxnSpPr>
              <a:stCxn id="47" idx="2"/>
              <a:endCxn id="60" idx="0"/>
            </p:cNvCxnSpPr>
            <p:nvPr/>
          </p:nvCxnSpPr>
          <p:spPr>
            <a:xfrm>
              <a:off x="2598840" y="2787480"/>
              <a:ext cx="360" cy="1043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4" name=""/>
            <p:cNvCxnSpPr>
              <a:stCxn id="50" idx="1"/>
              <a:endCxn id="60" idx="7"/>
            </p:cNvCxnSpPr>
            <p:nvPr/>
          </p:nvCxnSpPr>
          <p:spPr>
            <a:xfrm flipH="1">
              <a:off x="2896200" y="3231360"/>
              <a:ext cx="1025280" cy="670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5" name=""/>
            <p:cNvSpPr/>
            <p:nvPr/>
          </p:nvSpPr>
          <p:spPr>
            <a:xfrm>
              <a:off x="312840" y="84240"/>
              <a:ext cx="1371600" cy="228600"/>
            </a:xfrm>
            <a:prstGeom prst="foldedCorner">
              <a:avLst>
                <a:gd name="adj" fmla="val 2065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requirement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486080" y="814320"/>
              <a:ext cx="282240" cy="212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990720" y="484200"/>
              <a:ext cx="571320" cy="428760"/>
              <a:chOff x="990720" y="484200"/>
              <a:chExt cx="571320" cy="428760"/>
            </a:xfrm>
          </p:grpSpPr>
          <p:sp>
            <p:nvSpPr>
              <p:cNvPr id="68" name=""/>
              <p:cNvSpPr/>
              <p:nvPr/>
            </p:nvSpPr>
            <p:spPr>
              <a:xfrm>
                <a:off x="990720" y="484200"/>
                <a:ext cx="571320" cy="4287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1020240" y="560520"/>
                <a:ext cx="5115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000000"/>
                    </a:solidFill>
                    <a:latin typeface="Times New Roman"/>
                  </a:rPr>
                  <a:t>CM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0" name=""/>
            <p:cNvSpPr/>
            <p:nvPr/>
          </p:nvSpPr>
          <p:spPr>
            <a:xfrm>
              <a:off x="2075040" y="1141560"/>
              <a:ext cx="257040" cy="285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55600" y="17640"/>
              <a:ext cx="4705200" cy="5095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8T17:21:54Z</dcterms:created>
  <dc:creator>pdm</dc:creator>
  <dc:description/>
  <dc:language>en-US</dc:language>
  <cp:lastModifiedBy>Marco Cattaneo</cp:lastModifiedBy>
  <dcterms:modified xsi:type="dcterms:W3CDTF">2001-01-15T15:42:19Z</dcterms:modified>
  <cp:revision>9</cp:revision>
  <dc:subject/>
  <dc:title>No Slide Title</dc:title>
</cp:coreProperties>
</file>